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wmf" ContentType="image/x-wmf"/>
  <Override PartName="/ppt/media/image29.jpeg" ContentType="image/jpeg"/>
  <Override PartName="/ppt/media/image27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9.png" ContentType="image/png"/>
  <Override PartName="/ppt/media/image52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50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76040" y="8636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series of demonstrations are based on an existing scenario entitled "Binni - Gateway to the Golden Bowl of Africa". This is a publicly available basic scenario generated by an international group of five nations (The Technical Co-operation Program - TTCP) to support experiments for Coalition Operations in Command and Control. The scenario is set in the fictional countries of Gao, Agadez and Binni in the year 20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AX Team extended this scenario considerably adding the depth necessary for a serious demonstration. A Coalition vignette was developed which deals with a specific operation in which the UN forces are attempting to keep mutually hostile forces apart long enough to enable peace negotiations. Incomplete, changing information, as well as deliberate mis-information from some parties, hampers the UN efforts. The series of CoAX demonstrations of increasing complexity based on this vignette are described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DA06B20B-9F91-4EDE-BC0A-6EC607AC1B3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7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jpe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image" Target="../media/image46.png"/><Relationship Id="rId28" Type="http://schemas.openxmlformats.org/officeDocument/2006/relationships/image" Target="../media/image47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image" Target="../media/image50.png"/><Relationship Id="rId32" Type="http://schemas.openxmlformats.org/officeDocument/2006/relationships/image" Target="../media/image51.png"/><Relationship Id="rId33" Type="http://schemas.openxmlformats.org/officeDocument/2006/relationships/image" Target="../media/image52.wmf"/><Relationship Id="rId34" Type="http://schemas.openxmlformats.org/officeDocument/2006/relationships/image" Target="../media/image53.wmf"/><Relationship Id="rId35" Type="http://schemas.openxmlformats.org/officeDocument/2006/relationships/image" Target="../media/image54.png"/><Relationship Id="rId36" Type="http://schemas.openxmlformats.org/officeDocument/2006/relationships/image" Target="../media/image55.png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" Target="slide3.xml"/><Relationship Id="rId17" Type="http://schemas.openxmlformats.org/officeDocument/2006/relationships/slide" Target="slide10.xml"/><Relationship Id="rId18" Type="http://schemas.openxmlformats.org/officeDocument/2006/relationships/image" Target="../media/image12.jpeg"/><Relationship Id="rId19" Type="http://schemas.openxmlformats.org/officeDocument/2006/relationships/image" Target="../media/image13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2.xml"/><Relationship Id="rId26" Type="http://schemas.openxmlformats.org/officeDocument/2006/relationships/slide" Target="slide5.xml"/><Relationship Id="rId27" Type="http://schemas.openxmlformats.org/officeDocument/2006/relationships/slide" Target="slide8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AX Binni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90880" y="1060560"/>
          <a:ext cx="3112920" cy="33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060560"/>
                    <a:ext cx="31129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99000" y="4432320"/>
            <a:ext cx="7093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sma Display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support from: AFRL, ARL, Boeing, DRDC, DSTL, ISX, Mitre, MIT Slo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DC, OBJS, Schafer, Stanford, TTCP, USC/ISI, US PA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the CoAX web page at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http://www.aiai.ed.ac.uk/project/coa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50760" y="1455840"/>
            <a:ext cx="9110880" cy="631800"/>
            <a:chOff x="50760" y="1455840"/>
            <a:chExt cx="9110880" cy="631800"/>
          </a:xfrm>
        </p:grpSpPr>
        <p:sp>
          <p:nvSpPr>
            <p:cNvPr id="1293" name=""/>
            <p:cNvSpPr/>
            <p:nvPr/>
          </p:nvSpPr>
          <p:spPr>
            <a:xfrm>
              <a:off x="50760" y="1777680"/>
              <a:ext cx="9042480" cy="0"/>
            </a:xfrm>
            <a:prstGeom prst="line">
              <a:avLst/>
            </a:prstGeom>
            <a:ln w="57240">
              <a:solidFill>
                <a:srgbClr val="c0c0c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57520" y="1455840"/>
              <a:ext cx="110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159400" y="181116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A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2349360" y="657360"/>
            <a:ext cx="5886360" cy="4768200"/>
            <a:chOff x="2349360" y="657360"/>
            <a:chExt cx="5886360" cy="4768200"/>
          </a:xfrm>
        </p:grpSpPr>
        <p:sp>
          <p:nvSpPr>
            <p:cNvPr id="1297" name=""/>
            <p:cNvSpPr/>
            <p:nvPr/>
          </p:nvSpPr>
          <p:spPr>
            <a:xfrm>
              <a:off x="5654520" y="657360"/>
              <a:ext cx="2243160" cy="769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2895480" y="1431720"/>
              <a:ext cx="5029200" cy="3047400"/>
              <a:chOff x="2895480" y="1431720"/>
              <a:chExt cx="5029200" cy="3047400"/>
            </a:xfrm>
          </p:grpSpPr>
          <p:sp>
            <p:nvSpPr>
              <p:cNvPr id="1299" name=""/>
              <p:cNvSpPr/>
              <p:nvPr/>
            </p:nvSpPr>
            <p:spPr>
              <a:xfrm>
                <a:off x="2901960" y="2790360"/>
                <a:ext cx="467352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89548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9640" y="2793600"/>
                <a:ext cx="0" cy="3517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24720" y="2793600"/>
                <a:ext cx="0" cy="3708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86600" y="2612520"/>
                <a:ext cx="0" cy="19008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14316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43280" y="385056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924680" y="3841200"/>
                <a:ext cx="0" cy="6282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772320" y="1431720"/>
                <a:ext cx="0" cy="49500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6315120" y="1825560"/>
              <a:ext cx="793440" cy="76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52600" y="4346280"/>
              <a:ext cx="1082520" cy="107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78280" y="4346280"/>
              <a:ext cx="1082520" cy="1079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9360" y="3070080"/>
              <a:ext cx="793800" cy="769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36880" y="3070080"/>
              <a:ext cx="793800" cy="76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4760" y="3070080"/>
              <a:ext cx="793440" cy="769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53200" y="4346280"/>
              <a:ext cx="1082520" cy="107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2254320" y="738360"/>
            <a:ext cx="5883120" cy="4802040"/>
            <a:chOff x="2254320" y="738360"/>
            <a:chExt cx="5883120" cy="4802040"/>
          </a:xfrm>
        </p:grpSpPr>
        <p:grpSp>
          <p:nvGrpSpPr>
            <p:cNvPr id="1316" name=""/>
            <p:cNvGrpSpPr/>
            <p:nvPr/>
          </p:nvGrpSpPr>
          <p:grpSpPr>
            <a:xfrm>
              <a:off x="2793960" y="1495440"/>
              <a:ext cx="5029200" cy="3048120"/>
              <a:chOff x="2793960" y="1495440"/>
              <a:chExt cx="5029200" cy="3048120"/>
            </a:xfrm>
          </p:grpSpPr>
          <p:sp>
            <p:nvSpPr>
              <p:cNvPr id="1317" name=""/>
              <p:cNvSpPr/>
              <p:nvPr/>
            </p:nvSpPr>
            <p:spPr>
              <a:xfrm>
                <a:off x="2800080" y="2854440"/>
                <a:ext cx="4673880" cy="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396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18120" y="2857680"/>
                <a:ext cx="0" cy="352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423200" y="2857680"/>
                <a:ext cx="0" cy="3715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985080" y="2676600"/>
                <a:ext cx="0" cy="19044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04164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41760" y="3915000"/>
                <a:ext cx="0" cy="6285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823160" y="3905280"/>
                <a:ext cx="0" cy="62892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670440" y="1495440"/>
                <a:ext cx="0" cy="495360"/>
              </a:xfrm>
              <a:prstGeom prst="line">
                <a:avLst/>
              </a:prstGeom>
              <a:ln cap="rnd" w="381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254320" y="738360"/>
              <a:ext cx="5883120" cy="4802040"/>
              <a:chOff x="2254320" y="738360"/>
              <a:chExt cx="5883120" cy="4802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6232320" y="1906560"/>
                <a:ext cx="793800" cy="77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54320" y="4461120"/>
                <a:ext cx="1082520" cy="1079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80000" y="4461120"/>
                <a:ext cx="1082520" cy="1079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266920" y="3151440"/>
                <a:ext cx="793800" cy="7696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4440" y="3151440"/>
                <a:ext cx="793800" cy="769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041960" y="3151440"/>
                <a:ext cx="793800" cy="7696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054920" y="4461120"/>
                <a:ext cx="1082520" cy="10792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21240" y="738360"/>
                <a:ext cx="2243160" cy="7700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595480" y="893880"/>
                <a:ext cx="185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tional Grand Strateg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oint HQ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6" name=""/>
          <p:cNvGrpSpPr/>
          <p:nvPr/>
        </p:nvGrpSpPr>
        <p:grpSpPr>
          <a:xfrm>
            <a:off x="5549760" y="3000240"/>
            <a:ext cx="2940120" cy="2958840"/>
            <a:chOff x="5549760" y="3000240"/>
            <a:chExt cx="2940120" cy="2958840"/>
          </a:xfrm>
        </p:grpSpPr>
        <p:sp>
          <p:nvSpPr>
            <p:cNvPr id="1337" name=""/>
            <p:cNvSpPr/>
            <p:nvPr/>
          </p:nvSpPr>
          <p:spPr>
            <a:xfrm>
              <a:off x="7003800" y="4022640"/>
              <a:ext cx="1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967360" y="4573440"/>
              <a:ext cx="2073240" cy="1090440"/>
              <a:chOff x="5967360" y="4573440"/>
              <a:chExt cx="2073240" cy="1090440"/>
            </a:xfrm>
          </p:grpSpPr>
          <p:sp>
            <p:nvSpPr>
              <p:cNvPr id="1339" name=""/>
              <p:cNvSpPr/>
              <p:nvPr/>
            </p:nvSpPr>
            <p:spPr>
              <a:xfrm>
                <a:off x="59673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32000" y="473832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143400" y="3251160"/>
              <a:ext cx="1630080" cy="780840"/>
              <a:chOff x="6143400" y="3251160"/>
              <a:chExt cx="1630080" cy="780840"/>
            </a:xfrm>
          </p:grpSpPr>
          <p:sp>
            <p:nvSpPr>
              <p:cNvPr id="1342" name=""/>
              <p:cNvSpPr/>
              <p:nvPr/>
            </p:nvSpPr>
            <p:spPr>
              <a:xfrm>
                <a:off x="6143400" y="3251160"/>
                <a:ext cx="1630080" cy="78084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92720" y="3336840"/>
                <a:ext cx="153252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Ai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ACC in JFA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A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5549760" y="3000240"/>
              <a:ext cx="2940120" cy="2958840"/>
            </a:xfrm>
            <a:custGeom>
              <a:avLst/>
              <a:gdLst/>
              <a:ahLst/>
              <a:rect l="l" t="t" r="r" b="b"/>
              <a:pathLst>
                <a:path w="1852" h="1864">
                  <a:moveTo>
                    <a:pt x="832" y="34"/>
                  </a:moveTo>
                  <a:cubicBezTo>
                    <a:pt x="725" y="41"/>
                    <a:pt x="541" y="15"/>
                    <a:pt x="408" y="74"/>
                  </a:cubicBezTo>
                  <a:cubicBezTo>
                    <a:pt x="275" y="133"/>
                    <a:pt x="64" y="264"/>
                    <a:pt x="32" y="386"/>
                  </a:cubicBezTo>
                  <a:cubicBezTo>
                    <a:pt x="0" y="508"/>
                    <a:pt x="184" y="587"/>
                    <a:pt x="216" y="806"/>
                  </a:cubicBezTo>
                  <a:cubicBezTo>
                    <a:pt x="248" y="1025"/>
                    <a:pt x="104" y="1532"/>
                    <a:pt x="224" y="1698"/>
                  </a:cubicBezTo>
                  <a:cubicBezTo>
                    <a:pt x="344" y="1864"/>
                    <a:pt x="707" y="1787"/>
                    <a:pt x="936" y="1802"/>
                  </a:cubicBezTo>
                  <a:cubicBezTo>
                    <a:pt x="1165" y="1817"/>
                    <a:pt x="1476" y="1863"/>
                    <a:pt x="1600" y="1786"/>
                  </a:cubicBezTo>
                  <a:cubicBezTo>
                    <a:pt x="1724" y="1709"/>
                    <a:pt x="1672" y="1495"/>
                    <a:pt x="1680" y="1338"/>
                  </a:cubicBezTo>
                  <a:cubicBezTo>
                    <a:pt x="1688" y="1181"/>
                    <a:pt x="1637" y="976"/>
                    <a:pt x="1648" y="842"/>
                  </a:cubicBezTo>
                  <a:cubicBezTo>
                    <a:pt x="1659" y="708"/>
                    <a:pt x="1717" y="619"/>
                    <a:pt x="1744" y="534"/>
                  </a:cubicBezTo>
                  <a:cubicBezTo>
                    <a:pt x="1771" y="449"/>
                    <a:pt x="1852" y="415"/>
                    <a:pt x="1808" y="334"/>
                  </a:cubicBezTo>
                  <a:cubicBezTo>
                    <a:pt x="1764" y="253"/>
                    <a:pt x="1607" y="100"/>
                    <a:pt x="1480" y="50"/>
                  </a:cubicBezTo>
                  <a:cubicBezTo>
                    <a:pt x="1353" y="0"/>
                    <a:pt x="1156" y="37"/>
                    <a:pt x="1048" y="34"/>
                  </a:cubicBezTo>
                  <a:cubicBezTo>
                    <a:pt x="940" y="31"/>
                    <a:pt x="939" y="27"/>
                    <a:pt x="832" y="34"/>
                  </a:cubicBez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30440" y="416052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ff"/>
                  </a:solidFill>
                  <a:latin typeface="Arial"/>
                </a:rPr>
                <a:t>JFA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3236760" y="3005280"/>
            <a:ext cx="2889360" cy="2952720"/>
            <a:chOff x="3236760" y="3005280"/>
            <a:chExt cx="2889360" cy="2952720"/>
          </a:xfrm>
        </p:grpSpPr>
        <p:sp>
          <p:nvSpPr>
            <p:cNvPr id="1347" name=""/>
            <p:cNvSpPr/>
            <p:nvPr/>
          </p:nvSpPr>
          <p:spPr>
            <a:xfrm>
              <a:off x="4611600" y="4024440"/>
              <a:ext cx="144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3574800" y="4572000"/>
              <a:ext cx="2073240" cy="1090800"/>
              <a:chOff x="3574800" y="4572000"/>
              <a:chExt cx="2073240" cy="1090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3574800" y="4572000"/>
                <a:ext cx="2073240" cy="109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39800" y="473724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751200" y="3241800"/>
              <a:ext cx="1630080" cy="781200"/>
              <a:chOff x="3751200" y="3241800"/>
              <a:chExt cx="1630080" cy="7812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751200" y="3241800"/>
                <a:ext cx="163008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796920" y="3327480"/>
                <a:ext cx="15400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LCC in JFL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G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3236760" y="3005280"/>
              <a:ext cx="2889360" cy="2952720"/>
            </a:xfrm>
            <a:custGeom>
              <a:avLst/>
              <a:gdLst/>
              <a:ahLst/>
              <a:rect l="l" t="t" r="r" b="b"/>
              <a:pathLst>
                <a:path w="1820" h="1860">
                  <a:moveTo>
                    <a:pt x="761" y="31"/>
                  </a:moveTo>
                  <a:cubicBezTo>
                    <a:pt x="654" y="38"/>
                    <a:pt x="459" y="2"/>
                    <a:pt x="337" y="71"/>
                  </a:cubicBezTo>
                  <a:cubicBezTo>
                    <a:pt x="215" y="140"/>
                    <a:pt x="58" y="312"/>
                    <a:pt x="29" y="447"/>
                  </a:cubicBezTo>
                  <a:cubicBezTo>
                    <a:pt x="0" y="582"/>
                    <a:pt x="140" y="675"/>
                    <a:pt x="161" y="883"/>
                  </a:cubicBezTo>
                  <a:cubicBezTo>
                    <a:pt x="182" y="1091"/>
                    <a:pt x="36" y="1542"/>
                    <a:pt x="153" y="1695"/>
                  </a:cubicBezTo>
                  <a:cubicBezTo>
                    <a:pt x="270" y="1848"/>
                    <a:pt x="636" y="1784"/>
                    <a:pt x="865" y="1799"/>
                  </a:cubicBezTo>
                  <a:cubicBezTo>
                    <a:pt x="1094" y="1814"/>
                    <a:pt x="1405" y="1860"/>
                    <a:pt x="1529" y="1783"/>
                  </a:cubicBezTo>
                  <a:cubicBezTo>
                    <a:pt x="1653" y="1706"/>
                    <a:pt x="1601" y="1492"/>
                    <a:pt x="1609" y="1335"/>
                  </a:cubicBezTo>
                  <a:cubicBezTo>
                    <a:pt x="1617" y="1178"/>
                    <a:pt x="1575" y="957"/>
                    <a:pt x="1577" y="839"/>
                  </a:cubicBezTo>
                  <a:cubicBezTo>
                    <a:pt x="1579" y="721"/>
                    <a:pt x="1586" y="715"/>
                    <a:pt x="1621" y="627"/>
                  </a:cubicBezTo>
                  <a:cubicBezTo>
                    <a:pt x="1656" y="539"/>
                    <a:pt x="1820" y="408"/>
                    <a:pt x="1785" y="311"/>
                  </a:cubicBezTo>
                  <a:cubicBezTo>
                    <a:pt x="1750" y="214"/>
                    <a:pt x="1544" y="94"/>
                    <a:pt x="1409" y="47"/>
                  </a:cubicBezTo>
                  <a:cubicBezTo>
                    <a:pt x="1274" y="0"/>
                    <a:pt x="1085" y="34"/>
                    <a:pt x="977" y="31"/>
                  </a:cubicBezTo>
                  <a:cubicBezTo>
                    <a:pt x="869" y="28"/>
                    <a:pt x="868" y="24"/>
                    <a:pt x="761" y="31"/>
                  </a:cubicBezTo>
                  <a:close/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67040" y="416088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JFL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874800" y="2973240"/>
            <a:ext cx="2808360" cy="3019320"/>
            <a:chOff x="874800" y="2973240"/>
            <a:chExt cx="2808360" cy="3019320"/>
          </a:xfrm>
        </p:grpSpPr>
        <p:sp>
          <p:nvSpPr>
            <p:cNvPr id="1357" name=""/>
            <p:cNvSpPr/>
            <p:nvPr/>
          </p:nvSpPr>
          <p:spPr>
            <a:xfrm>
              <a:off x="2219760" y="4019400"/>
              <a:ext cx="144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1182960" y="4573440"/>
              <a:ext cx="2073240" cy="1090440"/>
              <a:chOff x="1182960" y="4573440"/>
              <a:chExt cx="2073240" cy="1090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1182960" y="4573440"/>
                <a:ext cx="2073240" cy="1090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47960" y="4736880"/>
                <a:ext cx="54324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ali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ni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1357560" y="3242880"/>
              <a:ext cx="1631520" cy="781200"/>
              <a:chOff x="1357560" y="3242880"/>
              <a:chExt cx="1631520" cy="78120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57560" y="3242880"/>
                <a:ext cx="1631520" cy="781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389600" y="3328920"/>
                <a:ext cx="1567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Force Mari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ponent 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FMCC in JFMC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N1 - 9 + Nat'l Rep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874800" y="2973240"/>
              <a:ext cx="2808360" cy="3019320"/>
            </a:xfrm>
            <a:custGeom>
              <a:avLst/>
              <a:gdLst/>
              <a:ahLst/>
              <a:rect l="l" t="t" r="r" b="b"/>
              <a:pathLst>
                <a:path w="1769" h="1902">
                  <a:moveTo>
                    <a:pt x="721" y="51"/>
                  </a:moveTo>
                  <a:cubicBezTo>
                    <a:pt x="614" y="58"/>
                    <a:pt x="413" y="38"/>
                    <a:pt x="297" y="91"/>
                  </a:cubicBezTo>
                  <a:cubicBezTo>
                    <a:pt x="181" y="144"/>
                    <a:pt x="50" y="266"/>
                    <a:pt x="25" y="367"/>
                  </a:cubicBezTo>
                  <a:cubicBezTo>
                    <a:pt x="0" y="468"/>
                    <a:pt x="130" y="474"/>
                    <a:pt x="145" y="699"/>
                  </a:cubicBezTo>
                  <a:cubicBezTo>
                    <a:pt x="160" y="924"/>
                    <a:pt x="0" y="1528"/>
                    <a:pt x="113" y="1715"/>
                  </a:cubicBezTo>
                  <a:cubicBezTo>
                    <a:pt x="226" y="1902"/>
                    <a:pt x="596" y="1804"/>
                    <a:pt x="825" y="1819"/>
                  </a:cubicBezTo>
                  <a:cubicBezTo>
                    <a:pt x="1054" y="1834"/>
                    <a:pt x="1365" y="1880"/>
                    <a:pt x="1489" y="1803"/>
                  </a:cubicBezTo>
                  <a:cubicBezTo>
                    <a:pt x="1613" y="1726"/>
                    <a:pt x="1561" y="1512"/>
                    <a:pt x="1569" y="1355"/>
                  </a:cubicBezTo>
                  <a:cubicBezTo>
                    <a:pt x="1577" y="1198"/>
                    <a:pt x="1508" y="1010"/>
                    <a:pt x="1537" y="859"/>
                  </a:cubicBezTo>
                  <a:cubicBezTo>
                    <a:pt x="1566" y="708"/>
                    <a:pt x="1769" y="583"/>
                    <a:pt x="1741" y="451"/>
                  </a:cubicBezTo>
                  <a:cubicBezTo>
                    <a:pt x="1713" y="319"/>
                    <a:pt x="1503" y="134"/>
                    <a:pt x="1369" y="67"/>
                  </a:cubicBezTo>
                  <a:cubicBezTo>
                    <a:pt x="1235" y="0"/>
                    <a:pt x="1045" y="54"/>
                    <a:pt x="937" y="51"/>
                  </a:cubicBezTo>
                  <a:cubicBezTo>
                    <a:pt x="829" y="48"/>
                    <a:pt x="828" y="44"/>
                    <a:pt x="721" y="51"/>
                  </a:cubicBezTo>
                  <a:close/>
                </a:path>
              </a:pathLst>
            </a:custGeom>
            <a:noFill/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71600" y="41605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JFM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787320" y="2444760"/>
            <a:ext cx="8212680" cy="1212840"/>
            <a:chOff x="787320" y="2444760"/>
            <a:chExt cx="8212680" cy="1212840"/>
          </a:xfrm>
        </p:grpSpPr>
        <p:sp>
          <p:nvSpPr>
            <p:cNvPr id="1367" name=""/>
            <p:cNvSpPr/>
            <p:nvPr/>
          </p:nvSpPr>
          <p:spPr>
            <a:xfrm>
              <a:off x="7837920" y="2444760"/>
              <a:ext cx="1162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nent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IN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F e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7484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75320" y="36576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732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76960" y="3657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-36360" y="165240"/>
            <a:ext cx="1290240" cy="5575320"/>
            <a:chOff x="-36360" y="165240"/>
            <a:chExt cx="1290240" cy="5575320"/>
          </a:xfrm>
        </p:grpSpPr>
        <p:sp>
          <p:nvSpPr>
            <p:cNvPr id="1373" name=""/>
            <p:cNvSpPr/>
            <p:nvPr/>
          </p:nvSpPr>
          <p:spPr>
            <a:xfrm>
              <a:off x="-36360" y="465120"/>
              <a:ext cx="129024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520560" y="1652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0560" y="92736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18880" y="363240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880" y="52578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57200" y="22604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7200" y="294660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39800" y="110520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9800" y="2032200"/>
              <a:ext cx="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682720" y="4657680"/>
            <a:ext cx="5283360" cy="927000"/>
            <a:chOff x="2682720" y="4657680"/>
            <a:chExt cx="5283360" cy="927000"/>
          </a:xfrm>
        </p:grpSpPr>
        <p:sp>
          <p:nvSpPr>
            <p:cNvPr id="1383" name=""/>
            <p:cNvSpPr/>
            <p:nvPr/>
          </p:nvSpPr>
          <p:spPr>
            <a:xfrm>
              <a:off x="7483320" y="4657680"/>
              <a:ext cx="482760" cy="927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95800" y="4657680"/>
              <a:ext cx="482400" cy="927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82720" y="4657680"/>
              <a:ext cx="482760" cy="927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'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17520" y="1620720"/>
            <a:ext cx="8704080" cy="4540320"/>
            <a:chOff x="317520" y="1620720"/>
            <a:chExt cx="8704080" cy="4540320"/>
          </a:xfrm>
        </p:grpSpPr>
        <p:grpSp>
          <p:nvGrpSpPr>
            <p:cNvPr id="1387" name=""/>
            <p:cNvGrpSpPr/>
            <p:nvPr/>
          </p:nvGrpSpPr>
          <p:grpSpPr>
            <a:xfrm>
              <a:off x="2211120" y="2712960"/>
              <a:ext cx="6576840" cy="561960"/>
              <a:chOff x="2211120" y="2712960"/>
              <a:chExt cx="6576840" cy="561960"/>
            </a:xfrm>
          </p:grpSpPr>
          <p:sp>
            <p:nvSpPr>
              <p:cNvPr id="1388" name=""/>
              <p:cNvSpPr/>
              <p:nvPr/>
            </p:nvSpPr>
            <p:spPr>
              <a:xfrm flipV="1">
                <a:off x="6095880" y="2712960"/>
                <a:ext cx="0" cy="23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2211120" y="2938320"/>
                <a:ext cx="6576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11480" y="2938320"/>
                <a:ext cx="1440" cy="33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02360" y="2938320"/>
                <a:ext cx="2880" cy="32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4622760" y="2937960"/>
                <a:ext cx="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317520" y="1620720"/>
              <a:ext cx="8704080" cy="4540320"/>
              <a:chOff x="317520" y="1620720"/>
              <a:chExt cx="8704080" cy="4540320"/>
            </a:xfrm>
          </p:grpSpPr>
          <p:sp>
            <p:nvSpPr>
              <p:cNvPr id="1394" name=""/>
              <p:cNvSpPr/>
              <p:nvPr/>
            </p:nvSpPr>
            <p:spPr>
              <a:xfrm>
                <a:off x="3922560" y="1989000"/>
                <a:ext cx="3011400" cy="7380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51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064040" y="2122200"/>
                <a:ext cx="1455480" cy="47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 H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JTF HQ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ffs: J1 - 9 + Nat'l Re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18160" y="2141280"/>
                <a:ext cx="1096920" cy="4366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30760" y="2138040"/>
                <a:ext cx="1074600" cy="43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664960" y="2206440"/>
                <a:ext cx="1006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int Task For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1760" y="2306520"/>
                <a:ext cx="56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99"/>
                    </a:solidFill>
                    <a:latin typeface="Arial"/>
                  </a:rPr>
                  <a:t>JTF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7520" y="1620720"/>
                <a:ext cx="8704080" cy="4540320"/>
              </a:xfrm>
              <a:custGeom>
                <a:avLst/>
                <a:gdLst/>
                <a:ahLst/>
                <a:rect l="l" t="t" r="r" b="b"/>
                <a:pathLst>
                  <a:path w="5483" h="2860">
                    <a:moveTo>
                      <a:pt x="2928" y="9"/>
                    </a:moveTo>
                    <a:cubicBezTo>
                      <a:pt x="2653" y="20"/>
                      <a:pt x="2383" y="0"/>
                      <a:pt x="2256" y="99"/>
                    </a:cubicBezTo>
                    <a:cubicBezTo>
                      <a:pt x="2129" y="198"/>
                      <a:pt x="2249" y="507"/>
                      <a:pt x="2168" y="605"/>
                    </a:cubicBezTo>
                    <a:cubicBezTo>
                      <a:pt x="2087" y="703"/>
                      <a:pt x="1949" y="675"/>
                      <a:pt x="1768" y="687"/>
                    </a:cubicBezTo>
                    <a:cubicBezTo>
                      <a:pt x="1587" y="699"/>
                      <a:pt x="1284" y="655"/>
                      <a:pt x="1080" y="679"/>
                    </a:cubicBezTo>
                    <a:cubicBezTo>
                      <a:pt x="876" y="702"/>
                      <a:pt x="692" y="729"/>
                      <a:pt x="544" y="826"/>
                    </a:cubicBezTo>
                    <a:cubicBezTo>
                      <a:pt x="396" y="923"/>
                      <a:pt x="264" y="980"/>
                      <a:pt x="192" y="1259"/>
                    </a:cubicBezTo>
                    <a:cubicBezTo>
                      <a:pt x="120" y="1537"/>
                      <a:pt x="0" y="2254"/>
                      <a:pt x="112" y="2500"/>
                    </a:cubicBezTo>
                    <a:cubicBezTo>
                      <a:pt x="224" y="2746"/>
                      <a:pt x="445" y="2693"/>
                      <a:pt x="864" y="2736"/>
                    </a:cubicBezTo>
                    <a:cubicBezTo>
                      <a:pt x="1283" y="2780"/>
                      <a:pt x="2047" y="2764"/>
                      <a:pt x="2624" y="2761"/>
                    </a:cubicBezTo>
                    <a:cubicBezTo>
                      <a:pt x="3201" y="2758"/>
                      <a:pt x="3915" y="2733"/>
                      <a:pt x="4328" y="2720"/>
                    </a:cubicBezTo>
                    <a:cubicBezTo>
                      <a:pt x="4741" y="2707"/>
                      <a:pt x="4948" y="2860"/>
                      <a:pt x="5104" y="2679"/>
                    </a:cubicBezTo>
                    <a:cubicBezTo>
                      <a:pt x="5260" y="2499"/>
                      <a:pt x="5207" y="1901"/>
                      <a:pt x="5264" y="1634"/>
                    </a:cubicBezTo>
                    <a:cubicBezTo>
                      <a:pt x="5321" y="1367"/>
                      <a:pt x="5427" y="1255"/>
                      <a:pt x="5448" y="1075"/>
                    </a:cubicBezTo>
                    <a:cubicBezTo>
                      <a:pt x="5469" y="895"/>
                      <a:pt x="5483" y="670"/>
                      <a:pt x="5392" y="555"/>
                    </a:cubicBezTo>
                    <a:cubicBezTo>
                      <a:pt x="5301" y="440"/>
                      <a:pt x="5040" y="462"/>
                      <a:pt x="4904" y="387"/>
                    </a:cubicBezTo>
                    <a:cubicBezTo>
                      <a:pt x="4768" y="312"/>
                      <a:pt x="4743" y="166"/>
                      <a:pt x="4576" y="107"/>
                    </a:cubicBezTo>
                    <a:cubicBezTo>
                      <a:pt x="4409" y="48"/>
                      <a:pt x="4179" y="50"/>
                      <a:pt x="3904" y="34"/>
                    </a:cubicBezTo>
                    <a:cubicBezTo>
                      <a:pt x="3629" y="18"/>
                      <a:pt x="3131" y="14"/>
                      <a:pt x="2928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941400" y="1569960"/>
            <a:ext cx="3092400" cy="938160"/>
            <a:chOff x="941400" y="1569960"/>
            <a:chExt cx="3092400" cy="938160"/>
          </a:xfrm>
        </p:grpSpPr>
        <p:grpSp>
          <p:nvGrpSpPr>
            <p:cNvPr id="1402" name=""/>
            <p:cNvGrpSpPr/>
            <p:nvPr/>
          </p:nvGrpSpPr>
          <p:grpSpPr>
            <a:xfrm>
              <a:off x="1523880" y="2068200"/>
              <a:ext cx="2509920" cy="439920"/>
              <a:chOff x="1523880" y="2068200"/>
              <a:chExt cx="2509920" cy="439920"/>
            </a:xfrm>
          </p:grpSpPr>
          <p:sp>
            <p:nvSpPr>
              <p:cNvPr id="1403" name=""/>
              <p:cNvSpPr/>
              <p:nvPr/>
            </p:nvSpPr>
            <p:spPr>
              <a:xfrm>
                <a:off x="1523880" y="2508120"/>
                <a:ext cx="25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1523880" y="2068200"/>
                <a:ext cx="0" cy="43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941400" y="1569960"/>
              <a:ext cx="1136520" cy="63792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2062080" y="463680"/>
            <a:ext cx="1929600" cy="1898640"/>
            <a:chOff x="2062080" y="463680"/>
            <a:chExt cx="1929600" cy="1898640"/>
          </a:xfrm>
        </p:grpSpPr>
        <p:sp>
          <p:nvSpPr>
            <p:cNvPr id="1407" name=""/>
            <p:cNvSpPr/>
            <p:nvPr/>
          </p:nvSpPr>
          <p:spPr>
            <a:xfrm>
              <a:off x="2062080" y="184968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11200" y="463680"/>
              <a:ext cx="1424160" cy="17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2400" y="54144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044880" y="1508400"/>
              <a:ext cx="946800" cy="853920"/>
              <a:chOff x="3044880" y="1508400"/>
              <a:chExt cx="946800" cy="853920"/>
            </a:xfrm>
          </p:grpSpPr>
          <p:sp>
            <p:nvSpPr>
              <p:cNvPr id="1411" name=""/>
              <p:cNvSpPr/>
              <p:nvPr/>
            </p:nvSpPr>
            <p:spPr>
              <a:xfrm>
                <a:off x="3044880" y="1508400"/>
                <a:ext cx="1800" cy="209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3044880" y="1984680"/>
                <a:ext cx="946800" cy="377640"/>
                <a:chOff x="3044880" y="1984680"/>
                <a:chExt cx="946800" cy="3776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3044880" y="1984680"/>
                  <a:ext cx="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3044880" y="2357280"/>
                  <a:ext cx="946800" cy="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2455920" y="887400"/>
              <a:ext cx="1136520" cy="1128960"/>
              <a:chOff x="2455920" y="887400"/>
              <a:chExt cx="1136520" cy="1128960"/>
            </a:xfrm>
          </p:grpSpPr>
          <p:sp>
            <p:nvSpPr>
              <p:cNvPr id="1416" name=""/>
              <p:cNvSpPr/>
              <p:nvPr/>
            </p:nvSpPr>
            <p:spPr>
              <a:xfrm>
                <a:off x="2455920" y="887400"/>
                <a:ext cx="1136520" cy="6382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ecretary Gen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455920" y="1687680"/>
                <a:ext cx="1136520" cy="3286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 SRS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8" name=""/>
          <p:cNvGrpSpPr/>
          <p:nvPr/>
        </p:nvGrpSpPr>
        <p:grpSpPr>
          <a:xfrm>
            <a:off x="3670200" y="507960"/>
            <a:ext cx="2006640" cy="876240"/>
            <a:chOff x="3670200" y="507960"/>
            <a:chExt cx="2006640" cy="876240"/>
          </a:xfrm>
        </p:grpSpPr>
        <p:sp>
          <p:nvSpPr>
            <p:cNvPr id="1419" name=""/>
            <p:cNvSpPr/>
            <p:nvPr/>
          </p:nvSpPr>
          <p:spPr>
            <a:xfrm>
              <a:off x="3898800" y="507960"/>
              <a:ext cx="1409760" cy="4824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70200" y="914040"/>
              <a:ext cx="81288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800600" y="914040"/>
              <a:ext cx="876240" cy="470160"/>
            </a:xfrm>
            <a:custGeom>
              <a:avLst/>
              <a:gdLst/>
              <a:ahLst/>
              <a:rect l="l" t="t" r="r" b="b"/>
              <a:pathLst>
                <a:path w="616" h="296">
                  <a:moveTo>
                    <a:pt x="616" y="0"/>
                  </a:moveTo>
                  <a:cubicBezTo>
                    <a:pt x="595" y="33"/>
                    <a:pt x="548" y="153"/>
                    <a:pt x="488" y="200"/>
                  </a:cubicBezTo>
                  <a:cubicBezTo>
                    <a:pt x="428" y="247"/>
                    <a:pt x="337" y="264"/>
                    <a:pt x="256" y="280"/>
                  </a:cubicBezTo>
                  <a:cubicBezTo>
                    <a:pt x="175" y="296"/>
                    <a:pt x="43" y="293"/>
                    <a:pt x="0" y="29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44480" y="10944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G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195120"/>
            <a:ext cx="914400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39680" y="457200"/>
            <a:ext cx="8864640" cy="421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99"/>
              </a:gs>
              <a:gs pos="100000">
                <a:srgbClr val="5e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742400" y="469260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c0c0"/>
                </a:solidFill>
                <a:latin typeface="Arial"/>
              </a:rPr>
              <a:t>GRID / Agent-enabled Infrastructure / Admi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66200" y="0"/>
            <a:ext cx="834732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X 2002 Demo - Agent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1520" y="515880"/>
            <a:ext cx="220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cc0099"/>
                </a:solidFill>
                <a:latin typeface="Arial"/>
              </a:rPr>
              <a:t>Coalition / JTF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03600" y="542880"/>
            <a:ext cx="136836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Process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-983880" y="2158920"/>
            <a:ext cx="2898720" cy="42228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ff"/>
                </a:solidFill>
                <a:latin typeface="Arial"/>
              </a:rPr>
              <a:t>Common / Share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777000" y="2435400"/>
            <a:ext cx="1866960" cy="2022480"/>
          </a:xfrm>
          <a:custGeom>
            <a:avLst/>
            <a:gdLst>
              <a:gd name="textAreaLeft" fmla="*/ 91080 w 1866960"/>
              <a:gd name="textAreaRight" fmla="*/ 1775880 w 1866960"/>
              <a:gd name="textAreaTop" fmla="*/ 91080 h 2022480"/>
              <a:gd name="textAreaBottom" fmla="*/ 1931400 h 2022480"/>
            </a:gdLst>
            <a:ahLst/>
            <a:rect l="textAreaLeft" t="textAreaTop" r="textAreaRight" b="textAreaBottom"/>
            <a:pathLst>
              <a:path w="21600" h="23399">
                <a:moveTo>
                  <a:pt x="3600" y="0"/>
                </a:moveTo>
                <a:arcTo wR="3600" hR="3600" stAng="16200000" swAng="-5400000"/>
                <a:lnTo>
                  <a:pt x="0" y="19799"/>
                </a:lnTo>
                <a:arcTo wR="3600" hR="3600" stAng="10800000" swAng="-5400000"/>
                <a:lnTo>
                  <a:pt x="18000" y="23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44320" y="2430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845400" y="3218040"/>
            <a:ext cx="76500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96080" y="3218040"/>
            <a:ext cx="7653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2956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477200" y="2805120"/>
            <a:ext cx="574560" cy="33804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'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126280" y="2781360"/>
            <a:ext cx="436680" cy="385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96840" y="5095800"/>
            <a:ext cx="167472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8160" y="5157720"/>
            <a:ext cx="1791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K National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03160" y="5548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10960" y="5518080"/>
            <a:ext cx="436680" cy="385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20560" y="6168960"/>
            <a:ext cx="8407440" cy="660600"/>
            <a:chOff x="520560" y="6168960"/>
            <a:chExt cx="8407440" cy="660600"/>
          </a:xfrm>
        </p:grpSpPr>
        <p:sp>
          <p:nvSpPr>
            <p:cNvPr id="1442" name=""/>
            <p:cNvSpPr/>
            <p:nvPr/>
          </p:nvSpPr>
          <p:spPr>
            <a:xfrm>
              <a:off x="520560" y="6168960"/>
              <a:ext cx="8407440" cy="660600"/>
            </a:xfrm>
            <a:prstGeom prst="cloudCallout">
              <a:avLst>
                <a:gd name="adj1" fmla="val -34666"/>
                <a:gd name="adj2" fmla="val -20643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41560" y="637236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CYBER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1825560" y="63374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97200" y="6348240"/>
            <a:ext cx="801720" cy="32724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Ari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369200" y="6278400"/>
            <a:ext cx="765000" cy="338400"/>
          </a:xfrm>
          <a:prstGeom prst="octagon">
            <a:avLst>
              <a:gd name="adj" fmla="val 2928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-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705800" y="5094360"/>
            <a:ext cx="13208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66280" y="5157720"/>
            <a:ext cx="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Ga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08840" y="3646440"/>
            <a:ext cx="151128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037280" y="36450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886880" y="5643720"/>
            <a:ext cx="105876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62640" y="3946680"/>
            <a:ext cx="1059120" cy="3380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o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472600" y="5184720"/>
            <a:ext cx="436320" cy="385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b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7004880" y="2392560"/>
            <a:ext cx="3725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"/>
              </a:rPr>
              <a:t>NOMADS Guarded “Observ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6240" y="3849840"/>
            <a:ext cx="436320" cy="385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02560" y="1533600"/>
            <a:ext cx="18158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35320" y="14940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Weath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1520" y="1868400"/>
            <a:ext cx="947880" cy="3715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932600" y="1838160"/>
            <a:ext cx="487440" cy="4302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218120" y="542880"/>
            <a:ext cx="10540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econfl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18000" y="542880"/>
            <a:ext cx="1028880" cy="33804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29160" y="5095800"/>
            <a:ext cx="40003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032520" y="5602320"/>
            <a:ext cx="876240" cy="3380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l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708360" y="5141880"/>
            <a:ext cx="3950640" cy="385920"/>
            <a:chOff x="3708360" y="5141880"/>
            <a:chExt cx="3950640" cy="385920"/>
          </a:xfrm>
        </p:grpSpPr>
        <p:sp>
          <p:nvSpPr>
            <p:cNvPr id="1465" name=""/>
            <p:cNvSpPr/>
            <p:nvPr/>
          </p:nvSpPr>
          <p:spPr>
            <a:xfrm flipH="1">
              <a:off x="5879160" y="5164200"/>
              <a:ext cx="1779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US National HQ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708000" y="5165640"/>
              <a:ext cx="67644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4485960" y="5141880"/>
              <a:ext cx="436680" cy="385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b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5024160" y="5165640"/>
              <a:ext cx="901800" cy="338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tVie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4498920" y="5608800"/>
            <a:ext cx="801720" cy="326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689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735360" y="5597640"/>
            <a:ext cx="79524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75640" y="5597640"/>
            <a:ext cx="685800" cy="347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773760" y="6254640"/>
            <a:ext cx="436680" cy="3859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8273520" y="3143160"/>
            <a:ext cx="520920" cy="628920"/>
          </a:xfrm>
          <a:prstGeom prst="line">
            <a:avLst/>
          </a:prstGeom>
          <a:ln w="190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606840" y="1330200"/>
            <a:ext cx="2971800" cy="32004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200400"/>
              <a:gd name="textAreaBottom" fmla="*/ 3055320 h 3200400"/>
            </a:gdLst>
            <a:ahLst/>
            <a:rect l="textAreaLeft" t="textAreaTop" r="textAreaRight" b="textAreaBottom"/>
            <a:pathLst>
              <a:path w="21600" h="23261">
                <a:moveTo>
                  <a:pt x="3600" y="0"/>
                </a:moveTo>
                <a:arcTo wR="3600" hR="3600" stAng="16200000" swAng="-5400000"/>
                <a:lnTo>
                  <a:pt x="0" y="19661"/>
                </a:lnTo>
                <a:arcTo wR="3600" hR="3600" stAng="10800000" swAng="-5400000"/>
                <a:lnTo>
                  <a:pt x="18000" y="23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43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92160" y="1415880"/>
            <a:ext cx="1238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FA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733920" y="2228760"/>
            <a:ext cx="85716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A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064120" y="1425600"/>
            <a:ext cx="7174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73520" y="2241720"/>
            <a:ext cx="171936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880240" y="1407960"/>
            <a:ext cx="43632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759120" y="2651040"/>
            <a:ext cx="269244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57af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360" y="2700360"/>
            <a:ext cx="248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66ff"/>
                </a:solidFill>
                <a:latin typeface="Arial"/>
              </a:rPr>
              <a:t>JAOC / Combat O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09880" y="3127320"/>
            <a:ext cx="15703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FAST / MBP 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232240" y="3978360"/>
            <a:ext cx="99720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Rel CO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580000" y="3103560"/>
            <a:ext cx="436680" cy="385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Db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954600" y="356220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865680" y="397980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37280" y="356400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733920" y="183672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191200" y="184644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16120" y="1349280"/>
            <a:ext cx="2666880" cy="32004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200400"/>
              <a:gd name="textAreaBottom" fmla="*/ 3070440 h 3200400"/>
            </a:gdLst>
            <a:ahLst/>
            <a:rect l="textAreaLeft" t="textAreaTop" r="textAreaRight" b="textAreaBottom"/>
            <a:pathLst>
              <a:path w="21600" h="25921">
                <a:moveTo>
                  <a:pt x="3600" y="0"/>
                </a:moveTo>
                <a:arcTo wR="3600" hR="3600" stAng="16200000" swAng="-5400000"/>
                <a:lnTo>
                  <a:pt x="0" y="22321"/>
                </a:lnTo>
                <a:arcTo wR="3600" hR="3600" stAng="10800000" swAng="-5400000"/>
                <a:lnTo>
                  <a:pt x="18000" y="25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43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94600" y="1434960"/>
            <a:ext cx="125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JFMC H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76320" y="2260440"/>
            <a:ext cx="23479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'Combat Support System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136600" y="143676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49320" y="1865160"/>
            <a:ext cx="10288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62160" y="1865160"/>
            <a:ext cx="120168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941400" y="2698920"/>
            <a:ext cx="24163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57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154520" y="2719440"/>
            <a:ext cx="1989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ccff"/>
                </a:solidFill>
                <a:latin typeface="Arial"/>
              </a:rPr>
              <a:t>Task Force C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11240" y="3146400"/>
            <a:ext cx="156996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ASW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281320" y="3997440"/>
            <a:ext cx="99684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752560" y="3122640"/>
            <a:ext cx="436680" cy="38556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Db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11240" y="3581280"/>
            <a:ext cx="102852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Sit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011240" y="3998880"/>
            <a:ext cx="120168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Event 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249640" y="3583080"/>
            <a:ext cx="1028520" cy="33804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629080" y="1461960"/>
            <a:ext cx="723600" cy="338400"/>
          </a:xfrm>
          <a:prstGeom prst="octagon">
            <a:avLst>
              <a:gd name="adj" fmla="val 29287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Rel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751880" y="4313160"/>
            <a:ext cx="750600" cy="785880"/>
          </a:xfrm>
          <a:custGeom>
            <a:avLst/>
            <a:gdLst/>
            <a:ahLst/>
            <a:rect l="l" t="t" r="r" b="b"/>
            <a:pathLst>
              <a:path w="473" h="701">
                <a:moveTo>
                  <a:pt x="58" y="1"/>
                </a:moveTo>
                <a:cubicBezTo>
                  <a:pt x="4" y="1"/>
                  <a:pt x="74" y="2"/>
                  <a:pt x="82" y="3"/>
                </a:cubicBezTo>
                <a:cubicBezTo>
                  <a:pt x="90" y="4"/>
                  <a:pt x="95" y="3"/>
                  <a:pt x="104" y="5"/>
                </a:cubicBezTo>
                <a:cubicBezTo>
                  <a:pt x="113" y="7"/>
                  <a:pt x="124" y="11"/>
                  <a:pt x="134" y="15"/>
                </a:cubicBezTo>
                <a:cubicBezTo>
                  <a:pt x="144" y="19"/>
                  <a:pt x="156" y="22"/>
                  <a:pt x="164" y="27"/>
                </a:cubicBezTo>
                <a:cubicBezTo>
                  <a:pt x="172" y="32"/>
                  <a:pt x="180" y="34"/>
                  <a:pt x="184" y="45"/>
                </a:cubicBezTo>
                <a:cubicBezTo>
                  <a:pt x="188" y="56"/>
                  <a:pt x="187" y="49"/>
                  <a:pt x="188" y="91"/>
                </a:cubicBezTo>
                <a:cubicBezTo>
                  <a:pt x="189" y="133"/>
                  <a:pt x="188" y="225"/>
                  <a:pt x="188" y="299"/>
                </a:cubicBezTo>
                <a:cubicBezTo>
                  <a:pt x="188" y="373"/>
                  <a:pt x="186" y="486"/>
                  <a:pt x="186" y="535"/>
                </a:cubicBezTo>
                <a:cubicBezTo>
                  <a:pt x="186" y="584"/>
                  <a:pt x="187" y="577"/>
                  <a:pt x="186" y="595"/>
                </a:cubicBezTo>
                <a:cubicBezTo>
                  <a:pt x="185" y="613"/>
                  <a:pt x="184" y="628"/>
                  <a:pt x="180" y="641"/>
                </a:cubicBezTo>
                <a:cubicBezTo>
                  <a:pt x="176" y="654"/>
                  <a:pt x="176" y="666"/>
                  <a:pt x="162" y="675"/>
                </a:cubicBezTo>
                <a:cubicBezTo>
                  <a:pt x="148" y="684"/>
                  <a:pt x="116" y="693"/>
                  <a:pt x="98" y="697"/>
                </a:cubicBezTo>
                <a:cubicBezTo>
                  <a:pt x="80" y="701"/>
                  <a:pt x="0" y="699"/>
                  <a:pt x="54" y="699"/>
                </a:cubicBezTo>
                <a:cubicBezTo>
                  <a:pt x="108" y="699"/>
                  <a:pt x="371" y="700"/>
                  <a:pt x="422" y="699"/>
                </a:cubicBezTo>
                <a:cubicBezTo>
                  <a:pt x="473" y="698"/>
                  <a:pt x="380" y="698"/>
                  <a:pt x="362" y="693"/>
                </a:cubicBezTo>
                <a:cubicBezTo>
                  <a:pt x="344" y="688"/>
                  <a:pt x="326" y="679"/>
                  <a:pt x="314" y="671"/>
                </a:cubicBezTo>
                <a:cubicBezTo>
                  <a:pt x="302" y="663"/>
                  <a:pt x="294" y="655"/>
                  <a:pt x="290" y="643"/>
                </a:cubicBezTo>
                <a:cubicBezTo>
                  <a:pt x="286" y="631"/>
                  <a:pt x="290" y="617"/>
                  <a:pt x="290" y="599"/>
                </a:cubicBezTo>
                <a:cubicBezTo>
                  <a:pt x="290" y="581"/>
                  <a:pt x="288" y="584"/>
                  <a:pt x="288" y="535"/>
                </a:cubicBezTo>
                <a:cubicBezTo>
                  <a:pt x="288" y="486"/>
                  <a:pt x="288" y="378"/>
                  <a:pt x="288" y="305"/>
                </a:cubicBezTo>
                <a:cubicBezTo>
                  <a:pt x="288" y="232"/>
                  <a:pt x="288" y="138"/>
                  <a:pt x="288" y="95"/>
                </a:cubicBezTo>
                <a:cubicBezTo>
                  <a:pt x="288" y="52"/>
                  <a:pt x="286" y="58"/>
                  <a:pt x="290" y="47"/>
                </a:cubicBezTo>
                <a:cubicBezTo>
                  <a:pt x="294" y="36"/>
                  <a:pt x="304" y="32"/>
                  <a:pt x="314" y="25"/>
                </a:cubicBezTo>
                <a:cubicBezTo>
                  <a:pt x="324" y="18"/>
                  <a:pt x="336" y="11"/>
                  <a:pt x="352" y="7"/>
                </a:cubicBezTo>
                <a:cubicBezTo>
                  <a:pt x="368" y="3"/>
                  <a:pt x="457" y="2"/>
                  <a:pt x="408" y="1"/>
                </a:cubicBezTo>
                <a:cubicBezTo>
                  <a:pt x="359" y="0"/>
                  <a:pt x="112" y="1"/>
                  <a:pt x="58" y="1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7843680" y="4319640"/>
            <a:ext cx="571320" cy="771480"/>
            <a:chOff x="7843680" y="4319640"/>
            <a:chExt cx="571320" cy="771480"/>
          </a:xfrm>
        </p:grpSpPr>
        <p:sp>
          <p:nvSpPr>
            <p:cNvPr id="1508" name=""/>
            <p:cNvSpPr/>
            <p:nvPr/>
          </p:nvSpPr>
          <p:spPr>
            <a:xfrm>
              <a:off x="7843680" y="4319640"/>
              <a:ext cx="203400" cy="771480"/>
            </a:xfrm>
            <a:custGeom>
              <a:avLst/>
              <a:gdLst>
                <a:gd name="textAreaLeft" fmla="*/ 0 w 203400"/>
                <a:gd name="textAreaRight" fmla="*/ 14256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8211240" y="4319640"/>
              <a:ext cx="203400" cy="771480"/>
            </a:xfrm>
            <a:custGeom>
              <a:avLst/>
              <a:gdLst>
                <a:gd name="textAreaLeft" fmla="*/ -360 w 203400"/>
                <a:gd name="textAreaRight" fmla="*/ 142200 w 203400"/>
                <a:gd name="textAreaTop" fmla="*/ 32040 h 771480"/>
                <a:gd name="textAreaBottom" fmla="*/ 73944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1868400" y="5095800"/>
            <a:ext cx="1675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8d68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992240" y="5156280"/>
            <a:ext cx="143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Arabello HQ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536920" y="5546880"/>
            <a:ext cx="914400" cy="33804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Intel A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982880" y="5516640"/>
            <a:ext cx="436320" cy="3855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Arial"/>
              </a:rPr>
              <a:t>Db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802560" y="555480"/>
            <a:ext cx="18158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7cbd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898320" y="566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</a:rPr>
              <a:t>Sys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920000" y="898560"/>
            <a:ext cx="487440" cy="43020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954840" y="977760"/>
            <a:ext cx="723960" cy="338400"/>
          </a:xfrm>
          <a:prstGeom prst="octagon">
            <a:avLst>
              <a:gd name="adj" fmla="val 29287"/>
            </a:avLst>
          </a:prstGeom>
          <a:solidFill>
            <a:srgbClr val="cc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99ff"/>
                </a:solidFill>
                <a:latin typeface="Arial"/>
              </a:rPr>
              <a:t>KP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" descr=""/>
          <p:cNvPicPr/>
          <p:nvPr/>
        </p:nvPicPr>
        <p:blipFill>
          <a:blip r:embed="rId1"/>
          <a:stretch/>
        </p:blipFill>
        <p:spPr>
          <a:xfrm>
            <a:off x="2678040" y="925560"/>
            <a:ext cx="2374920" cy="101592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1909800" y="509760"/>
            <a:ext cx="803160" cy="853920"/>
          </a:xfrm>
          <a:prstGeom prst="rect">
            <a:avLst/>
          </a:prstGeom>
          <a:ln w="0">
            <a:noFill/>
          </a:ln>
        </p:spPr>
      </p:pic>
      <p:grpSp>
        <p:nvGrpSpPr>
          <p:cNvPr id="1520" name=""/>
          <p:cNvGrpSpPr/>
          <p:nvPr/>
        </p:nvGrpSpPr>
        <p:grpSpPr>
          <a:xfrm>
            <a:off x="795240" y="1521000"/>
            <a:ext cx="1790640" cy="811080"/>
            <a:chOff x="795240" y="1521000"/>
            <a:chExt cx="1790640" cy="811080"/>
          </a:xfrm>
        </p:grpSpPr>
        <p:sp>
          <p:nvSpPr>
            <p:cNvPr id="1521" name=""/>
            <p:cNvSpPr/>
            <p:nvPr/>
          </p:nvSpPr>
          <p:spPr>
            <a:xfrm>
              <a:off x="829440" y="155376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9440" y="155376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46000" y="155376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4000" y="156924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80560" y="156924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6040" y="158616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14040" y="158616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30600" y="160200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48600" y="160200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65160" y="161892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83160" y="161892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99720" y="163476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16280" y="163476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33920" y="163476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50840" y="165024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68480" y="165024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85400" y="166716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00880" y="166716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8520" y="168300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35440" y="168300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53080" y="169992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70000" y="169992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86560" y="171540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04200" y="171540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20760" y="173124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20760" y="173124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38760" y="173124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55320" y="174816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73320" y="174816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289880" y="176400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305360" y="176400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323360" y="178092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39920" y="178092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57920" y="179676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74480" y="179676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91040" y="181368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09040" y="181368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25600" y="182916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43240" y="182916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60160" y="182916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476720" y="184500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93280" y="184500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510200" y="186192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528200" y="186192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4760" y="187740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61320" y="187740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79320" y="189432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95880" y="189432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613520" y="191016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30080" y="191016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95880" y="187740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5240" y="152100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46000" y="156924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5240" y="155376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83080" y="191844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40120" y="162252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96080" y="162252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52040" y="162000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307880" y="155376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55880" y="168300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297080" y="222192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052280" y="212544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98560" y="190188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40120" y="160560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13000" y="160560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52040" y="160452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24440" y="153684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55880" y="164916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13640" y="220644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53720" y="209268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0440" y="156672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26000" y="167436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3" name="" descr=""/>
          <p:cNvPicPr/>
          <p:nvPr/>
        </p:nvPicPr>
        <p:blipFill>
          <a:blip r:embed="rId3"/>
          <a:stretch/>
        </p:blipFill>
        <p:spPr>
          <a:xfrm>
            <a:off x="4705200" y="2557440"/>
            <a:ext cx="3159360" cy="53820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662040" y="2379600"/>
            <a:ext cx="1221840" cy="1644480"/>
            <a:chOff x="662040" y="2379600"/>
            <a:chExt cx="1221840" cy="1644480"/>
          </a:xfrm>
        </p:grpSpPr>
        <p:pic>
          <p:nvPicPr>
            <p:cNvPr id="1595" name="" descr=""/>
            <p:cNvPicPr/>
            <p:nvPr/>
          </p:nvPicPr>
          <p:blipFill>
            <a:blip r:embed="rId4"/>
            <a:stretch/>
          </p:blipFill>
          <p:spPr>
            <a:xfrm>
              <a:off x="662040" y="3508560"/>
              <a:ext cx="122184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uoe-small" descr=""/>
            <p:cNvPicPr/>
            <p:nvPr/>
          </p:nvPicPr>
          <p:blipFill>
            <a:blip r:embed="rId5"/>
            <a:stretch/>
          </p:blipFill>
          <p:spPr>
            <a:xfrm>
              <a:off x="733320" y="2379600"/>
              <a:ext cx="1100880" cy="10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7" name="" descr=""/>
          <p:cNvPicPr/>
          <p:nvPr/>
        </p:nvPicPr>
        <p:blipFill>
          <a:blip r:embed="rId6"/>
          <a:stretch/>
        </p:blipFill>
        <p:spPr>
          <a:xfrm>
            <a:off x="2316240" y="2784600"/>
            <a:ext cx="1112760" cy="10555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7"/>
          <a:stretch/>
        </p:blipFill>
        <p:spPr>
          <a:xfrm>
            <a:off x="884160" y="4075200"/>
            <a:ext cx="919080" cy="9190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8"/>
          <a:stretch/>
        </p:blipFill>
        <p:spPr>
          <a:xfrm>
            <a:off x="2343240" y="404496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1600" name="DartLogoBW" descr=""/>
          <p:cNvPicPr/>
          <p:nvPr/>
        </p:nvPicPr>
        <p:blipFill>
          <a:blip r:embed="rId9"/>
          <a:stretch/>
        </p:blipFill>
        <p:spPr>
          <a:xfrm>
            <a:off x="876240" y="5345280"/>
            <a:ext cx="914400" cy="1068120"/>
          </a:xfrm>
          <a:prstGeom prst="rect">
            <a:avLst/>
          </a:prstGeom>
          <a:ln w="0">
            <a:noFill/>
          </a:ln>
        </p:spPr>
      </p:pic>
      <p:pic>
        <p:nvPicPr>
          <p:cNvPr id="1601" name="ISX-logo-02" descr=""/>
          <p:cNvPicPr/>
          <p:nvPr/>
        </p:nvPicPr>
        <p:blipFill>
          <a:blip r:embed="rId10"/>
          <a:stretch/>
        </p:blipFill>
        <p:spPr>
          <a:xfrm>
            <a:off x="3581280" y="2784600"/>
            <a:ext cx="1454400" cy="120492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/>
          <p:cNvPicPr/>
          <p:nvPr/>
        </p:nvPicPr>
        <p:blipFill>
          <a:blip r:embed="rId11"/>
          <a:stretch/>
        </p:blipFill>
        <p:spPr>
          <a:xfrm>
            <a:off x="2247840" y="5530680"/>
            <a:ext cx="1270080" cy="72396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12"/>
          <a:stretch/>
        </p:blipFill>
        <p:spPr>
          <a:xfrm>
            <a:off x="2394000" y="5403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13"/>
          <a:stretch/>
        </p:blipFill>
        <p:spPr>
          <a:xfrm>
            <a:off x="5703840" y="1500120"/>
            <a:ext cx="851040" cy="27936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/>
          <p:cNvPicPr/>
          <p:nvPr/>
        </p:nvPicPr>
        <p:blipFill>
          <a:blip r:embed="rId14"/>
          <a:stretch/>
        </p:blipFill>
        <p:spPr>
          <a:xfrm>
            <a:off x="6856560" y="3156120"/>
            <a:ext cx="1765080" cy="1112760"/>
          </a:xfrm>
          <a:prstGeom prst="rect">
            <a:avLst/>
          </a:prstGeom>
          <a:ln w="0">
            <a:noFill/>
          </a:ln>
        </p:spPr>
      </p:pic>
      <p:pic>
        <p:nvPicPr>
          <p:cNvPr id="1606" name="QinetiQ3" descr=""/>
          <p:cNvPicPr/>
          <p:nvPr/>
        </p:nvPicPr>
        <p:blipFill>
          <a:blip r:embed="rId15"/>
          <a:stretch/>
        </p:blipFill>
        <p:spPr>
          <a:xfrm>
            <a:off x="6940440" y="1447920"/>
            <a:ext cx="1543320" cy="58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7" name=""/>
          <p:cNvGraphicFramePr/>
          <p:nvPr/>
        </p:nvGraphicFramePr>
        <p:xfrm>
          <a:off x="7473960" y="2054160"/>
          <a:ext cx="83808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3960" y="2054160"/>
                    <a:ext cx="838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"/>
          <p:cNvGraphicFramePr/>
          <p:nvPr/>
        </p:nvGraphicFramePr>
        <p:xfrm>
          <a:off x="5996160" y="501480"/>
          <a:ext cx="1009440" cy="752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1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96160" y="501480"/>
                    <a:ext cx="10094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1" name="" descr=""/>
          <p:cNvPicPr/>
          <p:nvPr/>
        </p:nvPicPr>
        <p:blipFill>
          <a:blip r:embed="rId20"/>
          <a:stretch/>
        </p:blipFill>
        <p:spPr>
          <a:xfrm>
            <a:off x="671400" y="39996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612" name="BBN_2c_primary" descr=""/>
          <p:cNvPicPr/>
          <p:nvPr/>
        </p:nvPicPr>
        <p:blipFill>
          <a:blip r:embed="rId21"/>
          <a:stretch/>
        </p:blipFill>
        <p:spPr>
          <a:xfrm>
            <a:off x="5245200" y="3243240"/>
            <a:ext cx="1191960" cy="774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2"/>
          <a:stretch/>
        </p:blipFill>
        <p:spPr>
          <a:xfrm>
            <a:off x="3722760" y="4192560"/>
            <a:ext cx="823680" cy="82404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23"/>
          <a:stretch/>
        </p:blipFill>
        <p:spPr>
          <a:xfrm>
            <a:off x="4684680" y="414324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4"/>
          <a:stretch/>
        </p:blipFill>
        <p:spPr>
          <a:xfrm>
            <a:off x="3865680" y="436680"/>
            <a:ext cx="1015920" cy="97128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25"/>
          <a:stretch/>
        </p:blipFill>
        <p:spPr>
          <a:xfrm>
            <a:off x="4910040" y="485640"/>
            <a:ext cx="852480" cy="83196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/>
          <p:cNvPicPr/>
          <p:nvPr/>
        </p:nvPicPr>
        <p:blipFill>
          <a:blip r:embed="rId26"/>
          <a:stretch/>
        </p:blipFill>
        <p:spPr>
          <a:xfrm>
            <a:off x="6816600" y="4330800"/>
            <a:ext cx="946440" cy="91764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7"/>
          <a:stretch/>
        </p:blipFill>
        <p:spPr>
          <a:xfrm>
            <a:off x="7877160" y="4309920"/>
            <a:ext cx="654120" cy="927360"/>
          </a:xfrm>
          <a:prstGeom prst="rect">
            <a:avLst/>
          </a:prstGeom>
          <a:ln w="0">
            <a:noFill/>
          </a:ln>
        </p:spPr>
      </p:pic>
      <p:pic>
        <p:nvPicPr>
          <p:cNvPr id="1619" name="arl" descr=""/>
          <p:cNvPicPr/>
          <p:nvPr/>
        </p:nvPicPr>
        <p:blipFill>
          <a:blip r:embed="rId28"/>
          <a:stretch/>
        </p:blipFill>
        <p:spPr>
          <a:xfrm>
            <a:off x="4805280" y="1952640"/>
            <a:ext cx="668520" cy="420840"/>
          </a:xfrm>
          <a:prstGeom prst="rect">
            <a:avLst/>
          </a:prstGeom>
          <a:ln w="0">
            <a:noFill/>
          </a:ln>
        </p:spPr>
      </p:pic>
      <p:pic>
        <p:nvPicPr>
          <p:cNvPr id="1620" name="perimid" descr=""/>
          <p:cNvPicPr/>
          <p:nvPr/>
        </p:nvPicPr>
        <p:blipFill>
          <a:blip r:embed="rId29"/>
          <a:stretch/>
        </p:blipFill>
        <p:spPr>
          <a:xfrm>
            <a:off x="5904000" y="1847880"/>
            <a:ext cx="699840" cy="69516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30"/>
          <a:stretch/>
        </p:blipFill>
        <p:spPr>
          <a:xfrm>
            <a:off x="3683160" y="41464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31"/>
          <a:stretch/>
        </p:blipFill>
        <p:spPr>
          <a:xfrm>
            <a:off x="5665680" y="4157640"/>
            <a:ext cx="884520" cy="895320"/>
          </a:xfrm>
          <a:prstGeom prst="rect">
            <a:avLst/>
          </a:prstGeom>
          <a:ln w="0">
            <a:noFill/>
          </a:ln>
        </p:spPr>
      </p:pic>
      <p:pic>
        <p:nvPicPr>
          <p:cNvPr id="1623" name="CoABS%20Logo%20Final" descr=""/>
          <p:cNvPicPr/>
          <p:nvPr/>
        </p:nvPicPr>
        <p:blipFill>
          <a:blip r:embed="rId32"/>
          <a:stretch/>
        </p:blipFill>
        <p:spPr>
          <a:xfrm>
            <a:off x="7400880" y="5460840"/>
            <a:ext cx="1382760" cy="123048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33"/>
          <a:stretch/>
        </p:blipFill>
        <p:spPr>
          <a:xfrm>
            <a:off x="3801960" y="569592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625" name="" descr=""/>
          <p:cNvPicPr/>
          <p:nvPr/>
        </p:nvPicPr>
        <p:blipFill>
          <a:blip r:embed="rId34"/>
          <a:stretch/>
        </p:blipFill>
        <p:spPr>
          <a:xfrm>
            <a:off x="5602320" y="6402240"/>
            <a:ext cx="1670040" cy="289080"/>
          </a:xfrm>
          <a:prstGeom prst="rect">
            <a:avLst/>
          </a:prstGeom>
          <a:ln w="0">
            <a:noFill/>
          </a:ln>
        </p:spPr>
      </p:pic>
      <p:grpSp>
        <p:nvGrpSpPr>
          <p:cNvPr id="1626" name=""/>
          <p:cNvGrpSpPr/>
          <p:nvPr/>
        </p:nvGrpSpPr>
        <p:grpSpPr>
          <a:xfrm>
            <a:off x="5141880" y="5135400"/>
            <a:ext cx="1805040" cy="670680"/>
            <a:chOff x="5141880" y="5135400"/>
            <a:chExt cx="1805040" cy="670680"/>
          </a:xfrm>
        </p:grpSpPr>
        <p:grpSp>
          <p:nvGrpSpPr>
            <p:cNvPr id="1627" name=""/>
            <p:cNvGrpSpPr/>
            <p:nvPr/>
          </p:nvGrpSpPr>
          <p:grpSpPr>
            <a:xfrm>
              <a:off x="5397480" y="5271840"/>
              <a:ext cx="987480" cy="338400"/>
              <a:chOff x="5397480" y="5271840"/>
              <a:chExt cx="987480" cy="338400"/>
            </a:xfrm>
          </p:grpSpPr>
          <p:sp>
            <p:nvSpPr>
              <p:cNvPr id="1628" name=""/>
              <p:cNvSpPr/>
              <p:nvPr/>
            </p:nvSpPr>
            <p:spPr>
              <a:xfrm>
                <a:off x="5397480" y="5271840"/>
                <a:ext cx="987480" cy="338400"/>
              </a:xfrm>
              <a:prstGeom prst="roundRect">
                <a:avLst>
                  <a:gd name="adj" fmla="val 24741"/>
                </a:avLst>
              </a:prstGeom>
              <a:solidFill>
                <a:srgbClr val="fafd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429160" y="5514840"/>
                <a:ext cx="927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64516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91040" y="5357520"/>
                <a:ext cx="0" cy="16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13440" y="536868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35480" y="5344920"/>
                <a:ext cx="0" cy="1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765760" y="5387760"/>
                <a:ext cx="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54600" y="5365440"/>
                <a:ext cx="20520" cy="12960"/>
              </a:xfrm>
              <a:prstGeom prst="ellipse">
                <a:avLst/>
              </a:prstGeom>
              <a:solidFill>
                <a:srgbClr val="00ae00"/>
              </a:solidFill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005520" y="5365440"/>
                <a:ext cx="20520" cy="12960"/>
              </a:xfrm>
              <a:prstGeom prst="ellipse">
                <a:avLst/>
              </a:prstGeom>
              <a:solidFill>
                <a:srgbClr val="b760f9"/>
              </a:solidFill>
              <a:ln w="25560">
                <a:solidFill>
                  <a:srgbClr val="b76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24680" y="5329080"/>
                <a:ext cx="23760" cy="15840"/>
              </a:xfrm>
              <a:prstGeom prst="ellipse">
                <a:avLst/>
              </a:prstGeom>
              <a:solidFill>
                <a:srgbClr val="fc0128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81680" y="5329080"/>
                <a:ext cx="22320" cy="1584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632560" y="5329080"/>
                <a:ext cx="27000" cy="15840"/>
              </a:xfrm>
              <a:prstGeom prst="ellipse">
                <a:avLst/>
              </a:prstGeom>
              <a:solidFill>
                <a:srgbClr val="f35b1b"/>
              </a:solidFill>
              <a:ln w="25560">
                <a:solidFill>
                  <a:srgbClr val="f35b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141880" y="5135400"/>
              <a:ext cx="180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 Services and Consulting, Inc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1" name="" descr=""/>
          <p:cNvPicPr/>
          <p:nvPr/>
        </p:nvPicPr>
        <p:blipFill>
          <a:blip r:embed="rId35"/>
          <a:stretch/>
        </p:blipFill>
        <p:spPr>
          <a:xfrm>
            <a:off x="2820960" y="47772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/>
          <p:cNvPicPr/>
          <p:nvPr/>
        </p:nvPicPr>
        <p:blipFill>
          <a:blip r:embed="rId36"/>
          <a:stretch/>
        </p:blipFill>
        <p:spPr>
          <a:xfrm>
            <a:off x="7085160" y="272880"/>
            <a:ext cx="1317600" cy="11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AX_Binni_2002_Countries_All-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54" name="BINNI_Map" descr=""/>
            <p:cNvPicPr/>
            <p:nvPr/>
          </p:nvPicPr>
          <p:blipFill>
            <a:blip r:embed="rId1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56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7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7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12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0072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7197800">
              <a:off x="653076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848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297000">
              <a:off x="7231680" y="36619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439200">
              <a:off x="1988280" y="156060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208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232200">
              <a:off x="6781680" y="51843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138600">
              <a:off x="6846480" y="554832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742200">
              <a:off x="6642000" y="475128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771200">
              <a:off x="523080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657200">
              <a:off x="1342800" y="477972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3381600">
              <a:off x="200268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79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333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380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385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388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391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394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410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419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423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426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429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437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440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464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467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479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486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489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492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495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501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504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507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510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513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516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519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523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532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538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541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544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547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550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553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556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560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563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572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575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578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581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584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587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590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593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596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599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602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605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608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611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614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620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623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626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629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632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644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647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661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665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668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674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1684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9363800">
              <a:off x="3250800" y="539568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457200" y="0"/>
            <a:ext cx="8685360" cy="6858000"/>
            <a:chOff x="457200" y="0"/>
            <a:chExt cx="8685360" cy="6858000"/>
          </a:xfrm>
        </p:grpSpPr>
        <p:sp>
          <p:nvSpPr>
            <p:cNvPr id="680" name=""/>
            <p:cNvSpPr/>
            <p:nvPr/>
          </p:nvSpPr>
          <p:spPr>
            <a:xfrm>
              <a:off x="6642000" y="0"/>
              <a:ext cx="250056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afdb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5120" y="600120"/>
              <a:ext cx="7991640" cy="6076800"/>
            </a:xfrm>
            <a:custGeom>
              <a:avLst/>
              <a:gdLst/>
              <a:ahLst/>
              <a:rect l="l" t="t" r="r" b="b"/>
              <a:pathLst>
                <a:path w="5034" h="3828">
                  <a:moveTo>
                    <a:pt x="123" y="3402"/>
                  </a:moveTo>
                  <a:lnTo>
                    <a:pt x="129" y="2346"/>
                  </a:lnTo>
                  <a:lnTo>
                    <a:pt x="93" y="2268"/>
                  </a:lnTo>
                  <a:lnTo>
                    <a:pt x="141" y="2220"/>
                  </a:lnTo>
                  <a:lnTo>
                    <a:pt x="153" y="1974"/>
                  </a:lnTo>
                  <a:lnTo>
                    <a:pt x="123" y="1932"/>
                  </a:lnTo>
                  <a:lnTo>
                    <a:pt x="141" y="1854"/>
                  </a:lnTo>
                  <a:lnTo>
                    <a:pt x="135" y="1728"/>
                  </a:lnTo>
                  <a:lnTo>
                    <a:pt x="129" y="1614"/>
                  </a:lnTo>
                  <a:lnTo>
                    <a:pt x="171" y="1560"/>
                  </a:lnTo>
                  <a:lnTo>
                    <a:pt x="123" y="1470"/>
                  </a:lnTo>
                  <a:lnTo>
                    <a:pt x="111" y="1410"/>
                  </a:lnTo>
                  <a:lnTo>
                    <a:pt x="69" y="1368"/>
                  </a:lnTo>
                  <a:lnTo>
                    <a:pt x="0" y="1209"/>
                  </a:lnTo>
                  <a:lnTo>
                    <a:pt x="39" y="1026"/>
                  </a:lnTo>
                  <a:lnTo>
                    <a:pt x="87" y="1002"/>
                  </a:lnTo>
                  <a:lnTo>
                    <a:pt x="147" y="1026"/>
                  </a:lnTo>
                  <a:lnTo>
                    <a:pt x="201" y="1056"/>
                  </a:lnTo>
                  <a:lnTo>
                    <a:pt x="261" y="1056"/>
                  </a:lnTo>
                  <a:lnTo>
                    <a:pt x="315" y="1086"/>
                  </a:lnTo>
                  <a:lnTo>
                    <a:pt x="357" y="1086"/>
                  </a:lnTo>
                  <a:lnTo>
                    <a:pt x="411" y="1062"/>
                  </a:lnTo>
                  <a:lnTo>
                    <a:pt x="441" y="1008"/>
                  </a:lnTo>
                  <a:lnTo>
                    <a:pt x="477" y="966"/>
                  </a:lnTo>
                  <a:lnTo>
                    <a:pt x="513" y="906"/>
                  </a:lnTo>
                  <a:lnTo>
                    <a:pt x="561" y="858"/>
                  </a:lnTo>
                  <a:lnTo>
                    <a:pt x="597" y="774"/>
                  </a:lnTo>
                  <a:lnTo>
                    <a:pt x="642" y="744"/>
                  </a:lnTo>
                  <a:lnTo>
                    <a:pt x="693" y="720"/>
                  </a:lnTo>
                  <a:lnTo>
                    <a:pt x="729" y="726"/>
                  </a:lnTo>
                  <a:lnTo>
                    <a:pt x="783" y="744"/>
                  </a:lnTo>
                  <a:lnTo>
                    <a:pt x="831" y="744"/>
                  </a:lnTo>
                  <a:lnTo>
                    <a:pt x="855" y="690"/>
                  </a:lnTo>
                  <a:lnTo>
                    <a:pt x="897" y="726"/>
                  </a:lnTo>
                  <a:lnTo>
                    <a:pt x="963" y="702"/>
                  </a:lnTo>
                  <a:lnTo>
                    <a:pt x="987" y="732"/>
                  </a:lnTo>
                  <a:lnTo>
                    <a:pt x="1029" y="720"/>
                  </a:lnTo>
                  <a:lnTo>
                    <a:pt x="1077" y="744"/>
                  </a:lnTo>
                  <a:lnTo>
                    <a:pt x="1113" y="744"/>
                  </a:lnTo>
                  <a:lnTo>
                    <a:pt x="1149" y="744"/>
                  </a:lnTo>
                  <a:lnTo>
                    <a:pt x="1215" y="774"/>
                  </a:lnTo>
                  <a:lnTo>
                    <a:pt x="1233" y="714"/>
                  </a:lnTo>
                  <a:lnTo>
                    <a:pt x="1263" y="762"/>
                  </a:lnTo>
                  <a:lnTo>
                    <a:pt x="1257" y="816"/>
                  </a:lnTo>
                  <a:lnTo>
                    <a:pt x="1293" y="792"/>
                  </a:lnTo>
                  <a:lnTo>
                    <a:pt x="1335" y="810"/>
                  </a:lnTo>
                  <a:lnTo>
                    <a:pt x="1407" y="828"/>
                  </a:lnTo>
                  <a:lnTo>
                    <a:pt x="1389" y="756"/>
                  </a:lnTo>
                  <a:lnTo>
                    <a:pt x="1347" y="726"/>
                  </a:lnTo>
                  <a:lnTo>
                    <a:pt x="1311" y="696"/>
                  </a:lnTo>
                  <a:lnTo>
                    <a:pt x="1299" y="642"/>
                  </a:lnTo>
                  <a:lnTo>
                    <a:pt x="1317" y="600"/>
                  </a:lnTo>
                  <a:lnTo>
                    <a:pt x="1347" y="570"/>
                  </a:lnTo>
                  <a:lnTo>
                    <a:pt x="1413" y="546"/>
                  </a:lnTo>
                  <a:lnTo>
                    <a:pt x="1461" y="588"/>
                  </a:lnTo>
                  <a:lnTo>
                    <a:pt x="1521" y="600"/>
                  </a:lnTo>
                  <a:lnTo>
                    <a:pt x="1575" y="624"/>
                  </a:lnTo>
                  <a:lnTo>
                    <a:pt x="1617" y="642"/>
                  </a:lnTo>
                  <a:lnTo>
                    <a:pt x="1653" y="660"/>
                  </a:lnTo>
                  <a:lnTo>
                    <a:pt x="1719" y="600"/>
                  </a:lnTo>
                  <a:lnTo>
                    <a:pt x="1785" y="582"/>
                  </a:lnTo>
                  <a:lnTo>
                    <a:pt x="1851" y="606"/>
                  </a:lnTo>
                  <a:lnTo>
                    <a:pt x="1875" y="648"/>
                  </a:lnTo>
                  <a:lnTo>
                    <a:pt x="1929" y="684"/>
                  </a:lnTo>
                  <a:lnTo>
                    <a:pt x="1983" y="630"/>
                  </a:lnTo>
                  <a:lnTo>
                    <a:pt x="2007" y="600"/>
                  </a:lnTo>
                  <a:lnTo>
                    <a:pt x="2067" y="522"/>
                  </a:lnTo>
                  <a:lnTo>
                    <a:pt x="2103" y="486"/>
                  </a:lnTo>
                  <a:lnTo>
                    <a:pt x="2139" y="474"/>
                  </a:lnTo>
                  <a:lnTo>
                    <a:pt x="2175" y="450"/>
                  </a:lnTo>
                  <a:lnTo>
                    <a:pt x="2217" y="426"/>
                  </a:lnTo>
                  <a:lnTo>
                    <a:pt x="2253" y="414"/>
                  </a:lnTo>
                  <a:lnTo>
                    <a:pt x="2271" y="468"/>
                  </a:lnTo>
                  <a:lnTo>
                    <a:pt x="2307" y="498"/>
                  </a:lnTo>
                  <a:lnTo>
                    <a:pt x="2367" y="516"/>
                  </a:lnTo>
                  <a:lnTo>
                    <a:pt x="2481" y="510"/>
                  </a:lnTo>
                  <a:lnTo>
                    <a:pt x="2559" y="498"/>
                  </a:lnTo>
                  <a:lnTo>
                    <a:pt x="2667" y="498"/>
                  </a:lnTo>
                  <a:lnTo>
                    <a:pt x="2757" y="516"/>
                  </a:lnTo>
                  <a:lnTo>
                    <a:pt x="2805" y="558"/>
                  </a:lnTo>
                  <a:lnTo>
                    <a:pt x="2841" y="588"/>
                  </a:lnTo>
                  <a:lnTo>
                    <a:pt x="2889" y="594"/>
                  </a:lnTo>
                  <a:lnTo>
                    <a:pt x="2931" y="576"/>
                  </a:lnTo>
                  <a:lnTo>
                    <a:pt x="2943" y="528"/>
                  </a:lnTo>
                  <a:lnTo>
                    <a:pt x="2955" y="492"/>
                  </a:lnTo>
                  <a:lnTo>
                    <a:pt x="3039" y="480"/>
                  </a:lnTo>
                  <a:lnTo>
                    <a:pt x="3111" y="486"/>
                  </a:lnTo>
                  <a:lnTo>
                    <a:pt x="3165" y="522"/>
                  </a:lnTo>
                  <a:lnTo>
                    <a:pt x="3255" y="534"/>
                  </a:lnTo>
                  <a:lnTo>
                    <a:pt x="3339" y="564"/>
                  </a:lnTo>
                  <a:lnTo>
                    <a:pt x="3417" y="570"/>
                  </a:lnTo>
                  <a:lnTo>
                    <a:pt x="3453" y="510"/>
                  </a:lnTo>
                  <a:lnTo>
                    <a:pt x="3507" y="480"/>
                  </a:lnTo>
                  <a:lnTo>
                    <a:pt x="3567" y="474"/>
                  </a:lnTo>
                  <a:lnTo>
                    <a:pt x="3603" y="468"/>
                  </a:lnTo>
                  <a:lnTo>
                    <a:pt x="3627" y="432"/>
                  </a:lnTo>
                  <a:lnTo>
                    <a:pt x="3705" y="396"/>
                  </a:lnTo>
                  <a:lnTo>
                    <a:pt x="3741" y="336"/>
                  </a:lnTo>
                  <a:lnTo>
                    <a:pt x="3777" y="288"/>
                  </a:lnTo>
                  <a:lnTo>
                    <a:pt x="3801" y="240"/>
                  </a:lnTo>
                  <a:lnTo>
                    <a:pt x="3807" y="204"/>
                  </a:lnTo>
                  <a:lnTo>
                    <a:pt x="3849" y="156"/>
                  </a:lnTo>
                  <a:lnTo>
                    <a:pt x="3897" y="114"/>
                  </a:lnTo>
                  <a:lnTo>
                    <a:pt x="3933" y="102"/>
                  </a:lnTo>
                  <a:lnTo>
                    <a:pt x="3945" y="36"/>
                  </a:lnTo>
                  <a:lnTo>
                    <a:pt x="3993" y="0"/>
                  </a:lnTo>
                  <a:lnTo>
                    <a:pt x="4017" y="66"/>
                  </a:lnTo>
                  <a:lnTo>
                    <a:pt x="4041" y="114"/>
                  </a:lnTo>
                  <a:lnTo>
                    <a:pt x="4083" y="132"/>
                  </a:lnTo>
                  <a:lnTo>
                    <a:pt x="4113" y="156"/>
                  </a:lnTo>
                  <a:lnTo>
                    <a:pt x="4125" y="177"/>
                  </a:lnTo>
                  <a:lnTo>
                    <a:pt x="4092" y="174"/>
                  </a:lnTo>
                  <a:lnTo>
                    <a:pt x="4047" y="195"/>
                  </a:lnTo>
                  <a:lnTo>
                    <a:pt x="4056" y="255"/>
                  </a:lnTo>
                  <a:lnTo>
                    <a:pt x="4089" y="276"/>
                  </a:lnTo>
                  <a:lnTo>
                    <a:pt x="4125" y="294"/>
                  </a:lnTo>
                  <a:lnTo>
                    <a:pt x="4161" y="288"/>
                  </a:lnTo>
                  <a:lnTo>
                    <a:pt x="4203" y="258"/>
                  </a:lnTo>
                  <a:lnTo>
                    <a:pt x="4191" y="222"/>
                  </a:lnTo>
                  <a:lnTo>
                    <a:pt x="4179" y="186"/>
                  </a:lnTo>
                  <a:lnTo>
                    <a:pt x="4209" y="201"/>
                  </a:lnTo>
                  <a:lnTo>
                    <a:pt x="4239" y="264"/>
                  </a:lnTo>
                  <a:lnTo>
                    <a:pt x="4251" y="324"/>
                  </a:lnTo>
                  <a:lnTo>
                    <a:pt x="4263" y="384"/>
                  </a:lnTo>
                  <a:lnTo>
                    <a:pt x="4263" y="444"/>
                  </a:lnTo>
                  <a:lnTo>
                    <a:pt x="4233" y="468"/>
                  </a:lnTo>
                  <a:lnTo>
                    <a:pt x="4194" y="492"/>
                  </a:lnTo>
                  <a:lnTo>
                    <a:pt x="4248" y="498"/>
                  </a:lnTo>
                  <a:lnTo>
                    <a:pt x="4263" y="516"/>
                  </a:lnTo>
                  <a:lnTo>
                    <a:pt x="4263" y="534"/>
                  </a:lnTo>
                  <a:lnTo>
                    <a:pt x="4212" y="585"/>
                  </a:lnTo>
                  <a:lnTo>
                    <a:pt x="4215" y="642"/>
                  </a:lnTo>
                  <a:lnTo>
                    <a:pt x="4221" y="708"/>
                  </a:lnTo>
                  <a:lnTo>
                    <a:pt x="4236" y="747"/>
                  </a:lnTo>
                  <a:lnTo>
                    <a:pt x="4263" y="786"/>
                  </a:lnTo>
                  <a:lnTo>
                    <a:pt x="4287" y="882"/>
                  </a:lnTo>
                  <a:lnTo>
                    <a:pt x="4299" y="930"/>
                  </a:lnTo>
                  <a:lnTo>
                    <a:pt x="4311" y="972"/>
                  </a:lnTo>
                  <a:lnTo>
                    <a:pt x="4347" y="1005"/>
                  </a:lnTo>
                  <a:lnTo>
                    <a:pt x="4371" y="1062"/>
                  </a:lnTo>
                  <a:lnTo>
                    <a:pt x="4407" y="1140"/>
                  </a:lnTo>
                  <a:lnTo>
                    <a:pt x="4437" y="1206"/>
                  </a:lnTo>
                  <a:lnTo>
                    <a:pt x="4443" y="1248"/>
                  </a:lnTo>
                  <a:lnTo>
                    <a:pt x="4440" y="1302"/>
                  </a:lnTo>
                  <a:lnTo>
                    <a:pt x="4470" y="1362"/>
                  </a:lnTo>
                  <a:lnTo>
                    <a:pt x="4485" y="1404"/>
                  </a:lnTo>
                  <a:lnTo>
                    <a:pt x="4509" y="1452"/>
                  </a:lnTo>
                  <a:lnTo>
                    <a:pt x="4545" y="1512"/>
                  </a:lnTo>
                  <a:lnTo>
                    <a:pt x="4581" y="1560"/>
                  </a:lnTo>
                  <a:lnTo>
                    <a:pt x="4605" y="1644"/>
                  </a:lnTo>
                  <a:lnTo>
                    <a:pt x="4617" y="1686"/>
                  </a:lnTo>
                  <a:lnTo>
                    <a:pt x="4659" y="1722"/>
                  </a:lnTo>
                  <a:lnTo>
                    <a:pt x="4677" y="1770"/>
                  </a:lnTo>
                  <a:lnTo>
                    <a:pt x="4683" y="1830"/>
                  </a:lnTo>
                  <a:lnTo>
                    <a:pt x="4683" y="1878"/>
                  </a:lnTo>
                  <a:lnTo>
                    <a:pt x="4695" y="1938"/>
                  </a:lnTo>
                  <a:lnTo>
                    <a:pt x="4713" y="2004"/>
                  </a:lnTo>
                  <a:lnTo>
                    <a:pt x="4743" y="2088"/>
                  </a:lnTo>
                  <a:lnTo>
                    <a:pt x="4785" y="2148"/>
                  </a:lnTo>
                  <a:lnTo>
                    <a:pt x="4803" y="2196"/>
                  </a:lnTo>
                  <a:lnTo>
                    <a:pt x="4803" y="2268"/>
                  </a:lnTo>
                  <a:lnTo>
                    <a:pt x="4809" y="2340"/>
                  </a:lnTo>
                  <a:lnTo>
                    <a:pt x="4815" y="2388"/>
                  </a:lnTo>
                  <a:lnTo>
                    <a:pt x="4812" y="2442"/>
                  </a:lnTo>
                  <a:lnTo>
                    <a:pt x="4839" y="2472"/>
                  </a:lnTo>
                  <a:lnTo>
                    <a:pt x="4890" y="2508"/>
                  </a:lnTo>
                  <a:lnTo>
                    <a:pt x="4935" y="2556"/>
                  </a:lnTo>
                  <a:lnTo>
                    <a:pt x="4947" y="2616"/>
                  </a:lnTo>
                  <a:lnTo>
                    <a:pt x="4983" y="2694"/>
                  </a:lnTo>
                  <a:lnTo>
                    <a:pt x="5031" y="2790"/>
                  </a:lnTo>
                  <a:lnTo>
                    <a:pt x="5034" y="2826"/>
                  </a:lnTo>
                  <a:lnTo>
                    <a:pt x="5031" y="2862"/>
                  </a:lnTo>
                  <a:lnTo>
                    <a:pt x="4971" y="2952"/>
                  </a:lnTo>
                  <a:lnTo>
                    <a:pt x="4926" y="3042"/>
                  </a:lnTo>
                  <a:lnTo>
                    <a:pt x="4884" y="3117"/>
                  </a:lnTo>
                  <a:lnTo>
                    <a:pt x="4881" y="3204"/>
                  </a:lnTo>
                  <a:lnTo>
                    <a:pt x="4857" y="3300"/>
                  </a:lnTo>
                  <a:lnTo>
                    <a:pt x="4851" y="3366"/>
                  </a:lnTo>
                  <a:lnTo>
                    <a:pt x="4833" y="3468"/>
                  </a:lnTo>
                  <a:lnTo>
                    <a:pt x="4815" y="3546"/>
                  </a:lnTo>
                  <a:lnTo>
                    <a:pt x="4791" y="3630"/>
                  </a:lnTo>
                  <a:lnTo>
                    <a:pt x="4758" y="3567"/>
                  </a:lnTo>
                  <a:lnTo>
                    <a:pt x="4755" y="3480"/>
                  </a:lnTo>
                  <a:lnTo>
                    <a:pt x="4743" y="3432"/>
                  </a:lnTo>
                  <a:lnTo>
                    <a:pt x="4707" y="3408"/>
                  </a:lnTo>
                  <a:lnTo>
                    <a:pt x="4653" y="3420"/>
                  </a:lnTo>
                  <a:lnTo>
                    <a:pt x="4611" y="3426"/>
                  </a:lnTo>
                  <a:lnTo>
                    <a:pt x="4557" y="3408"/>
                  </a:lnTo>
                  <a:lnTo>
                    <a:pt x="4497" y="3396"/>
                  </a:lnTo>
                  <a:lnTo>
                    <a:pt x="4443" y="3420"/>
                  </a:lnTo>
                  <a:lnTo>
                    <a:pt x="4362" y="3438"/>
                  </a:lnTo>
                  <a:lnTo>
                    <a:pt x="4329" y="3492"/>
                  </a:lnTo>
                  <a:lnTo>
                    <a:pt x="4341" y="3546"/>
                  </a:lnTo>
                  <a:lnTo>
                    <a:pt x="4335" y="3588"/>
                  </a:lnTo>
                  <a:lnTo>
                    <a:pt x="4281" y="3600"/>
                  </a:lnTo>
                  <a:lnTo>
                    <a:pt x="4263" y="3642"/>
                  </a:lnTo>
                  <a:lnTo>
                    <a:pt x="4203" y="3633"/>
                  </a:lnTo>
                  <a:lnTo>
                    <a:pt x="4149" y="3636"/>
                  </a:lnTo>
                  <a:lnTo>
                    <a:pt x="4107" y="3660"/>
                  </a:lnTo>
                  <a:lnTo>
                    <a:pt x="4059" y="3696"/>
                  </a:lnTo>
                  <a:lnTo>
                    <a:pt x="3969" y="3720"/>
                  </a:lnTo>
                  <a:lnTo>
                    <a:pt x="3897" y="3738"/>
                  </a:lnTo>
                  <a:lnTo>
                    <a:pt x="3801" y="3774"/>
                  </a:lnTo>
                  <a:lnTo>
                    <a:pt x="3723" y="3786"/>
                  </a:lnTo>
                  <a:lnTo>
                    <a:pt x="3675" y="3792"/>
                  </a:lnTo>
                  <a:lnTo>
                    <a:pt x="3609" y="3828"/>
                  </a:lnTo>
                  <a:lnTo>
                    <a:pt x="3564" y="3825"/>
                  </a:lnTo>
                  <a:lnTo>
                    <a:pt x="3531" y="3804"/>
                  </a:lnTo>
                  <a:lnTo>
                    <a:pt x="3483" y="3810"/>
                  </a:lnTo>
                  <a:lnTo>
                    <a:pt x="3387" y="3804"/>
                  </a:lnTo>
                  <a:lnTo>
                    <a:pt x="3327" y="3762"/>
                  </a:lnTo>
                  <a:lnTo>
                    <a:pt x="3291" y="3732"/>
                  </a:lnTo>
                  <a:lnTo>
                    <a:pt x="3249" y="3714"/>
                  </a:lnTo>
                  <a:lnTo>
                    <a:pt x="3195" y="3648"/>
                  </a:lnTo>
                  <a:lnTo>
                    <a:pt x="3153" y="3612"/>
                  </a:lnTo>
                  <a:lnTo>
                    <a:pt x="3099" y="3606"/>
                  </a:lnTo>
                  <a:lnTo>
                    <a:pt x="3027" y="3606"/>
                  </a:lnTo>
                  <a:lnTo>
                    <a:pt x="2961" y="3582"/>
                  </a:lnTo>
                  <a:lnTo>
                    <a:pt x="2901" y="3564"/>
                  </a:lnTo>
                  <a:lnTo>
                    <a:pt x="2808" y="3561"/>
                  </a:lnTo>
                  <a:lnTo>
                    <a:pt x="2739" y="3522"/>
                  </a:lnTo>
                  <a:lnTo>
                    <a:pt x="2661" y="3486"/>
                  </a:lnTo>
                  <a:lnTo>
                    <a:pt x="2571" y="3438"/>
                  </a:lnTo>
                  <a:lnTo>
                    <a:pt x="2529" y="3402"/>
                  </a:lnTo>
                  <a:lnTo>
                    <a:pt x="2493" y="3348"/>
                  </a:lnTo>
                  <a:lnTo>
                    <a:pt x="2457" y="3306"/>
                  </a:lnTo>
                  <a:lnTo>
                    <a:pt x="2421" y="3258"/>
                  </a:lnTo>
                  <a:lnTo>
                    <a:pt x="2379" y="3270"/>
                  </a:lnTo>
                  <a:lnTo>
                    <a:pt x="2349" y="3222"/>
                  </a:lnTo>
                  <a:lnTo>
                    <a:pt x="2319" y="3186"/>
                  </a:lnTo>
                  <a:lnTo>
                    <a:pt x="2235" y="3186"/>
                  </a:lnTo>
                  <a:lnTo>
                    <a:pt x="2151" y="3204"/>
                  </a:lnTo>
                  <a:lnTo>
                    <a:pt x="2061" y="3234"/>
                  </a:lnTo>
                  <a:lnTo>
                    <a:pt x="1923" y="3246"/>
                  </a:lnTo>
                  <a:lnTo>
                    <a:pt x="1851" y="3264"/>
                  </a:lnTo>
                  <a:lnTo>
                    <a:pt x="1797" y="3282"/>
                  </a:lnTo>
                  <a:lnTo>
                    <a:pt x="1731" y="3306"/>
                  </a:lnTo>
                  <a:lnTo>
                    <a:pt x="1659" y="3384"/>
                  </a:lnTo>
                  <a:lnTo>
                    <a:pt x="1635" y="3414"/>
                  </a:lnTo>
                  <a:lnTo>
                    <a:pt x="1557" y="3378"/>
                  </a:lnTo>
                  <a:lnTo>
                    <a:pt x="1509" y="3324"/>
                  </a:lnTo>
                  <a:lnTo>
                    <a:pt x="1455" y="3330"/>
                  </a:lnTo>
                  <a:lnTo>
                    <a:pt x="1383" y="3312"/>
                  </a:lnTo>
                  <a:lnTo>
                    <a:pt x="1305" y="3330"/>
                  </a:lnTo>
                  <a:lnTo>
                    <a:pt x="1257" y="3378"/>
                  </a:lnTo>
                  <a:lnTo>
                    <a:pt x="1179" y="3384"/>
                  </a:lnTo>
                  <a:lnTo>
                    <a:pt x="1047" y="3384"/>
                  </a:lnTo>
                  <a:lnTo>
                    <a:pt x="987" y="3378"/>
                  </a:lnTo>
                  <a:lnTo>
                    <a:pt x="861" y="3369"/>
                  </a:lnTo>
                  <a:lnTo>
                    <a:pt x="771" y="3366"/>
                  </a:lnTo>
                  <a:lnTo>
                    <a:pt x="675" y="3402"/>
                  </a:lnTo>
                  <a:lnTo>
                    <a:pt x="627" y="3450"/>
                  </a:lnTo>
                  <a:lnTo>
                    <a:pt x="573" y="3426"/>
                  </a:lnTo>
                  <a:lnTo>
                    <a:pt x="504" y="3471"/>
                  </a:lnTo>
                  <a:lnTo>
                    <a:pt x="411" y="3510"/>
                  </a:lnTo>
                  <a:lnTo>
                    <a:pt x="339" y="3492"/>
                  </a:lnTo>
                  <a:lnTo>
                    <a:pt x="252" y="3483"/>
                  </a:lnTo>
                  <a:lnTo>
                    <a:pt x="189" y="3444"/>
                  </a:lnTo>
                  <a:lnTo>
                    <a:pt x="123" y="34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83a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5960" y="3708360"/>
              <a:ext cx="3473280" cy="2457360"/>
            </a:xfrm>
            <a:custGeom>
              <a:avLst/>
              <a:gdLst/>
              <a:ahLst/>
              <a:rect l="l" t="t" r="r" b="b"/>
              <a:pathLst>
                <a:path w="2188" h="1548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2" y="1428"/>
                  </a:lnTo>
                  <a:lnTo>
                    <a:pt x="1456" y="1408"/>
                  </a:lnTo>
                  <a:lnTo>
                    <a:pt x="1436" y="1392"/>
                  </a:lnTo>
                  <a:lnTo>
                    <a:pt x="1408" y="1364"/>
                  </a:lnTo>
                  <a:lnTo>
                    <a:pt x="1384" y="1348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196" y="1376"/>
                  </a:lnTo>
                  <a:lnTo>
                    <a:pt x="1176" y="1404"/>
                  </a:lnTo>
                  <a:lnTo>
                    <a:pt x="1156" y="1424"/>
                  </a:lnTo>
                  <a:lnTo>
                    <a:pt x="1100" y="1428"/>
                  </a:lnTo>
                  <a:lnTo>
                    <a:pt x="1076" y="1428"/>
                  </a:lnTo>
                  <a:lnTo>
                    <a:pt x="1048" y="1432"/>
                  </a:lnTo>
                  <a:lnTo>
                    <a:pt x="1024" y="1436"/>
                  </a:lnTo>
                  <a:lnTo>
                    <a:pt x="976" y="1432"/>
                  </a:lnTo>
                  <a:lnTo>
                    <a:pt x="952" y="1420"/>
                  </a:lnTo>
                  <a:lnTo>
                    <a:pt x="928" y="1412"/>
                  </a:lnTo>
                  <a:lnTo>
                    <a:pt x="904" y="1424"/>
                  </a:lnTo>
                  <a:lnTo>
                    <a:pt x="864" y="1436"/>
                  </a:lnTo>
                  <a:lnTo>
                    <a:pt x="832" y="1420"/>
                  </a:lnTo>
                  <a:lnTo>
                    <a:pt x="808" y="1416"/>
                  </a:lnTo>
                  <a:lnTo>
                    <a:pt x="784" y="1408"/>
                  </a:lnTo>
                  <a:lnTo>
                    <a:pt x="716" y="1396"/>
                  </a:lnTo>
                  <a:lnTo>
                    <a:pt x="692" y="1396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lnTo>
                    <a:pt x="560" y="1488"/>
                  </a:lnTo>
                  <a:cubicBezTo>
                    <a:pt x="551" y="1488"/>
                    <a:pt x="541" y="1488"/>
                    <a:pt x="532" y="1488"/>
                  </a:cubicBezTo>
                  <a:lnTo>
                    <a:pt x="508" y="1480"/>
                  </a:lnTo>
                  <a:lnTo>
                    <a:pt x="476" y="1460"/>
                  </a:lnTo>
                  <a:lnTo>
                    <a:pt x="412" y="1500"/>
                  </a:lnTo>
                  <a:lnTo>
                    <a:pt x="380" y="1524"/>
                  </a:lnTo>
                  <a:lnTo>
                    <a:pt x="356" y="1548"/>
                  </a:lnTo>
                  <a:lnTo>
                    <a:pt x="304" y="1548"/>
                  </a:lnTo>
                  <a:lnTo>
                    <a:pt x="252" y="1536"/>
                  </a:lnTo>
                  <a:lnTo>
                    <a:pt x="212" y="1532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2" y="1472"/>
                  </a:lnTo>
                  <a:lnTo>
                    <a:pt x="24" y="1468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2082960"/>
              <a:ext cx="1111320" cy="1517400"/>
            </a:xfrm>
            <a:custGeom>
              <a:avLst/>
              <a:gdLst/>
              <a:ahLst/>
              <a:rect l="l" t="t" r="r" b="b"/>
              <a:pathLst>
                <a:path w="700" h="956">
                  <a:moveTo>
                    <a:pt x="140" y="940"/>
                  </a:moveTo>
                  <a:lnTo>
                    <a:pt x="176" y="956"/>
                  </a:lnTo>
                  <a:lnTo>
                    <a:pt x="236" y="952"/>
                  </a:lnTo>
                  <a:lnTo>
                    <a:pt x="264" y="932"/>
                  </a:lnTo>
                  <a:lnTo>
                    <a:pt x="300" y="944"/>
                  </a:lnTo>
                  <a:lnTo>
                    <a:pt x="340" y="956"/>
                  </a:lnTo>
                  <a:lnTo>
                    <a:pt x="376" y="956"/>
                  </a:lnTo>
                  <a:lnTo>
                    <a:pt x="396" y="924"/>
                  </a:lnTo>
                  <a:lnTo>
                    <a:pt x="372" y="888"/>
                  </a:lnTo>
                  <a:lnTo>
                    <a:pt x="376" y="852"/>
                  </a:lnTo>
                  <a:lnTo>
                    <a:pt x="412" y="844"/>
                  </a:lnTo>
                  <a:lnTo>
                    <a:pt x="432" y="860"/>
                  </a:lnTo>
                  <a:lnTo>
                    <a:pt x="476" y="888"/>
                  </a:lnTo>
                  <a:lnTo>
                    <a:pt x="524" y="884"/>
                  </a:lnTo>
                  <a:lnTo>
                    <a:pt x="544" y="872"/>
                  </a:lnTo>
                  <a:lnTo>
                    <a:pt x="556" y="856"/>
                  </a:lnTo>
                  <a:lnTo>
                    <a:pt x="544" y="832"/>
                  </a:lnTo>
                  <a:lnTo>
                    <a:pt x="544" y="780"/>
                  </a:lnTo>
                  <a:lnTo>
                    <a:pt x="548" y="752"/>
                  </a:lnTo>
                  <a:lnTo>
                    <a:pt x="576" y="744"/>
                  </a:lnTo>
                  <a:lnTo>
                    <a:pt x="632" y="716"/>
                  </a:lnTo>
                  <a:lnTo>
                    <a:pt x="668" y="704"/>
                  </a:lnTo>
                  <a:lnTo>
                    <a:pt x="696" y="664"/>
                  </a:lnTo>
                  <a:lnTo>
                    <a:pt x="700" y="636"/>
                  </a:lnTo>
                  <a:lnTo>
                    <a:pt x="684" y="616"/>
                  </a:lnTo>
                  <a:lnTo>
                    <a:pt x="656" y="612"/>
                  </a:lnTo>
                  <a:lnTo>
                    <a:pt x="632" y="592"/>
                  </a:lnTo>
                  <a:lnTo>
                    <a:pt x="632" y="560"/>
                  </a:lnTo>
                  <a:lnTo>
                    <a:pt x="652" y="532"/>
                  </a:lnTo>
                  <a:lnTo>
                    <a:pt x="684" y="508"/>
                  </a:lnTo>
                  <a:lnTo>
                    <a:pt x="676" y="480"/>
                  </a:lnTo>
                  <a:lnTo>
                    <a:pt x="660" y="460"/>
                  </a:lnTo>
                  <a:lnTo>
                    <a:pt x="656" y="420"/>
                  </a:lnTo>
                  <a:lnTo>
                    <a:pt x="652" y="388"/>
                  </a:lnTo>
                  <a:lnTo>
                    <a:pt x="644" y="348"/>
                  </a:lnTo>
                  <a:lnTo>
                    <a:pt x="620" y="308"/>
                  </a:lnTo>
                  <a:lnTo>
                    <a:pt x="612" y="272"/>
                  </a:lnTo>
                  <a:lnTo>
                    <a:pt x="564" y="208"/>
                  </a:lnTo>
                  <a:lnTo>
                    <a:pt x="580" y="144"/>
                  </a:lnTo>
                  <a:lnTo>
                    <a:pt x="580" y="96"/>
                  </a:lnTo>
                  <a:lnTo>
                    <a:pt x="612" y="56"/>
                  </a:lnTo>
                  <a:lnTo>
                    <a:pt x="620" y="20"/>
                  </a:lnTo>
                  <a:lnTo>
                    <a:pt x="588" y="0"/>
                  </a:lnTo>
                  <a:lnTo>
                    <a:pt x="552" y="20"/>
                  </a:lnTo>
                  <a:lnTo>
                    <a:pt x="516" y="20"/>
                  </a:lnTo>
                  <a:lnTo>
                    <a:pt x="492" y="4"/>
                  </a:lnTo>
                  <a:lnTo>
                    <a:pt x="464" y="28"/>
                  </a:lnTo>
                  <a:lnTo>
                    <a:pt x="436" y="104"/>
                  </a:lnTo>
                  <a:lnTo>
                    <a:pt x="368" y="152"/>
                  </a:lnTo>
                  <a:lnTo>
                    <a:pt x="320" y="152"/>
                  </a:lnTo>
                  <a:lnTo>
                    <a:pt x="288" y="124"/>
                  </a:lnTo>
                  <a:lnTo>
                    <a:pt x="212" y="112"/>
                  </a:lnTo>
                  <a:lnTo>
                    <a:pt x="156" y="88"/>
                  </a:lnTo>
                  <a:lnTo>
                    <a:pt x="112" y="68"/>
                  </a:lnTo>
                  <a:lnTo>
                    <a:pt x="44" y="80"/>
                  </a:lnTo>
                  <a:lnTo>
                    <a:pt x="32" y="140"/>
                  </a:lnTo>
                  <a:lnTo>
                    <a:pt x="0" y="272"/>
                  </a:lnTo>
                  <a:lnTo>
                    <a:pt x="72" y="432"/>
                  </a:lnTo>
                  <a:lnTo>
                    <a:pt x="116" y="484"/>
                  </a:lnTo>
                  <a:lnTo>
                    <a:pt x="120" y="536"/>
                  </a:lnTo>
                  <a:lnTo>
                    <a:pt x="176" y="624"/>
                  </a:lnTo>
                  <a:lnTo>
                    <a:pt x="144" y="684"/>
                  </a:lnTo>
                  <a:lnTo>
                    <a:pt x="140" y="9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68680" y="2235240"/>
              <a:ext cx="3575160" cy="4349880"/>
            </a:xfrm>
            <a:custGeom>
              <a:avLst/>
              <a:gdLst/>
              <a:ahLst/>
              <a:rect l="l" t="t" r="r" b="b"/>
              <a:pathLst>
                <a:path w="2252" h="2740">
                  <a:moveTo>
                    <a:pt x="0" y="2208"/>
                  </a:moveTo>
                  <a:lnTo>
                    <a:pt x="52" y="2160"/>
                  </a:lnTo>
                  <a:lnTo>
                    <a:pt x="84" y="2132"/>
                  </a:lnTo>
                  <a:lnTo>
                    <a:pt x="124" y="2116"/>
                  </a:lnTo>
                  <a:lnTo>
                    <a:pt x="156" y="2140"/>
                  </a:lnTo>
                  <a:lnTo>
                    <a:pt x="196" y="2112"/>
                  </a:lnTo>
                  <a:lnTo>
                    <a:pt x="244" y="2088"/>
                  </a:lnTo>
                  <a:lnTo>
                    <a:pt x="276" y="2060"/>
                  </a:lnTo>
                  <a:lnTo>
                    <a:pt x="284" y="2028"/>
                  </a:lnTo>
                  <a:lnTo>
                    <a:pt x="300" y="2000"/>
                  </a:lnTo>
                  <a:lnTo>
                    <a:pt x="312" y="1968"/>
                  </a:lnTo>
                  <a:lnTo>
                    <a:pt x="344" y="1952"/>
                  </a:lnTo>
                  <a:lnTo>
                    <a:pt x="380" y="1940"/>
                  </a:lnTo>
                  <a:lnTo>
                    <a:pt x="412" y="1932"/>
                  </a:lnTo>
                  <a:lnTo>
                    <a:pt x="432" y="1948"/>
                  </a:lnTo>
                  <a:lnTo>
                    <a:pt x="428" y="1988"/>
                  </a:lnTo>
                  <a:lnTo>
                    <a:pt x="452" y="2028"/>
                  </a:lnTo>
                  <a:lnTo>
                    <a:pt x="476" y="2012"/>
                  </a:lnTo>
                  <a:lnTo>
                    <a:pt x="480" y="1968"/>
                  </a:lnTo>
                  <a:lnTo>
                    <a:pt x="480" y="1932"/>
                  </a:lnTo>
                  <a:lnTo>
                    <a:pt x="476" y="1904"/>
                  </a:lnTo>
                  <a:lnTo>
                    <a:pt x="536" y="1888"/>
                  </a:lnTo>
                  <a:lnTo>
                    <a:pt x="568" y="1908"/>
                  </a:lnTo>
                  <a:lnTo>
                    <a:pt x="604" y="1908"/>
                  </a:lnTo>
                  <a:lnTo>
                    <a:pt x="624" y="1888"/>
                  </a:lnTo>
                  <a:lnTo>
                    <a:pt x="668" y="1892"/>
                  </a:lnTo>
                  <a:lnTo>
                    <a:pt x="680" y="1916"/>
                  </a:lnTo>
                  <a:lnTo>
                    <a:pt x="704" y="1940"/>
                  </a:lnTo>
                  <a:lnTo>
                    <a:pt x="756" y="1948"/>
                  </a:lnTo>
                  <a:lnTo>
                    <a:pt x="792" y="1972"/>
                  </a:lnTo>
                  <a:lnTo>
                    <a:pt x="820" y="2004"/>
                  </a:lnTo>
                  <a:lnTo>
                    <a:pt x="852" y="2028"/>
                  </a:lnTo>
                  <a:lnTo>
                    <a:pt x="876" y="1996"/>
                  </a:lnTo>
                  <a:lnTo>
                    <a:pt x="880" y="1968"/>
                  </a:lnTo>
                  <a:lnTo>
                    <a:pt x="888" y="1944"/>
                  </a:lnTo>
                  <a:lnTo>
                    <a:pt x="868" y="1920"/>
                  </a:lnTo>
                  <a:lnTo>
                    <a:pt x="840" y="1920"/>
                  </a:lnTo>
                  <a:lnTo>
                    <a:pt x="816" y="1920"/>
                  </a:lnTo>
                  <a:lnTo>
                    <a:pt x="800" y="1896"/>
                  </a:lnTo>
                  <a:lnTo>
                    <a:pt x="776" y="1884"/>
                  </a:lnTo>
                  <a:lnTo>
                    <a:pt x="736" y="1876"/>
                  </a:lnTo>
                  <a:lnTo>
                    <a:pt x="708" y="1852"/>
                  </a:lnTo>
                  <a:lnTo>
                    <a:pt x="680" y="1840"/>
                  </a:lnTo>
                  <a:lnTo>
                    <a:pt x="616" y="1828"/>
                  </a:lnTo>
                  <a:lnTo>
                    <a:pt x="568" y="1804"/>
                  </a:lnTo>
                  <a:lnTo>
                    <a:pt x="556" y="1780"/>
                  </a:lnTo>
                  <a:lnTo>
                    <a:pt x="544" y="1744"/>
                  </a:lnTo>
                  <a:lnTo>
                    <a:pt x="516" y="1724"/>
                  </a:lnTo>
                  <a:lnTo>
                    <a:pt x="508" y="1692"/>
                  </a:lnTo>
                  <a:lnTo>
                    <a:pt x="536" y="1684"/>
                  </a:lnTo>
                  <a:lnTo>
                    <a:pt x="532" y="1648"/>
                  </a:lnTo>
                  <a:lnTo>
                    <a:pt x="516" y="1624"/>
                  </a:lnTo>
                  <a:lnTo>
                    <a:pt x="488" y="1592"/>
                  </a:lnTo>
                  <a:lnTo>
                    <a:pt x="468" y="1560"/>
                  </a:lnTo>
                  <a:lnTo>
                    <a:pt x="456" y="1532"/>
                  </a:lnTo>
                  <a:lnTo>
                    <a:pt x="456" y="1504"/>
                  </a:lnTo>
                  <a:lnTo>
                    <a:pt x="432" y="1464"/>
                  </a:lnTo>
                  <a:lnTo>
                    <a:pt x="412" y="1444"/>
                  </a:lnTo>
                  <a:lnTo>
                    <a:pt x="400" y="1408"/>
                  </a:lnTo>
                  <a:lnTo>
                    <a:pt x="408" y="1380"/>
                  </a:lnTo>
                  <a:lnTo>
                    <a:pt x="420" y="1344"/>
                  </a:lnTo>
                  <a:lnTo>
                    <a:pt x="416" y="1316"/>
                  </a:lnTo>
                  <a:lnTo>
                    <a:pt x="428" y="1288"/>
                  </a:lnTo>
                  <a:lnTo>
                    <a:pt x="416" y="1256"/>
                  </a:lnTo>
                  <a:lnTo>
                    <a:pt x="408" y="1220"/>
                  </a:lnTo>
                  <a:lnTo>
                    <a:pt x="456" y="1196"/>
                  </a:lnTo>
                  <a:lnTo>
                    <a:pt x="492" y="1180"/>
                  </a:lnTo>
                  <a:lnTo>
                    <a:pt x="512" y="1140"/>
                  </a:lnTo>
                  <a:lnTo>
                    <a:pt x="548" y="1136"/>
                  </a:lnTo>
                  <a:lnTo>
                    <a:pt x="580" y="1176"/>
                  </a:lnTo>
                  <a:lnTo>
                    <a:pt x="580" y="1216"/>
                  </a:lnTo>
                  <a:lnTo>
                    <a:pt x="584" y="1248"/>
                  </a:lnTo>
                  <a:lnTo>
                    <a:pt x="572" y="1288"/>
                  </a:lnTo>
                  <a:lnTo>
                    <a:pt x="572" y="1336"/>
                  </a:lnTo>
                  <a:lnTo>
                    <a:pt x="596" y="1364"/>
                  </a:lnTo>
                  <a:lnTo>
                    <a:pt x="612" y="1388"/>
                  </a:lnTo>
                  <a:lnTo>
                    <a:pt x="620" y="1420"/>
                  </a:lnTo>
                  <a:lnTo>
                    <a:pt x="664" y="1428"/>
                  </a:lnTo>
                  <a:lnTo>
                    <a:pt x="672" y="1456"/>
                  </a:lnTo>
                  <a:lnTo>
                    <a:pt x="700" y="1436"/>
                  </a:lnTo>
                  <a:lnTo>
                    <a:pt x="688" y="1408"/>
                  </a:lnTo>
                  <a:lnTo>
                    <a:pt x="676" y="1376"/>
                  </a:lnTo>
                  <a:lnTo>
                    <a:pt x="680" y="1344"/>
                  </a:lnTo>
                  <a:lnTo>
                    <a:pt x="712" y="1328"/>
                  </a:lnTo>
                  <a:lnTo>
                    <a:pt x="736" y="1316"/>
                  </a:lnTo>
                  <a:lnTo>
                    <a:pt x="764" y="1312"/>
                  </a:lnTo>
                  <a:lnTo>
                    <a:pt x="804" y="1328"/>
                  </a:lnTo>
                  <a:lnTo>
                    <a:pt x="808" y="1356"/>
                  </a:lnTo>
                  <a:lnTo>
                    <a:pt x="844" y="1388"/>
                  </a:lnTo>
                  <a:lnTo>
                    <a:pt x="872" y="1412"/>
                  </a:lnTo>
                  <a:lnTo>
                    <a:pt x="912" y="1420"/>
                  </a:lnTo>
                  <a:lnTo>
                    <a:pt x="928" y="1372"/>
                  </a:lnTo>
                  <a:lnTo>
                    <a:pt x="928" y="1328"/>
                  </a:lnTo>
                  <a:lnTo>
                    <a:pt x="920" y="1284"/>
                  </a:lnTo>
                  <a:lnTo>
                    <a:pt x="904" y="1252"/>
                  </a:lnTo>
                  <a:lnTo>
                    <a:pt x="904" y="1220"/>
                  </a:lnTo>
                  <a:lnTo>
                    <a:pt x="888" y="1172"/>
                  </a:lnTo>
                  <a:lnTo>
                    <a:pt x="880" y="1104"/>
                  </a:lnTo>
                  <a:lnTo>
                    <a:pt x="872" y="1076"/>
                  </a:lnTo>
                  <a:lnTo>
                    <a:pt x="860" y="1040"/>
                  </a:lnTo>
                  <a:lnTo>
                    <a:pt x="856" y="996"/>
                  </a:lnTo>
                  <a:lnTo>
                    <a:pt x="884" y="992"/>
                  </a:lnTo>
                  <a:lnTo>
                    <a:pt x="900" y="1020"/>
                  </a:lnTo>
                  <a:lnTo>
                    <a:pt x="912" y="1056"/>
                  </a:lnTo>
                  <a:lnTo>
                    <a:pt x="944" y="1084"/>
                  </a:lnTo>
                  <a:lnTo>
                    <a:pt x="976" y="1104"/>
                  </a:lnTo>
                  <a:lnTo>
                    <a:pt x="1008" y="1088"/>
                  </a:lnTo>
                  <a:lnTo>
                    <a:pt x="1028" y="1056"/>
                  </a:lnTo>
                  <a:lnTo>
                    <a:pt x="1048" y="1016"/>
                  </a:lnTo>
                  <a:lnTo>
                    <a:pt x="1068" y="980"/>
                  </a:lnTo>
                  <a:lnTo>
                    <a:pt x="1068" y="952"/>
                  </a:lnTo>
                  <a:lnTo>
                    <a:pt x="1056" y="924"/>
                  </a:lnTo>
                  <a:lnTo>
                    <a:pt x="1060" y="896"/>
                  </a:lnTo>
                  <a:lnTo>
                    <a:pt x="1116" y="888"/>
                  </a:lnTo>
                  <a:lnTo>
                    <a:pt x="1136" y="860"/>
                  </a:lnTo>
                  <a:lnTo>
                    <a:pt x="1128" y="804"/>
                  </a:lnTo>
                  <a:lnTo>
                    <a:pt x="1120" y="756"/>
                  </a:lnTo>
                  <a:lnTo>
                    <a:pt x="1080" y="732"/>
                  </a:lnTo>
                  <a:lnTo>
                    <a:pt x="1056" y="720"/>
                  </a:lnTo>
                  <a:lnTo>
                    <a:pt x="1016" y="668"/>
                  </a:lnTo>
                  <a:lnTo>
                    <a:pt x="1000" y="628"/>
                  </a:lnTo>
                  <a:lnTo>
                    <a:pt x="1028" y="588"/>
                  </a:lnTo>
                  <a:lnTo>
                    <a:pt x="1048" y="568"/>
                  </a:lnTo>
                  <a:lnTo>
                    <a:pt x="1036" y="532"/>
                  </a:lnTo>
                  <a:lnTo>
                    <a:pt x="1000" y="488"/>
                  </a:lnTo>
                  <a:lnTo>
                    <a:pt x="976" y="452"/>
                  </a:lnTo>
                  <a:lnTo>
                    <a:pt x="944" y="396"/>
                  </a:lnTo>
                  <a:lnTo>
                    <a:pt x="948" y="352"/>
                  </a:lnTo>
                  <a:lnTo>
                    <a:pt x="968" y="292"/>
                  </a:lnTo>
                  <a:lnTo>
                    <a:pt x="992" y="284"/>
                  </a:lnTo>
                  <a:lnTo>
                    <a:pt x="1024" y="300"/>
                  </a:lnTo>
                  <a:lnTo>
                    <a:pt x="1048" y="324"/>
                  </a:lnTo>
                  <a:lnTo>
                    <a:pt x="1052" y="356"/>
                  </a:lnTo>
                  <a:lnTo>
                    <a:pt x="1052" y="404"/>
                  </a:lnTo>
                  <a:lnTo>
                    <a:pt x="1064" y="436"/>
                  </a:lnTo>
                  <a:lnTo>
                    <a:pt x="1104" y="440"/>
                  </a:lnTo>
                  <a:lnTo>
                    <a:pt x="1132" y="420"/>
                  </a:lnTo>
                  <a:lnTo>
                    <a:pt x="1176" y="428"/>
                  </a:lnTo>
                  <a:lnTo>
                    <a:pt x="1196" y="452"/>
                  </a:lnTo>
                  <a:lnTo>
                    <a:pt x="1232" y="476"/>
                  </a:lnTo>
                  <a:lnTo>
                    <a:pt x="1268" y="512"/>
                  </a:lnTo>
                  <a:lnTo>
                    <a:pt x="1276" y="556"/>
                  </a:lnTo>
                  <a:lnTo>
                    <a:pt x="1276" y="604"/>
                  </a:lnTo>
                  <a:lnTo>
                    <a:pt x="1260" y="648"/>
                  </a:lnTo>
                  <a:lnTo>
                    <a:pt x="1232" y="700"/>
                  </a:lnTo>
                  <a:lnTo>
                    <a:pt x="1224" y="740"/>
                  </a:lnTo>
                  <a:lnTo>
                    <a:pt x="1216" y="788"/>
                  </a:lnTo>
                  <a:lnTo>
                    <a:pt x="1212" y="820"/>
                  </a:lnTo>
                  <a:lnTo>
                    <a:pt x="1200" y="860"/>
                  </a:lnTo>
                  <a:lnTo>
                    <a:pt x="1188" y="892"/>
                  </a:lnTo>
                  <a:lnTo>
                    <a:pt x="1168" y="932"/>
                  </a:lnTo>
                  <a:lnTo>
                    <a:pt x="1120" y="980"/>
                  </a:lnTo>
                  <a:lnTo>
                    <a:pt x="1096" y="1036"/>
                  </a:lnTo>
                  <a:lnTo>
                    <a:pt x="1088" y="1068"/>
                  </a:lnTo>
                  <a:lnTo>
                    <a:pt x="1072" y="1116"/>
                  </a:lnTo>
                  <a:lnTo>
                    <a:pt x="1064" y="1148"/>
                  </a:lnTo>
                  <a:lnTo>
                    <a:pt x="1036" y="1188"/>
                  </a:lnTo>
                  <a:lnTo>
                    <a:pt x="1012" y="1236"/>
                  </a:lnTo>
                  <a:lnTo>
                    <a:pt x="1044" y="1260"/>
                  </a:lnTo>
                  <a:lnTo>
                    <a:pt x="1100" y="1260"/>
                  </a:lnTo>
                  <a:lnTo>
                    <a:pt x="1112" y="1224"/>
                  </a:lnTo>
                  <a:lnTo>
                    <a:pt x="1132" y="1180"/>
                  </a:lnTo>
                  <a:lnTo>
                    <a:pt x="1168" y="1148"/>
                  </a:lnTo>
                  <a:lnTo>
                    <a:pt x="1208" y="1116"/>
                  </a:lnTo>
                  <a:lnTo>
                    <a:pt x="1240" y="1076"/>
                  </a:lnTo>
                  <a:lnTo>
                    <a:pt x="1272" y="1028"/>
                  </a:lnTo>
                  <a:lnTo>
                    <a:pt x="1296" y="968"/>
                  </a:lnTo>
                  <a:lnTo>
                    <a:pt x="1308" y="932"/>
                  </a:lnTo>
                  <a:lnTo>
                    <a:pt x="1332" y="924"/>
                  </a:lnTo>
                  <a:lnTo>
                    <a:pt x="1372" y="948"/>
                  </a:lnTo>
                  <a:lnTo>
                    <a:pt x="1396" y="932"/>
                  </a:lnTo>
                  <a:lnTo>
                    <a:pt x="1396" y="888"/>
                  </a:lnTo>
                  <a:lnTo>
                    <a:pt x="1428" y="864"/>
                  </a:lnTo>
                  <a:lnTo>
                    <a:pt x="1448" y="828"/>
                  </a:lnTo>
                  <a:lnTo>
                    <a:pt x="1448" y="784"/>
                  </a:lnTo>
                  <a:lnTo>
                    <a:pt x="1464" y="708"/>
                  </a:lnTo>
                  <a:lnTo>
                    <a:pt x="1496" y="668"/>
                  </a:lnTo>
                  <a:lnTo>
                    <a:pt x="1520" y="616"/>
                  </a:lnTo>
                  <a:lnTo>
                    <a:pt x="1540" y="560"/>
                  </a:lnTo>
                  <a:lnTo>
                    <a:pt x="1560" y="532"/>
                  </a:lnTo>
                  <a:lnTo>
                    <a:pt x="1560" y="464"/>
                  </a:lnTo>
                  <a:lnTo>
                    <a:pt x="1572" y="400"/>
                  </a:lnTo>
                  <a:lnTo>
                    <a:pt x="1600" y="352"/>
                  </a:lnTo>
                  <a:lnTo>
                    <a:pt x="1616" y="316"/>
                  </a:lnTo>
                  <a:lnTo>
                    <a:pt x="1640" y="260"/>
                  </a:lnTo>
                  <a:lnTo>
                    <a:pt x="1700" y="192"/>
                  </a:lnTo>
                  <a:lnTo>
                    <a:pt x="1728" y="156"/>
                  </a:lnTo>
                  <a:lnTo>
                    <a:pt x="1760" y="124"/>
                  </a:lnTo>
                  <a:lnTo>
                    <a:pt x="1800" y="96"/>
                  </a:lnTo>
                  <a:lnTo>
                    <a:pt x="1844" y="104"/>
                  </a:lnTo>
                  <a:lnTo>
                    <a:pt x="1880" y="132"/>
                  </a:lnTo>
                  <a:lnTo>
                    <a:pt x="1920" y="148"/>
                  </a:lnTo>
                  <a:lnTo>
                    <a:pt x="1956" y="128"/>
                  </a:lnTo>
                  <a:lnTo>
                    <a:pt x="1964" y="76"/>
                  </a:lnTo>
                  <a:lnTo>
                    <a:pt x="1964" y="28"/>
                  </a:lnTo>
                  <a:lnTo>
                    <a:pt x="2012" y="0"/>
                  </a:lnTo>
                  <a:lnTo>
                    <a:pt x="2036" y="20"/>
                  </a:lnTo>
                  <a:lnTo>
                    <a:pt x="2080" y="44"/>
                  </a:lnTo>
                  <a:lnTo>
                    <a:pt x="2124" y="44"/>
                  </a:lnTo>
                  <a:lnTo>
                    <a:pt x="2188" y="36"/>
                  </a:lnTo>
                  <a:lnTo>
                    <a:pt x="2212" y="44"/>
                  </a:lnTo>
                  <a:lnTo>
                    <a:pt x="2228" y="76"/>
                  </a:lnTo>
                  <a:lnTo>
                    <a:pt x="2252" y="148"/>
                  </a:lnTo>
                  <a:lnTo>
                    <a:pt x="2252" y="192"/>
                  </a:lnTo>
                  <a:lnTo>
                    <a:pt x="2240" y="224"/>
                  </a:lnTo>
                  <a:lnTo>
                    <a:pt x="2176" y="208"/>
                  </a:lnTo>
                  <a:lnTo>
                    <a:pt x="2156" y="188"/>
                  </a:lnTo>
                  <a:lnTo>
                    <a:pt x="2112" y="192"/>
                  </a:lnTo>
                  <a:lnTo>
                    <a:pt x="2088" y="224"/>
                  </a:lnTo>
                  <a:lnTo>
                    <a:pt x="2060" y="244"/>
                  </a:lnTo>
                  <a:lnTo>
                    <a:pt x="2032" y="268"/>
                  </a:lnTo>
                  <a:lnTo>
                    <a:pt x="1984" y="296"/>
                  </a:lnTo>
                  <a:lnTo>
                    <a:pt x="1956" y="352"/>
                  </a:lnTo>
                  <a:lnTo>
                    <a:pt x="1956" y="380"/>
                  </a:lnTo>
                  <a:lnTo>
                    <a:pt x="2020" y="412"/>
                  </a:lnTo>
                  <a:lnTo>
                    <a:pt x="2040" y="376"/>
                  </a:lnTo>
                  <a:lnTo>
                    <a:pt x="2068" y="340"/>
                  </a:lnTo>
                  <a:lnTo>
                    <a:pt x="2100" y="352"/>
                  </a:lnTo>
                  <a:lnTo>
                    <a:pt x="2108" y="392"/>
                  </a:lnTo>
                  <a:lnTo>
                    <a:pt x="2108" y="436"/>
                  </a:lnTo>
                  <a:lnTo>
                    <a:pt x="2108" y="476"/>
                  </a:lnTo>
                  <a:lnTo>
                    <a:pt x="2116" y="520"/>
                  </a:lnTo>
                  <a:lnTo>
                    <a:pt x="2168" y="556"/>
                  </a:lnTo>
                  <a:lnTo>
                    <a:pt x="2200" y="584"/>
                  </a:lnTo>
                  <a:lnTo>
                    <a:pt x="2232" y="624"/>
                  </a:lnTo>
                  <a:lnTo>
                    <a:pt x="2204" y="676"/>
                  </a:lnTo>
                  <a:lnTo>
                    <a:pt x="2168" y="676"/>
                  </a:lnTo>
                  <a:lnTo>
                    <a:pt x="2140" y="652"/>
                  </a:lnTo>
                  <a:lnTo>
                    <a:pt x="2112" y="628"/>
                  </a:lnTo>
                  <a:lnTo>
                    <a:pt x="2084" y="628"/>
                  </a:lnTo>
                  <a:lnTo>
                    <a:pt x="2056" y="660"/>
                  </a:lnTo>
                  <a:lnTo>
                    <a:pt x="2032" y="668"/>
                  </a:lnTo>
                  <a:lnTo>
                    <a:pt x="2000" y="660"/>
                  </a:lnTo>
                  <a:lnTo>
                    <a:pt x="1972" y="628"/>
                  </a:lnTo>
                  <a:lnTo>
                    <a:pt x="1940" y="620"/>
                  </a:lnTo>
                  <a:lnTo>
                    <a:pt x="1920" y="652"/>
                  </a:lnTo>
                  <a:lnTo>
                    <a:pt x="1880" y="644"/>
                  </a:lnTo>
                  <a:lnTo>
                    <a:pt x="1844" y="620"/>
                  </a:lnTo>
                  <a:lnTo>
                    <a:pt x="1840" y="664"/>
                  </a:lnTo>
                  <a:lnTo>
                    <a:pt x="1856" y="688"/>
                  </a:lnTo>
                  <a:lnTo>
                    <a:pt x="1904" y="724"/>
                  </a:lnTo>
                  <a:lnTo>
                    <a:pt x="1928" y="752"/>
                  </a:lnTo>
                  <a:lnTo>
                    <a:pt x="1964" y="784"/>
                  </a:lnTo>
                  <a:lnTo>
                    <a:pt x="2008" y="800"/>
                  </a:lnTo>
                  <a:lnTo>
                    <a:pt x="2036" y="852"/>
                  </a:lnTo>
                  <a:lnTo>
                    <a:pt x="2012" y="880"/>
                  </a:lnTo>
                  <a:lnTo>
                    <a:pt x="1972" y="892"/>
                  </a:lnTo>
                  <a:lnTo>
                    <a:pt x="1948" y="880"/>
                  </a:lnTo>
                  <a:lnTo>
                    <a:pt x="1900" y="852"/>
                  </a:lnTo>
                  <a:lnTo>
                    <a:pt x="1868" y="820"/>
                  </a:lnTo>
                  <a:lnTo>
                    <a:pt x="1832" y="808"/>
                  </a:lnTo>
                  <a:lnTo>
                    <a:pt x="1812" y="832"/>
                  </a:lnTo>
                  <a:lnTo>
                    <a:pt x="1816" y="868"/>
                  </a:lnTo>
                  <a:lnTo>
                    <a:pt x="1828" y="904"/>
                  </a:lnTo>
                  <a:cubicBezTo>
                    <a:pt x="1815" y="908"/>
                    <a:pt x="1820" y="908"/>
                    <a:pt x="1812" y="908"/>
                  </a:cubicBezTo>
                  <a:lnTo>
                    <a:pt x="1760" y="884"/>
                  </a:lnTo>
                  <a:cubicBezTo>
                    <a:pt x="1717" y="888"/>
                    <a:pt x="1726" y="876"/>
                    <a:pt x="1716" y="896"/>
                  </a:cubicBezTo>
                  <a:lnTo>
                    <a:pt x="1716" y="928"/>
                  </a:lnTo>
                  <a:lnTo>
                    <a:pt x="1720" y="972"/>
                  </a:lnTo>
                  <a:lnTo>
                    <a:pt x="1736" y="1004"/>
                  </a:lnTo>
                  <a:lnTo>
                    <a:pt x="1784" y="1012"/>
                  </a:lnTo>
                  <a:lnTo>
                    <a:pt x="1820" y="1016"/>
                  </a:lnTo>
                  <a:lnTo>
                    <a:pt x="1836" y="1060"/>
                  </a:lnTo>
                  <a:lnTo>
                    <a:pt x="1804" y="1076"/>
                  </a:lnTo>
                  <a:lnTo>
                    <a:pt x="1760" y="1100"/>
                  </a:lnTo>
                  <a:lnTo>
                    <a:pt x="1720" y="1100"/>
                  </a:lnTo>
                  <a:lnTo>
                    <a:pt x="1668" y="1100"/>
                  </a:lnTo>
                  <a:lnTo>
                    <a:pt x="1632" y="1132"/>
                  </a:lnTo>
                  <a:lnTo>
                    <a:pt x="1656" y="1168"/>
                  </a:lnTo>
                  <a:lnTo>
                    <a:pt x="1688" y="1172"/>
                  </a:lnTo>
                  <a:lnTo>
                    <a:pt x="1756" y="1172"/>
                  </a:lnTo>
                  <a:lnTo>
                    <a:pt x="1816" y="1168"/>
                  </a:lnTo>
                  <a:lnTo>
                    <a:pt x="1864" y="1152"/>
                  </a:lnTo>
                  <a:lnTo>
                    <a:pt x="1908" y="1128"/>
                  </a:lnTo>
                  <a:lnTo>
                    <a:pt x="1960" y="1128"/>
                  </a:lnTo>
                  <a:lnTo>
                    <a:pt x="1992" y="1156"/>
                  </a:lnTo>
                  <a:lnTo>
                    <a:pt x="2012" y="1188"/>
                  </a:lnTo>
                  <a:lnTo>
                    <a:pt x="2004" y="1228"/>
                  </a:lnTo>
                  <a:lnTo>
                    <a:pt x="1964" y="1252"/>
                  </a:lnTo>
                  <a:lnTo>
                    <a:pt x="1952" y="1292"/>
                  </a:lnTo>
                  <a:lnTo>
                    <a:pt x="1964" y="1324"/>
                  </a:lnTo>
                  <a:lnTo>
                    <a:pt x="1992" y="1356"/>
                  </a:lnTo>
                  <a:lnTo>
                    <a:pt x="2024" y="1376"/>
                  </a:lnTo>
                  <a:lnTo>
                    <a:pt x="2052" y="1412"/>
                  </a:lnTo>
                  <a:lnTo>
                    <a:pt x="2076" y="1452"/>
                  </a:lnTo>
                  <a:lnTo>
                    <a:pt x="2036" y="1472"/>
                  </a:lnTo>
                  <a:lnTo>
                    <a:pt x="2008" y="1440"/>
                  </a:lnTo>
                  <a:lnTo>
                    <a:pt x="1980" y="1440"/>
                  </a:lnTo>
                  <a:lnTo>
                    <a:pt x="1968" y="1464"/>
                  </a:lnTo>
                  <a:lnTo>
                    <a:pt x="1976" y="1492"/>
                  </a:lnTo>
                  <a:lnTo>
                    <a:pt x="2016" y="1524"/>
                  </a:lnTo>
                  <a:lnTo>
                    <a:pt x="2024" y="1556"/>
                  </a:lnTo>
                  <a:lnTo>
                    <a:pt x="1996" y="1580"/>
                  </a:lnTo>
                  <a:lnTo>
                    <a:pt x="1956" y="1604"/>
                  </a:lnTo>
                  <a:lnTo>
                    <a:pt x="1912" y="1612"/>
                  </a:lnTo>
                  <a:lnTo>
                    <a:pt x="1896" y="1592"/>
                  </a:lnTo>
                  <a:lnTo>
                    <a:pt x="1884" y="1564"/>
                  </a:lnTo>
                  <a:lnTo>
                    <a:pt x="1872" y="1540"/>
                  </a:lnTo>
                  <a:lnTo>
                    <a:pt x="1852" y="1484"/>
                  </a:lnTo>
                  <a:lnTo>
                    <a:pt x="1820" y="1440"/>
                  </a:lnTo>
                  <a:lnTo>
                    <a:pt x="1792" y="1416"/>
                  </a:lnTo>
                  <a:lnTo>
                    <a:pt x="1744" y="1400"/>
                  </a:lnTo>
                  <a:lnTo>
                    <a:pt x="1732" y="1440"/>
                  </a:lnTo>
                  <a:lnTo>
                    <a:pt x="1748" y="1468"/>
                  </a:lnTo>
                  <a:lnTo>
                    <a:pt x="1768" y="1500"/>
                  </a:lnTo>
                  <a:lnTo>
                    <a:pt x="1780" y="1524"/>
                  </a:lnTo>
                  <a:lnTo>
                    <a:pt x="1788" y="1564"/>
                  </a:lnTo>
                  <a:lnTo>
                    <a:pt x="1784" y="1600"/>
                  </a:lnTo>
                  <a:lnTo>
                    <a:pt x="1788" y="1624"/>
                  </a:lnTo>
                  <a:lnTo>
                    <a:pt x="1832" y="1660"/>
                  </a:lnTo>
                  <a:lnTo>
                    <a:pt x="1864" y="1672"/>
                  </a:lnTo>
                  <a:lnTo>
                    <a:pt x="1900" y="1696"/>
                  </a:lnTo>
                  <a:lnTo>
                    <a:pt x="1864" y="1728"/>
                  </a:lnTo>
                  <a:lnTo>
                    <a:pt x="1836" y="1728"/>
                  </a:lnTo>
                  <a:lnTo>
                    <a:pt x="1804" y="1732"/>
                  </a:lnTo>
                  <a:lnTo>
                    <a:pt x="1776" y="1732"/>
                  </a:lnTo>
                  <a:lnTo>
                    <a:pt x="1720" y="1732"/>
                  </a:lnTo>
                  <a:lnTo>
                    <a:pt x="1668" y="1752"/>
                  </a:lnTo>
                  <a:lnTo>
                    <a:pt x="1652" y="1776"/>
                  </a:lnTo>
                  <a:lnTo>
                    <a:pt x="1660" y="1808"/>
                  </a:lnTo>
                  <a:lnTo>
                    <a:pt x="1700" y="1832"/>
                  </a:lnTo>
                  <a:lnTo>
                    <a:pt x="1744" y="1840"/>
                  </a:lnTo>
                  <a:lnTo>
                    <a:pt x="1776" y="1820"/>
                  </a:lnTo>
                  <a:lnTo>
                    <a:pt x="1824" y="1796"/>
                  </a:lnTo>
                  <a:lnTo>
                    <a:pt x="1868" y="1792"/>
                  </a:lnTo>
                  <a:lnTo>
                    <a:pt x="1904" y="1804"/>
                  </a:lnTo>
                  <a:lnTo>
                    <a:pt x="1920" y="1836"/>
                  </a:lnTo>
                  <a:lnTo>
                    <a:pt x="1912" y="1880"/>
                  </a:lnTo>
                  <a:lnTo>
                    <a:pt x="1872" y="1900"/>
                  </a:lnTo>
                  <a:lnTo>
                    <a:pt x="1848" y="1900"/>
                  </a:lnTo>
                  <a:lnTo>
                    <a:pt x="1812" y="1888"/>
                  </a:lnTo>
                  <a:lnTo>
                    <a:pt x="1776" y="1896"/>
                  </a:lnTo>
                  <a:lnTo>
                    <a:pt x="1748" y="1936"/>
                  </a:lnTo>
                  <a:lnTo>
                    <a:pt x="1748" y="1964"/>
                  </a:lnTo>
                  <a:lnTo>
                    <a:pt x="1764" y="1992"/>
                  </a:lnTo>
                  <a:lnTo>
                    <a:pt x="1804" y="2012"/>
                  </a:lnTo>
                  <a:lnTo>
                    <a:pt x="1840" y="2008"/>
                  </a:lnTo>
                  <a:lnTo>
                    <a:pt x="1880" y="1984"/>
                  </a:lnTo>
                  <a:lnTo>
                    <a:pt x="1908" y="1976"/>
                  </a:lnTo>
                  <a:lnTo>
                    <a:pt x="1928" y="1992"/>
                  </a:lnTo>
                  <a:lnTo>
                    <a:pt x="1928" y="2024"/>
                  </a:lnTo>
                  <a:lnTo>
                    <a:pt x="1916" y="2052"/>
                  </a:lnTo>
                  <a:lnTo>
                    <a:pt x="1924" y="2076"/>
                  </a:lnTo>
                  <a:lnTo>
                    <a:pt x="1952" y="2084"/>
                  </a:lnTo>
                  <a:lnTo>
                    <a:pt x="1980" y="2112"/>
                  </a:lnTo>
                  <a:lnTo>
                    <a:pt x="2000" y="2128"/>
                  </a:lnTo>
                  <a:lnTo>
                    <a:pt x="2060" y="2148"/>
                  </a:lnTo>
                  <a:lnTo>
                    <a:pt x="2080" y="2168"/>
                  </a:lnTo>
                  <a:lnTo>
                    <a:pt x="2048" y="2200"/>
                  </a:lnTo>
                  <a:lnTo>
                    <a:pt x="2008" y="2200"/>
                  </a:lnTo>
                  <a:lnTo>
                    <a:pt x="1952" y="2188"/>
                  </a:lnTo>
                  <a:lnTo>
                    <a:pt x="1936" y="2160"/>
                  </a:lnTo>
                  <a:lnTo>
                    <a:pt x="1912" y="2136"/>
                  </a:lnTo>
                  <a:lnTo>
                    <a:pt x="1892" y="2104"/>
                  </a:lnTo>
                  <a:lnTo>
                    <a:pt x="1872" y="2084"/>
                  </a:lnTo>
                  <a:lnTo>
                    <a:pt x="1836" y="2076"/>
                  </a:lnTo>
                  <a:lnTo>
                    <a:pt x="1800" y="2076"/>
                  </a:lnTo>
                  <a:lnTo>
                    <a:pt x="1744" y="2056"/>
                  </a:lnTo>
                  <a:lnTo>
                    <a:pt x="1720" y="2036"/>
                  </a:lnTo>
                  <a:lnTo>
                    <a:pt x="1660" y="2032"/>
                  </a:lnTo>
                  <a:lnTo>
                    <a:pt x="1612" y="2040"/>
                  </a:lnTo>
                  <a:lnTo>
                    <a:pt x="1556" y="2060"/>
                  </a:lnTo>
                  <a:lnTo>
                    <a:pt x="1528" y="2076"/>
                  </a:lnTo>
                  <a:lnTo>
                    <a:pt x="1528" y="2104"/>
                  </a:lnTo>
                  <a:lnTo>
                    <a:pt x="1560" y="2124"/>
                  </a:lnTo>
                  <a:lnTo>
                    <a:pt x="1592" y="2112"/>
                  </a:lnTo>
                  <a:lnTo>
                    <a:pt x="1624" y="2096"/>
                  </a:lnTo>
                  <a:lnTo>
                    <a:pt x="1660" y="2092"/>
                  </a:lnTo>
                  <a:lnTo>
                    <a:pt x="1688" y="2108"/>
                  </a:lnTo>
                  <a:lnTo>
                    <a:pt x="1696" y="2144"/>
                  </a:lnTo>
                  <a:lnTo>
                    <a:pt x="1712" y="2168"/>
                  </a:lnTo>
                  <a:lnTo>
                    <a:pt x="1748" y="2188"/>
                  </a:lnTo>
                  <a:lnTo>
                    <a:pt x="1796" y="2168"/>
                  </a:lnTo>
                  <a:lnTo>
                    <a:pt x="1832" y="2168"/>
                  </a:lnTo>
                  <a:lnTo>
                    <a:pt x="1864" y="2216"/>
                  </a:lnTo>
                  <a:lnTo>
                    <a:pt x="1880" y="2252"/>
                  </a:lnTo>
                  <a:lnTo>
                    <a:pt x="1912" y="2280"/>
                  </a:lnTo>
                  <a:lnTo>
                    <a:pt x="1960" y="2300"/>
                  </a:lnTo>
                  <a:lnTo>
                    <a:pt x="1996" y="2300"/>
                  </a:lnTo>
                  <a:lnTo>
                    <a:pt x="2040" y="2300"/>
                  </a:lnTo>
                  <a:lnTo>
                    <a:pt x="2076" y="2288"/>
                  </a:lnTo>
                  <a:lnTo>
                    <a:pt x="2120" y="2264"/>
                  </a:lnTo>
                  <a:lnTo>
                    <a:pt x="2160" y="2288"/>
                  </a:lnTo>
                  <a:lnTo>
                    <a:pt x="2176" y="2344"/>
                  </a:lnTo>
                  <a:lnTo>
                    <a:pt x="2184" y="2388"/>
                  </a:lnTo>
                  <a:lnTo>
                    <a:pt x="2164" y="2424"/>
                  </a:lnTo>
                  <a:lnTo>
                    <a:pt x="2108" y="2484"/>
                  </a:lnTo>
                  <a:lnTo>
                    <a:pt x="2064" y="2484"/>
                  </a:lnTo>
                  <a:lnTo>
                    <a:pt x="2024" y="2436"/>
                  </a:lnTo>
                  <a:lnTo>
                    <a:pt x="1976" y="2400"/>
                  </a:lnTo>
                  <a:lnTo>
                    <a:pt x="1936" y="2380"/>
                  </a:lnTo>
                  <a:lnTo>
                    <a:pt x="1896" y="2348"/>
                  </a:lnTo>
                  <a:lnTo>
                    <a:pt x="1864" y="2292"/>
                  </a:lnTo>
                  <a:lnTo>
                    <a:pt x="1824" y="2260"/>
                  </a:lnTo>
                  <a:lnTo>
                    <a:pt x="1788" y="2260"/>
                  </a:lnTo>
                  <a:lnTo>
                    <a:pt x="1788" y="2308"/>
                  </a:lnTo>
                  <a:lnTo>
                    <a:pt x="1812" y="2376"/>
                  </a:lnTo>
                  <a:lnTo>
                    <a:pt x="1832" y="2412"/>
                  </a:lnTo>
                  <a:lnTo>
                    <a:pt x="1840" y="2476"/>
                  </a:lnTo>
                  <a:lnTo>
                    <a:pt x="1812" y="2496"/>
                  </a:lnTo>
                  <a:lnTo>
                    <a:pt x="1784" y="2504"/>
                  </a:lnTo>
                  <a:lnTo>
                    <a:pt x="1728" y="2504"/>
                  </a:lnTo>
                  <a:lnTo>
                    <a:pt x="1668" y="2472"/>
                  </a:lnTo>
                  <a:lnTo>
                    <a:pt x="1628" y="2436"/>
                  </a:lnTo>
                  <a:lnTo>
                    <a:pt x="1576" y="2404"/>
                  </a:lnTo>
                  <a:lnTo>
                    <a:pt x="1532" y="2400"/>
                  </a:lnTo>
                  <a:lnTo>
                    <a:pt x="1484" y="2396"/>
                  </a:lnTo>
                  <a:cubicBezTo>
                    <a:pt x="1470" y="2382"/>
                    <a:pt x="1460" y="2364"/>
                    <a:pt x="1440" y="2384"/>
                  </a:cubicBezTo>
                  <a:lnTo>
                    <a:pt x="1416" y="2420"/>
                  </a:lnTo>
                  <a:lnTo>
                    <a:pt x="1376" y="2400"/>
                  </a:lnTo>
                  <a:lnTo>
                    <a:pt x="1352" y="2372"/>
                  </a:lnTo>
                  <a:lnTo>
                    <a:pt x="1320" y="2356"/>
                  </a:lnTo>
                  <a:lnTo>
                    <a:pt x="1284" y="2356"/>
                  </a:lnTo>
                  <a:lnTo>
                    <a:pt x="1256" y="2364"/>
                  </a:lnTo>
                  <a:lnTo>
                    <a:pt x="1256" y="2392"/>
                  </a:lnTo>
                  <a:lnTo>
                    <a:pt x="1276" y="2420"/>
                  </a:lnTo>
                  <a:lnTo>
                    <a:pt x="1316" y="2456"/>
                  </a:lnTo>
                  <a:lnTo>
                    <a:pt x="1368" y="2488"/>
                  </a:lnTo>
                  <a:lnTo>
                    <a:pt x="1432" y="2508"/>
                  </a:lnTo>
                  <a:lnTo>
                    <a:pt x="1484" y="2516"/>
                  </a:lnTo>
                  <a:lnTo>
                    <a:pt x="1548" y="2520"/>
                  </a:lnTo>
                  <a:lnTo>
                    <a:pt x="1624" y="2540"/>
                  </a:lnTo>
                  <a:lnTo>
                    <a:pt x="1708" y="2588"/>
                  </a:lnTo>
                  <a:lnTo>
                    <a:pt x="1744" y="2632"/>
                  </a:lnTo>
                  <a:lnTo>
                    <a:pt x="1760" y="2692"/>
                  </a:lnTo>
                  <a:lnTo>
                    <a:pt x="1716" y="2704"/>
                  </a:lnTo>
                  <a:lnTo>
                    <a:pt x="1672" y="2664"/>
                  </a:lnTo>
                  <a:lnTo>
                    <a:pt x="1644" y="2640"/>
                  </a:lnTo>
                  <a:lnTo>
                    <a:pt x="1596" y="2612"/>
                  </a:lnTo>
                  <a:lnTo>
                    <a:pt x="1540" y="2596"/>
                  </a:lnTo>
                  <a:lnTo>
                    <a:pt x="1512" y="2624"/>
                  </a:lnTo>
                  <a:lnTo>
                    <a:pt x="1496" y="2656"/>
                  </a:lnTo>
                  <a:lnTo>
                    <a:pt x="1456" y="2676"/>
                  </a:lnTo>
                  <a:lnTo>
                    <a:pt x="1432" y="2700"/>
                  </a:lnTo>
                  <a:lnTo>
                    <a:pt x="1360" y="2740"/>
                  </a:lnTo>
                  <a:lnTo>
                    <a:pt x="1320" y="2708"/>
                  </a:lnTo>
                  <a:lnTo>
                    <a:pt x="1288" y="2684"/>
                  </a:lnTo>
                  <a:lnTo>
                    <a:pt x="1248" y="2628"/>
                  </a:lnTo>
                  <a:lnTo>
                    <a:pt x="1220" y="2604"/>
                  </a:lnTo>
                  <a:lnTo>
                    <a:pt x="1184" y="2576"/>
                  </a:lnTo>
                  <a:lnTo>
                    <a:pt x="1144" y="2568"/>
                  </a:lnTo>
                  <a:lnTo>
                    <a:pt x="1088" y="2564"/>
                  </a:lnTo>
                  <a:lnTo>
                    <a:pt x="1028" y="2564"/>
                  </a:lnTo>
                  <a:lnTo>
                    <a:pt x="1000" y="2544"/>
                  </a:lnTo>
                  <a:lnTo>
                    <a:pt x="964" y="2528"/>
                  </a:lnTo>
                  <a:lnTo>
                    <a:pt x="904" y="2520"/>
                  </a:lnTo>
                  <a:lnTo>
                    <a:pt x="844" y="2532"/>
                  </a:lnTo>
                  <a:lnTo>
                    <a:pt x="792" y="2500"/>
                  </a:lnTo>
                  <a:lnTo>
                    <a:pt x="728" y="2464"/>
                  </a:lnTo>
                  <a:lnTo>
                    <a:pt x="664" y="2432"/>
                  </a:lnTo>
                  <a:lnTo>
                    <a:pt x="592" y="2392"/>
                  </a:lnTo>
                  <a:lnTo>
                    <a:pt x="564" y="2360"/>
                  </a:lnTo>
                  <a:lnTo>
                    <a:pt x="528" y="2316"/>
                  </a:lnTo>
                  <a:lnTo>
                    <a:pt x="504" y="2276"/>
                  </a:lnTo>
                  <a:lnTo>
                    <a:pt x="480" y="2232"/>
                  </a:lnTo>
                  <a:lnTo>
                    <a:pt x="440" y="2228"/>
                  </a:lnTo>
                  <a:lnTo>
                    <a:pt x="408" y="2236"/>
                  </a:lnTo>
                  <a:lnTo>
                    <a:pt x="388" y="2204"/>
                  </a:lnTo>
                  <a:lnTo>
                    <a:pt x="388" y="2164"/>
                  </a:lnTo>
                  <a:lnTo>
                    <a:pt x="328" y="2152"/>
                  </a:lnTo>
                  <a:lnTo>
                    <a:pt x="272" y="2168"/>
                  </a:lnTo>
                  <a:lnTo>
                    <a:pt x="208" y="2176"/>
                  </a:lnTo>
                  <a:lnTo>
                    <a:pt x="132" y="2180"/>
                  </a:lnTo>
                  <a:lnTo>
                    <a:pt x="96" y="2196"/>
                  </a:lnTo>
                  <a:lnTo>
                    <a:pt x="48" y="2204"/>
                  </a:lnTo>
                  <a:lnTo>
                    <a:pt x="0" y="220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27440" y="1251000"/>
              <a:ext cx="2692440" cy="793800"/>
            </a:xfrm>
            <a:custGeom>
              <a:avLst/>
              <a:gdLst/>
              <a:ahLst/>
              <a:rect l="l" t="t" r="r" b="b"/>
              <a:pathLst>
                <a:path w="1696" h="500">
                  <a:moveTo>
                    <a:pt x="0" y="124"/>
                  </a:moveTo>
                  <a:lnTo>
                    <a:pt x="28" y="172"/>
                  </a:lnTo>
                  <a:lnTo>
                    <a:pt x="88" y="208"/>
                  </a:lnTo>
                  <a:lnTo>
                    <a:pt x="128" y="236"/>
                  </a:lnTo>
                  <a:lnTo>
                    <a:pt x="180" y="248"/>
                  </a:lnTo>
                  <a:lnTo>
                    <a:pt x="232" y="236"/>
                  </a:lnTo>
                  <a:lnTo>
                    <a:pt x="260" y="216"/>
                  </a:lnTo>
                  <a:lnTo>
                    <a:pt x="296" y="212"/>
                  </a:lnTo>
                  <a:lnTo>
                    <a:pt x="308" y="236"/>
                  </a:lnTo>
                  <a:lnTo>
                    <a:pt x="292" y="264"/>
                  </a:lnTo>
                  <a:lnTo>
                    <a:pt x="324" y="284"/>
                  </a:lnTo>
                  <a:lnTo>
                    <a:pt x="376" y="304"/>
                  </a:lnTo>
                  <a:lnTo>
                    <a:pt x="400" y="316"/>
                  </a:lnTo>
                  <a:lnTo>
                    <a:pt x="456" y="336"/>
                  </a:lnTo>
                  <a:lnTo>
                    <a:pt x="492" y="368"/>
                  </a:lnTo>
                  <a:lnTo>
                    <a:pt x="532" y="384"/>
                  </a:lnTo>
                  <a:lnTo>
                    <a:pt x="564" y="392"/>
                  </a:lnTo>
                  <a:lnTo>
                    <a:pt x="596" y="392"/>
                  </a:lnTo>
                  <a:cubicBezTo>
                    <a:pt x="616" y="389"/>
                    <a:pt x="640" y="386"/>
                    <a:pt x="640" y="360"/>
                  </a:cubicBezTo>
                  <a:lnTo>
                    <a:pt x="644" y="336"/>
                  </a:lnTo>
                  <a:lnTo>
                    <a:pt x="624" y="304"/>
                  </a:lnTo>
                  <a:lnTo>
                    <a:pt x="588" y="288"/>
                  </a:lnTo>
                  <a:lnTo>
                    <a:pt x="600" y="244"/>
                  </a:lnTo>
                  <a:lnTo>
                    <a:pt x="632" y="224"/>
                  </a:lnTo>
                  <a:lnTo>
                    <a:pt x="636" y="200"/>
                  </a:lnTo>
                  <a:lnTo>
                    <a:pt x="636" y="172"/>
                  </a:lnTo>
                  <a:lnTo>
                    <a:pt x="676" y="160"/>
                  </a:lnTo>
                  <a:lnTo>
                    <a:pt x="712" y="176"/>
                  </a:lnTo>
                  <a:lnTo>
                    <a:pt x="724" y="208"/>
                  </a:lnTo>
                  <a:lnTo>
                    <a:pt x="728" y="244"/>
                  </a:lnTo>
                  <a:lnTo>
                    <a:pt x="720" y="288"/>
                  </a:lnTo>
                  <a:lnTo>
                    <a:pt x="724" y="316"/>
                  </a:lnTo>
                  <a:lnTo>
                    <a:pt x="776" y="344"/>
                  </a:lnTo>
                  <a:lnTo>
                    <a:pt x="828" y="344"/>
                  </a:lnTo>
                  <a:lnTo>
                    <a:pt x="868" y="324"/>
                  </a:lnTo>
                  <a:lnTo>
                    <a:pt x="916" y="308"/>
                  </a:lnTo>
                  <a:lnTo>
                    <a:pt x="940" y="308"/>
                  </a:lnTo>
                  <a:lnTo>
                    <a:pt x="972" y="328"/>
                  </a:lnTo>
                  <a:lnTo>
                    <a:pt x="1000" y="336"/>
                  </a:lnTo>
                  <a:lnTo>
                    <a:pt x="1036" y="352"/>
                  </a:lnTo>
                  <a:lnTo>
                    <a:pt x="1084" y="352"/>
                  </a:lnTo>
                  <a:lnTo>
                    <a:pt x="1112" y="352"/>
                  </a:lnTo>
                  <a:lnTo>
                    <a:pt x="1132" y="320"/>
                  </a:lnTo>
                  <a:lnTo>
                    <a:pt x="1116" y="288"/>
                  </a:lnTo>
                  <a:lnTo>
                    <a:pt x="1116" y="264"/>
                  </a:lnTo>
                  <a:lnTo>
                    <a:pt x="1128" y="240"/>
                  </a:lnTo>
                  <a:lnTo>
                    <a:pt x="1156" y="232"/>
                  </a:lnTo>
                  <a:lnTo>
                    <a:pt x="1204" y="252"/>
                  </a:lnTo>
                  <a:lnTo>
                    <a:pt x="1220" y="276"/>
                  </a:lnTo>
                  <a:lnTo>
                    <a:pt x="1236" y="300"/>
                  </a:lnTo>
                  <a:lnTo>
                    <a:pt x="1272" y="312"/>
                  </a:lnTo>
                  <a:lnTo>
                    <a:pt x="1308" y="324"/>
                  </a:lnTo>
                  <a:lnTo>
                    <a:pt x="1332" y="340"/>
                  </a:lnTo>
                  <a:lnTo>
                    <a:pt x="1308" y="372"/>
                  </a:lnTo>
                  <a:lnTo>
                    <a:pt x="1304" y="396"/>
                  </a:lnTo>
                  <a:lnTo>
                    <a:pt x="1344" y="420"/>
                  </a:lnTo>
                  <a:lnTo>
                    <a:pt x="1388" y="412"/>
                  </a:lnTo>
                  <a:lnTo>
                    <a:pt x="1420" y="404"/>
                  </a:lnTo>
                  <a:lnTo>
                    <a:pt x="1444" y="388"/>
                  </a:lnTo>
                  <a:lnTo>
                    <a:pt x="1484" y="372"/>
                  </a:lnTo>
                  <a:lnTo>
                    <a:pt x="1524" y="408"/>
                  </a:lnTo>
                  <a:lnTo>
                    <a:pt x="1556" y="432"/>
                  </a:lnTo>
                  <a:lnTo>
                    <a:pt x="1560" y="460"/>
                  </a:lnTo>
                  <a:lnTo>
                    <a:pt x="1604" y="488"/>
                  </a:lnTo>
                  <a:lnTo>
                    <a:pt x="1652" y="500"/>
                  </a:lnTo>
                  <a:lnTo>
                    <a:pt x="1688" y="488"/>
                  </a:lnTo>
                  <a:lnTo>
                    <a:pt x="1696" y="460"/>
                  </a:lnTo>
                  <a:lnTo>
                    <a:pt x="1676" y="396"/>
                  </a:lnTo>
                  <a:lnTo>
                    <a:pt x="1652" y="376"/>
                  </a:lnTo>
                  <a:lnTo>
                    <a:pt x="1620" y="344"/>
                  </a:lnTo>
                  <a:lnTo>
                    <a:pt x="1612" y="320"/>
                  </a:lnTo>
                  <a:lnTo>
                    <a:pt x="1584" y="280"/>
                  </a:lnTo>
                  <a:lnTo>
                    <a:pt x="1564" y="236"/>
                  </a:lnTo>
                  <a:lnTo>
                    <a:pt x="1564" y="200"/>
                  </a:lnTo>
                  <a:lnTo>
                    <a:pt x="1516" y="164"/>
                  </a:lnTo>
                  <a:lnTo>
                    <a:pt x="1484" y="148"/>
                  </a:lnTo>
                  <a:lnTo>
                    <a:pt x="1432" y="136"/>
                  </a:lnTo>
                  <a:lnTo>
                    <a:pt x="1384" y="116"/>
                  </a:lnTo>
                  <a:lnTo>
                    <a:pt x="1376" y="148"/>
                  </a:lnTo>
                  <a:lnTo>
                    <a:pt x="1328" y="156"/>
                  </a:lnTo>
                  <a:lnTo>
                    <a:pt x="1244" y="152"/>
                  </a:lnTo>
                  <a:lnTo>
                    <a:pt x="1184" y="124"/>
                  </a:lnTo>
                  <a:lnTo>
                    <a:pt x="1120" y="108"/>
                  </a:lnTo>
                  <a:lnTo>
                    <a:pt x="1032" y="68"/>
                  </a:lnTo>
                  <a:lnTo>
                    <a:pt x="984" y="64"/>
                  </a:lnTo>
                  <a:lnTo>
                    <a:pt x="912" y="88"/>
                  </a:lnTo>
                  <a:lnTo>
                    <a:pt x="888" y="132"/>
                  </a:lnTo>
                  <a:lnTo>
                    <a:pt x="856" y="188"/>
                  </a:lnTo>
                  <a:lnTo>
                    <a:pt x="800" y="176"/>
                  </a:lnTo>
                  <a:lnTo>
                    <a:pt x="744" y="152"/>
                  </a:lnTo>
                  <a:lnTo>
                    <a:pt x="700" y="112"/>
                  </a:lnTo>
                  <a:lnTo>
                    <a:pt x="640" y="76"/>
                  </a:lnTo>
                  <a:lnTo>
                    <a:pt x="544" y="84"/>
                  </a:lnTo>
                  <a:lnTo>
                    <a:pt x="460" y="84"/>
                  </a:lnTo>
                  <a:lnTo>
                    <a:pt x="388" y="104"/>
                  </a:lnTo>
                  <a:lnTo>
                    <a:pt x="316" y="104"/>
                  </a:lnTo>
                  <a:lnTo>
                    <a:pt x="256" y="92"/>
                  </a:lnTo>
                  <a:lnTo>
                    <a:pt x="208" y="60"/>
                  </a:lnTo>
                  <a:lnTo>
                    <a:pt x="208" y="12"/>
                  </a:lnTo>
                  <a:lnTo>
                    <a:pt x="160" y="0"/>
                  </a:lnTo>
                  <a:lnTo>
                    <a:pt x="112" y="44"/>
                  </a:lnTo>
                  <a:lnTo>
                    <a:pt x="60" y="76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dbdba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75320" y="3962520"/>
              <a:ext cx="21600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64200" y="2533680"/>
              <a:ext cx="641520" cy="857160"/>
            </a:xfrm>
            <a:custGeom>
              <a:avLst/>
              <a:gdLst/>
              <a:ahLst/>
              <a:rect l="l" t="t" r="r" b="b"/>
              <a:pathLst>
                <a:path w="404" h="540">
                  <a:moveTo>
                    <a:pt x="4" y="488"/>
                  </a:moveTo>
                  <a:lnTo>
                    <a:pt x="0" y="452"/>
                  </a:lnTo>
                  <a:lnTo>
                    <a:pt x="16" y="420"/>
                  </a:lnTo>
                  <a:lnTo>
                    <a:pt x="52" y="400"/>
                  </a:lnTo>
                  <a:cubicBezTo>
                    <a:pt x="56" y="383"/>
                    <a:pt x="56" y="389"/>
                    <a:pt x="56" y="380"/>
                  </a:cubicBezTo>
                  <a:lnTo>
                    <a:pt x="56" y="356"/>
                  </a:lnTo>
                  <a:cubicBezTo>
                    <a:pt x="59" y="342"/>
                    <a:pt x="62" y="334"/>
                    <a:pt x="72" y="324"/>
                  </a:cubicBezTo>
                  <a:lnTo>
                    <a:pt x="92" y="304"/>
                  </a:lnTo>
                  <a:lnTo>
                    <a:pt x="104" y="268"/>
                  </a:lnTo>
                  <a:lnTo>
                    <a:pt x="104" y="232"/>
                  </a:lnTo>
                  <a:lnTo>
                    <a:pt x="108" y="188"/>
                  </a:lnTo>
                  <a:lnTo>
                    <a:pt x="136" y="164"/>
                  </a:lnTo>
                  <a:lnTo>
                    <a:pt x="156" y="144"/>
                  </a:lnTo>
                  <a:lnTo>
                    <a:pt x="172" y="120"/>
                  </a:lnTo>
                  <a:lnTo>
                    <a:pt x="204" y="96"/>
                  </a:lnTo>
                  <a:lnTo>
                    <a:pt x="232" y="92"/>
                  </a:lnTo>
                  <a:lnTo>
                    <a:pt x="264" y="100"/>
                  </a:lnTo>
                  <a:lnTo>
                    <a:pt x="292" y="88"/>
                  </a:lnTo>
                  <a:lnTo>
                    <a:pt x="300" y="44"/>
                  </a:lnTo>
                  <a:lnTo>
                    <a:pt x="316" y="16"/>
                  </a:lnTo>
                  <a:lnTo>
                    <a:pt x="348" y="0"/>
                  </a:lnTo>
                  <a:lnTo>
                    <a:pt x="372" y="36"/>
                  </a:lnTo>
                  <a:lnTo>
                    <a:pt x="364" y="12"/>
                  </a:lnTo>
                  <a:lnTo>
                    <a:pt x="404" y="52"/>
                  </a:lnTo>
                  <a:lnTo>
                    <a:pt x="388" y="100"/>
                  </a:lnTo>
                  <a:lnTo>
                    <a:pt x="356" y="116"/>
                  </a:lnTo>
                  <a:lnTo>
                    <a:pt x="324" y="140"/>
                  </a:lnTo>
                  <a:lnTo>
                    <a:pt x="296" y="168"/>
                  </a:lnTo>
                  <a:lnTo>
                    <a:pt x="268" y="188"/>
                  </a:lnTo>
                  <a:lnTo>
                    <a:pt x="244" y="196"/>
                  </a:lnTo>
                  <a:lnTo>
                    <a:pt x="232" y="220"/>
                  </a:lnTo>
                  <a:lnTo>
                    <a:pt x="224" y="252"/>
                  </a:lnTo>
                  <a:lnTo>
                    <a:pt x="196" y="260"/>
                  </a:lnTo>
                  <a:lnTo>
                    <a:pt x="176" y="288"/>
                  </a:lnTo>
                  <a:lnTo>
                    <a:pt x="172" y="316"/>
                  </a:lnTo>
                  <a:lnTo>
                    <a:pt x="156" y="336"/>
                  </a:lnTo>
                  <a:lnTo>
                    <a:pt x="124" y="356"/>
                  </a:lnTo>
                  <a:lnTo>
                    <a:pt x="100" y="404"/>
                  </a:lnTo>
                  <a:lnTo>
                    <a:pt x="100" y="428"/>
                  </a:lnTo>
                  <a:lnTo>
                    <a:pt x="100" y="452"/>
                  </a:lnTo>
                  <a:lnTo>
                    <a:pt x="100" y="476"/>
                  </a:lnTo>
                  <a:lnTo>
                    <a:pt x="100" y="516"/>
                  </a:lnTo>
                  <a:lnTo>
                    <a:pt x="60" y="540"/>
                  </a:lnTo>
                  <a:lnTo>
                    <a:pt x="24" y="532"/>
                  </a:lnTo>
                  <a:lnTo>
                    <a:pt x="4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1400" y="2965320"/>
              <a:ext cx="444600" cy="247680"/>
            </a:xfrm>
            <a:custGeom>
              <a:avLst/>
              <a:gdLst/>
              <a:ahLst/>
              <a:rect l="l" t="t" r="r" b="b"/>
              <a:pathLst>
                <a:path w="280" h="156">
                  <a:moveTo>
                    <a:pt x="28" y="0"/>
                  </a:moveTo>
                  <a:lnTo>
                    <a:pt x="4" y="20"/>
                  </a:lnTo>
                  <a:lnTo>
                    <a:pt x="0" y="40"/>
                  </a:lnTo>
                  <a:lnTo>
                    <a:pt x="8" y="64"/>
                  </a:lnTo>
                  <a:lnTo>
                    <a:pt x="28" y="80"/>
                  </a:lnTo>
                  <a:lnTo>
                    <a:pt x="88" y="100"/>
                  </a:lnTo>
                  <a:lnTo>
                    <a:pt x="104" y="132"/>
                  </a:lnTo>
                  <a:lnTo>
                    <a:pt x="128" y="140"/>
                  </a:lnTo>
                  <a:lnTo>
                    <a:pt x="152" y="148"/>
                  </a:lnTo>
                  <a:lnTo>
                    <a:pt x="180" y="148"/>
                  </a:lnTo>
                  <a:lnTo>
                    <a:pt x="204" y="148"/>
                  </a:lnTo>
                  <a:lnTo>
                    <a:pt x="244" y="148"/>
                  </a:lnTo>
                  <a:lnTo>
                    <a:pt x="268" y="156"/>
                  </a:lnTo>
                  <a:lnTo>
                    <a:pt x="280" y="132"/>
                  </a:lnTo>
                  <a:lnTo>
                    <a:pt x="268" y="104"/>
                  </a:lnTo>
                  <a:lnTo>
                    <a:pt x="248" y="84"/>
                  </a:lnTo>
                  <a:lnTo>
                    <a:pt x="216" y="56"/>
                  </a:lnTo>
                  <a:lnTo>
                    <a:pt x="184" y="52"/>
                  </a:lnTo>
                  <a:lnTo>
                    <a:pt x="136" y="68"/>
                  </a:lnTo>
                  <a:lnTo>
                    <a:pt x="108" y="68"/>
                  </a:lnTo>
                  <a:lnTo>
                    <a:pt x="84" y="40"/>
                  </a:lnTo>
                  <a:lnTo>
                    <a:pt x="52" y="20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40" y="0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797280" y="1244520"/>
              <a:ext cx="927000" cy="266760"/>
            </a:xfrm>
            <a:custGeom>
              <a:avLst/>
              <a:gdLst/>
              <a:ahLst/>
              <a:rect l="l" t="t" r="r" b="b"/>
              <a:pathLst>
                <a:path w="584" h="168">
                  <a:moveTo>
                    <a:pt x="0" y="100"/>
                  </a:moveTo>
                  <a:lnTo>
                    <a:pt x="12" y="120"/>
                  </a:lnTo>
                  <a:lnTo>
                    <a:pt x="36" y="140"/>
                  </a:lnTo>
                  <a:lnTo>
                    <a:pt x="80" y="160"/>
                  </a:lnTo>
                  <a:lnTo>
                    <a:pt x="128" y="144"/>
                  </a:lnTo>
                  <a:lnTo>
                    <a:pt x="156" y="140"/>
                  </a:lnTo>
                  <a:lnTo>
                    <a:pt x="196" y="148"/>
                  </a:lnTo>
                  <a:lnTo>
                    <a:pt x="260" y="168"/>
                  </a:lnTo>
                  <a:lnTo>
                    <a:pt x="300" y="168"/>
                  </a:lnTo>
                  <a:lnTo>
                    <a:pt x="340" y="156"/>
                  </a:lnTo>
                  <a:lnTo>
                    <a:pt x="396" y="140"/>
                  </a:lnTo>
                  <a:lnTo>
                    <a:pt x="428" y="136"/>
                  </a:lnTo>
                  <a:lnTo>
                    <a:pt x="496" y="136"/>
                  </a:lnTo>
                  <a:lnTo>
                    <a:pt x="560" y="132"/>
                  </a:lnTo>
                  <a:lnTo>
                    <a:pt x="584" y="116"/>
                  </a:lnTo>
                  <a:lnTo>
                    <a:pt x="580" y="80"/>
                  </a:lnTo>
                  <a:lnTo>
                    <a:pt x="512" y="80"/>
                  </a:lnTo>
                  <a:lnTo>
                    <a:pt x="464" y="80"/>
                  </a:lnTo>
                  <a:lnTo>
                    <a:pt x="440" y="92"/>
                  </a:lnTo>
                  <a:lnTo>
                    <a:pt x="392" y="100"/>
                  </a:lnTo>
                  <a:lnTo>
                    <a:pt x="356" y="104"/>
                  </a:lnTo>
                  <a:lnTo>
                    <a:pt x="320" y="108"/>
                  </a:lnTo>
                  <a:lnTo>
                    <a:pt x="292" y="112"/>
                  </a:lnTo>
                  <a:lnTo>
                    <a:pt x="252" y="112"/>
                  </a:lnTo>
                  <a:lnTo>
                    <a:pt x="220" y="100"/>
                  </a:lnTo>
                  <a:lnTo>
                    <a:pt x="196" y="60"/>
                  </a:lnTo>
                  <a:lnTo>
                    <a:pt x="172" y="16"/>
                  </a:lnTo>
                  <a:lnTo>
                    <a:pt x="148" y="0"/>
                  </a:lnTo>
                  <a:lnTo>
                    <a:pt x="112" y="16"/>
                  </a:lnTo>
                  <a:lnTo>
                    <a:pt x="68" y="52"/>
                  </a:lnTo>
                  <a:lnTo>
                    <a:pt x="44" y="64"/>
                  </a:lnTo>
                  <a:lnTo>
                    <a:pt x="16" y="72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dbaf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3680" y="604800"/>
              <a:ext cx="6340320" cy="5435640"/>
            </a:xfrm>
            <a:custGeom>
              <a:avLst/>
              <a:gdLst/>
              <a:ahLst/>
              <a:rect l="l" t="t" r="r" b="b"/>
              <a:pathLst>
                <a:path w="3994" h="3424">
                  <a:moveTo>
                    <a:pt x="120" y="3424"/>
                  </a:moveTo>
                  <a:lnTo>
                    <a:pt x="128" y="2351"/>
                  </a:lnTo>
                  <a:lnTo>
                    <a:pt x="92" y="2266"/>
                  </a:lnTo>
                  <a:lnTo>
                    <a:pt x="142" y="2217"/>
                  </a:lnTo>
                  <a:lnTo>
                    <a:pt x="149" y="1970"/>
                  </a:lnTo>
                  <a:lnTo>
                    <a:pt x="120" y="1927"/>
                  </a:lnTo>
                  <a:lnTo>
                    <a:pt x="135" y="1871"/>
                  </a:lnTo>
                  <a:lnTo>
                    <a:pt x="142" y="1793"/>
                  </a:lnTo>
                  <a:lnTo>
                    <a:pt x="128" y="1617"/>
                  </a:lnTo>
                  <a:lnTo>
                    <a:pt x="177" y="1553"/>
                  </a:lnTo>
                  <a:lnTo>
                    <a:pt x="156" y="1511"/>
                  </a:lnTo>
                  <a:lnTo>
                    <a:pt x="120" y="1468"/>
                  </a:lnTo>
                  <a:lnTo>
                    <a:pt x="113" y="1405"/>
                  </a:lnTo>
                  <a:lnTo>
                    <a:pt x="71" y="1363"/>
                  </a:lnTo>
                  <a:lnTo>
                    <a:pt x="43" y="1313"/>
                  </a:lnTo>
                  <a:lnTo>
                    <a:pt x="22" y="1257"/>
                  </a:lnTo>
                  <a:lnTo>
                    <a:pt x="0" y="1207"/>
                  </a:lnTo>
                  <a:lnTo>
                    <a:pt x="29" y="1087"/>
                  </a:lnTo>
                  <a:lnTo>
                    <a:pt x="43" y="1017"/>
                  </a:lnTo>
                  <a:lnTo>
                    <a:pt x="78" y="995"/>
                  </a:lnTo>
                  <a:lnTo>
                    <a:pt x="128" y="1003"/>
                  </a:lnTo>
                  <a:lnTo>
                    <a:pt x="163" y="1031"/>
                  </a:lnTo>
                  <a:lnTo>
                    <a:pt x="212" y="1052"/>
                  </a:lnTo>
                  <a:lnTo>
                    <a:pt x="283" y="1059"/>
                  </a:lnTo>
                  <a:lnTo>
                    <a:pt x="325" y="1087"/>
                  </a:lnTo>
                  <a:lnTo>
                    <a:pt x="382" y="1087"/>
                  </a:lnTo>
                  <a:lnTo>
                    <a:pt x="438" y="1031"/>
                  </a:lnTo>
                  <a:lnTo>
                    <a:pt x="473" y="953"/>
                  </a:lnTo>
                  <a:lnTo>
                    <a:pt x="516" y="911"/>
                  </a:lnTo>
                  <a:lnTo>
                    <a:pt x="558" y="875"/>
                  </a:lnTo>
                  <a:lnTo>
                    <a:pt x="579" y="819"/>
                  </a:lnTo>
                  <a:lnTo>
                    <a:pt x="600" y="784"/>
                  </a:lnTo>
                  <a:lnTo>
                    <a:pt x="629" y="755"/>
                  </a:lnTo>
                  <a:lnTo>
                    <a:pt x="678" y="720"/>
                  </a:lnTo>
                  <a:lnTo>
                    <a:pt x="720" y="720"/>
                  </a:lnTo>
                  <a:lnTo>
                    <a:pt x="770" y="727"/>
                  </a:lnTo>
                  <a:lnTo>
                    <a:pt x="833" y="734"/>
                  </a:lnTo>
                  <a:lnTo>
                    <a:pt x="862" y="692"/>
                  </a:lnTo>
                  <a:lnTo>
                    <a:pt x="888" y="691"/>
                  </a:lnTo>
                  <a:lnTo>
                    <a:pt x="904" y="727"/>
                  </a:lnTo>
                  <a:lnTo>
                    <a:pt x="939" y="699"/>
                  </a:lnTo>
                  <a:lnTo>
                    <a:pt x="968" y="707"/>
                  </a:lnTo>
                  <a:lnTo>
                    <a:pt x="989" y="734"/>
                  </a:lnTo>
                  <a:lnTo>
                    <a:pt x="1032" y="715"/>
                  </a:lnTo>
                  <a:lnTo>
                    <a:pt x="1066" y="734"/>
                  </a:lnTo>
                  <a:lnTo>
                    <a:pt x="1137" y="741"/>
                  </a:lnTo>
                  <a:lnTo>
                    <a:pt x="1176" y="739"/>
                  </a:lnTo>
                  <a:lnTo>
                    <a:pt x="1208" y="770"/>
                  </a:lnTo>
                  <a:lnTo>
                    <a:pt x="1228" y="755"/>
                  </a:lnTo>
                  <a:lnTo>
                    <a:pt x="1236" y="707"/>
                  </a:lnTo>
                  <a:lnTo>
                    <a:pt x="1264" y="715"/>
                  </a:lnTo>
                  <a:lnTo>
                    <a:pt x="1252" y="799"/>
                  </a:lnTo>
                  <a:lnTo>
                    <a:pt x="1280" y="815"/>
                  </a:lnTo>
                  <a:lnTo>
                    <a:pt x="1296" y="783"/>
                  </a:lnTo>
                  <a:lnTo>
                    <a:pt x="1320" y="779"/>
                  </a:lnTo>
                  <a:lnTo>
                    <a:pt x="1328" y="827"/>
                  </a:lnTo>
                  <a:lnTo>
                    <a:pt x="1360" y="811"/>
                  </a:lnTo>
                  <a:lnTo>
                    <a:pt x="1405" y="826"/>
                  </a:lnTo>
                  <a:lnTo>
                    <a:pt x="1416" y="795"/>
                  </a:lnTo>
                  <a:lnTo>
                    <a:pt x="1398" y="770"/>
                  </a:lnTo>
                  <a:lnTo>
                    <a:pt x="1356" y="741"/>
                  </a:lnTo>
                  <a:lnTo>
                    <a:pt x="1320" y="699"/>
                  </a:lnTo>
                  <a:lnTo>
                    <a:pt x="1306" y="643"/>
                  </a:lnTo>
                  <a:lnTo>
                    <a:pt x="1320" y="593"/>
                  </a:lnTo>
                  <a:lnTo>
                    <a:pt x="1370" y="544"/>
                  </a:lnTo>
                  <a:lnTo>
                    <a:pt x="1419" y="551"/>
                  </a:lnTo>
                  <a:lnTo>
                    <a:pt x="1462" y="579"/>
                  </a:lnTo>
                  <a:lnTo>
                    <a:pt x="1553" y="600"/>
                  </a:lnTo>
                  <a:lnTo>
                    <a:pt x="1603" y="621"/>
                  </a:lnTo>
                  <a:lnTo>
                    <a:pt x="1638" y="650"/>
                  </a:lnTo>
                  <a:lnTo>
                    <a:pt x="1680" y="643"/>
                  </a:lnTo>
                  <a:lnTo>
                    <a:pt x="1723" y="600"/>
                  </a:lnTo>
                  <a:lnTo>
                    <a:pt x="1779" y="586"/>
                  </a:lnTo>
                  <a:lnTo>
                    <a:pt x="1822" y="586"/>
                  </a:lnTo>
                  <a:lnTo>
                    <a:pt x="1864" y="635"/>
                  </a:lnTo>
                  <a:lnTo>
                    <a:pt x="1876" y="679"/>
                  </a:lnTo>
                  <a:lnTo>
                    <a:pt x="1920" y="683"/>
                  </a:lnTo>
                  <a:lnTo>
                    <a:pt x="1956" y="657"/>
                  </a:lnTo>
                  <a:lnTo>
                    <a:pt x="2005" y="607"/>
                  </a:lnTo>
                  <a:lnTo>
                    <a:pt x="2026" y="572"/>
                  </a:lnTo>
                  <a:lnTo>
                    <a:pt x="2055" y="530"/>
                  </a:lnTo>
                  <a:lnTo>
                    <a:pt x="2104" y="480"/>
                  </a:lnTo>
                  <a:lnTo>
                    <a:pt x="2160" y="459"/>
                  </a:lnTo>
                  <a:lnTo>
                    <a:pt x="2217" y="410"/>
                  </a:lnTo>
                  <a:lnTo>
                    <a:pt x="2266" y="417"/>
                  </a:lnTo>
                  <a:cubicBezTo>
                    <a:pt x="2266" y="433"/>
                    <a:pt x="2266" y="450"/>
                    <a:pt x="2266" y="466"/>
                  </a:cubicBezTo>
                  <a:lnTo>
                    <a:pt x="2323" y="508"/>
                  </a:lnTo>
                  <a:lnTo>
                    <a:pt x="2393" y="515"/>
                  </a:lnTo>
                  <a:lnTo>
                    <a:pt x="2443" y="515"/>
                  </a:lnTo>
                  <a:lnTo>
                    <a:pt x="2499" y="501"/>
                  </a:lnTo>
                  <a:lnTo>
                    <a:pt x="2577" y="494"/>
                  </a:lnTo>
                  <a:lnTo>
                    <a:pt x="2640" y="487"/>
                  </a:lnTo>
                  <a:lnTo>
                    <a:pt x="2697" y="487"/>
                  </a:lnTo>
                  <a:lnTo>
                    <a:pt x="2739" y="508"/>
                  </a:lnTo>
                  <a:lnTo>
                    <a:pt x="2810" y="565"/>
                  </a:lnTo>
                  <a:lnTo>
                    <a:pt x="2859" y="593"/>
                  </a:lnTo>
                  <a:lnTo>
                    <a:pt x="2916" y="593"/>
                  </a:lnTo>
                  <a:lnTo>
                    <a:pt x="2937" y="558"/>
                  </a:lnTo>
                  <a:lnTo>
                    <a:pt x="2958" y="494"/>
                  </a:lnTo>
                  <a:lnTo>
                    <a:pt x="3036" y="473"/>
                  </a:lnTo>
                  <a:lnTo>
                    <a:pt x="3085" y="473"/>
                  </a:lnTo>
                  <a:lnTo>
                    <a:pt x="3149" y="508"/>
                  </a:lnTo>
                  <a:lnTo>
                    <a:pt x="3233" y="523"/>
                  </a:lnTo>
                  <a:lnTo>
                    <a:pt x="3297" y="551"/>
                  </a:lnTo>
                  <a:lnTo>
                    <a:pt x="3368" y="565"/>
                  </a:lnTo>
                  <a:lnTo>
                    <a:pt x="3431" y="558"/>
                  </a:lnTo>
                  <a:lnTo>
                    <a:pt x="3445" y="515"/>
                  </a:lnTo>
                  <a:lnTo>
                    <a:pt x="3480" y="487"/>
                  </a:lnTo>
                  <a:lnTo>
                    <a:pt x="3544" y="473"/>
                  </a:lnTo>
                  <a:lnTo>
                    <a:pt x="3600" y="473"/>
                  </a:lnTo>
                  <a:lnTo>
                    <a:pt x="3629" y="410"/>
                  </a:lnTo>
                  <a:lnTo>
                    <a:pt x="3692" y="395"/>
                  </a:lnTo>
                  <a:lnTo>
                    <a:pt x="3742" y="332"/>
                  </a:lnTo>
                  <a:lnTo>
                    <a:pt x="3777" y="275"/>
                  </a:lnTo>
                  <a:lnTo>
                    <a:pt x="3805" y="233"/>
                  </a:lnTo>
                  <a:lnTo>
                    <a:pt x="3805" y="184"/>
                  </a:lnTo>
                  <a:lnTo>
                    <a:pt x="3840" y="163"/>
                  </a:lnTo>
                  <a:lnTo>
                    <a:pt x="3883" y="127"/>
                  </a:lnTo>
                  <a:lnTo>
                    <a:pt x="3934" y="96"/>
                  </a:lnTo>
                  <a:lnTo>
                    <a:pt x="3949" y="9"/>
                  </a:lnTo>
                  <a:lnTo>
                    <a:pt x="3994" y="0"/>
                  </a:ln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4120" y="5654520"/>
              <a:ext cx="7418160" cy="1019160"/>
            </a:xfrm>
            <a:custGeom>
              <a:avLst/>
              <a:gdLst/>
              <a:ahLst/>
              <a:rect l="l" t="t" r="r" b="b"/>
              <a:pathLst>
                <a:path w="4673" h="642">
                  <a:moveTo>
                    <a:pt x="0" y="243"/>
                  </a:moveTo>
                  <a:cubicBezTo>
                    <a:pt x="22" y="246"/>
                    <a:pt x="44" y="249"/>
                    <a:pt x="64" y="257"/>
                  </a:cubicBezTo>
                  <a:cubicBezTo>
                    <a:pt x="84" y="265"/>
                    <a:pt x="98" y="284"/>
                    <a:pt x="120" y="292"/>
                  </a:cubicBezTo>
                  <a:cubicBezTo>
                    <a:pt x="142" y="300"/>
                    <a:pt x="176" y="301"/>
                    <a:pt x="198" y="306"/>
                  </a:cubicBezTo>
                  <a:cubicBezTo>
                    <a:pt x="220" y="311"/>
                    <a:pt x="235" y="318"/>
                    <a:pt x="255" y="320"/>
                  </a:cubicBezTo>
                  <a:cubicBezTo>
                    <a:pt x="275" y="322"/>
                    <a:pt x="293" y="328"/>
                    <a:pt x="318" y="320"/>
                  </a:cubicBezTo>
                  <a:cubicBezTo>
                    <a:pt x="343" y="312"/>
                    <a:pt x="381" y="285"/>
                    <a:pt x="403" y="271"/>
                  </a:cubicBezTo>
                  <a:cubicBezTo>
                    <a:pt x="425" y="257"/>
                    <a:pt x="438" y="238"/>
                    <a:pt x="452" y="236"/>
                  </a:cubicBezTo>
                  <a:cubicBezTo>
                    <a:pt x="466" y="234"/>
                    <a:pt x="474" y="254"/>
                    <a:pt x="488" y="257"/>
                  </a:cubicBezTo>
                  <a:cubicBezTo>
                    <a:pt x="502" y="260"/>
                    <a:pt x="523" y="265"/>
                    <a:pt x="537" y="257"/>
                  </a:cubicBezTo>
                  <a:cubicBezTo>
                    <a:pt x="551" y="249"/>
                    <a:pt x="554" y="220"/>
                    <a:pt x="572" y="207"/>
                  </a:cubicBezTo>
                  <a:cubicBezTo>
                    <a:pt x="590" y="194"/>
                    <a:pt x="622" y="184"/>
                    <a:pt x="643" y="179"/>
                  </a:cubicBezTo>
                  <a:cubicBezTo>
                    <a:pt x="664" y="174"/>
                    <a:pt x="677" y="178"/>
                    <a:pt x="699" y="179"/>
                  </a:cubicBezTo>
                  <a:cubicBezTo>
                    <a:pt x="721" y="180"/>
                    <a:pt x="751" y="181"/>
                    <a:pt x="777" y="186"/>
                  </a:cubicBezTo>
                  <a:cubicBezTo>
                    <a:pt x="803" y="191"/>
                    <a:pt x="834" y="206"/>
                    <a:pt x="855" y="207"/>
                  </a:cubicBezTo>
                  <a:cubicBezTo>
                    <a:pt x="876" y="208"/>
                    <a:pt x="883" y="193"/>
                    <a:pt x="904" y="193"/>
                  </a:cubicBezTo>
                  <a:cubicBezTo>
                    <a:pt x="925" y="193"/>
                    <a:pt x="959" y="205"/>
                    <a:pt x="982" y="207"/>
                  </a:cubicBezTo>
                  <a:cubicBezTo>
                    <a:pt x="1005" y="209"/>
                    <a:pt x="1018" y="209"/>
                    <a:pt x="1045" y="207"/>
                  </a:cubicBezTo>
                  <a:cubicBezTo>
                    <a:pt x="1072" y="205"/>
                    <a:pt x="1124" y="201"/>
                    <a:pt x="1144" y="193"/>
                  </a:cubicBezTo>
                  <a:cubicBezTo>
                    <a:pt x="1164" y="185"/>
                    <a:pt x="1153" y="167"/>
                    <a:pt x="1165" y="158"/>
                  </a:cubicBezTo>
                  <a:cubicBezTo>
                    <a:pt x="1177" y="149"/>
                    <a:pt x="1195" y="141"/>
                    <a:pt x="1215" y="137"/>
                  </a:cubicBezTo>
                  <a:cubicBezTo>
                    <a:pt x="1235" y="133"/>
                    <a:pt x="1268" y="134"/>
                    <a:pt x="1285" y="137"/>
                  </a:cubicBezTo>
                  <a:cubicBezTo>
                    <a:pt x="1302" y="140"/>
                    <a:pt x="1307" y="160"/>
                    <a:pt x="1320" y="158"/>
                  </a:cubicBezTo>
                  <a:cubicBezTo>
                    <a:pt x="1333" y="156"/>
                    <a:pt x="1350" y="124"/>
                    <a:pt x="1363" y="123"/>
                  </a:cubicBezTo>
                  <a:cubicBezTo>
                    <a:pt x="1376" y="122"/>
                    <a:pt x="1385" y="140"/>
                    <a:pt x="1398" y="151"/>
                  </a:cubicBezTo>
                  <a:cubicBezTo>
                    <a:pt x="1411" y="162"/>
                    <a:pt x="1427" y="177"/>
                    <a:pt x="1440" y="186"/>
                  </a:cubicBezTo>
                  <a:cubicBezTo>
                    <a:pt x="1453" y="195"/>
                    <a:pt x="1461" y="201"/>
                    <a:pt x="1476" y="207"/>
                  </a:cubicBezTo>
                  <a:cubicBezTo>
                    <a:pt x="1491" y="213"/>
                    <a:pt x="1520" y="230"/>
                    <a:pt x="1532" y="222"/>
                  </a:cubicBezTo>
                  <a:cubicBezTo>
                    <a:pt x="1544" y="214"/>
                    <a:pt x="1537" y="175"/>
                    <a:pt x="1546" y="158"/>
                  </a:cubicBezTo>
                  <a:cubicBezTo>
                    <a:pt x="1555" y="141"/>
                    <a:pt x="1575" y="123"/>
                    <a:pt x="1589" y="116"/>
                  </a:cubicBezTo>
                  <a:cubicBezTo>
                    <a:pt x="1603" y="109"/>
                    <a:pt x="1616" y="120"/>
                    <a:pt x="1631" y="116"/>
                  </a:cubicBezTo>
                  <a:cubicBezTo>
                    <a:pt x="1646" y="112"/>
                    <a:pt x="1659" y="100"/>
                    <a:pt x="1680" y="94"/>
                  </a:cubicBezTo>
                  <a:cubicBezTo>
                    <a:pt x="1701" y="88"/>
                    <a:pt x="1737" y="85"/>
                    <a:pt x="1758" y="80"/>
                  </a:cubicBezTo>
                  <a:cubicBezTo>
                    <a:pt x="1779" y="75"/>
                    <a:pt x="1780" y="73"/>
                    <a:pt x="1808" y="66"/>
                  </a:cubicBezTo>
                  <a:cubicBezTo>
                    <a:pt x="1836" y="59"/>
                    <a:pt x="1896" y="44"/>
                    <a:pt x="1928" y="38"/>
                  </a:cubicBezTo>
                  <a:cubicBezTo>
                    <a:pt x="1960" y="32"/>
                    <a:pt x="1979" y="34"/>
                    <a:pt x="1998" y="31"/>
                  </a:cubicBezTo>
                  <a:cubicBezTo>
                    <a:pt x="2017" y="28"/>
                    <a:pt x="2025" y="21"/>
                    <a:pt x="2040" y="17"/>
                  </a:cubicBezTo>
                  <a:cubicBezTo>
                    <a:pt x="2055" y="13"/>
                    <a:pt x="2072" y="12"/>
                    <a:pt x="2090" y="10"/>
                  </a:cubicBezTo>
                  <a:cubicBezTo>
                    <a:pt x="2108" y="8"/>
                    <a:pt x="2126" y="3"/>
                    <a:pt x="2146" y="3"/>
                  </a:cubicBezTo>
                  <a:cubicBezTo>
                    <a:pt x="2166" y="3"/>
                    <a:pt x="2197" y="0"/>
                    <a:pt x="2210" y="10"/>
                  </a:cubicBezTo>
                  <a:cubicBezTo>
                    <a:pt x="2223" y="20"/>
                    <a:pt x="2216" y="53"/>
                    <a:pt x="2224" y="66"/>
                  </a:cubicBezTo>
                  <a:cubicBezTo>
                    <a:pt x="2232" y="79"/>
                    <a:pt x="2246" y="86"/>
                    <a:pt x="2259" y="87"/>
                  </a:cubicBezTo>
                  <a:cubicBezTo>
                    <a:pt x="2272" y="88"/>
                    <a:pt x="2289" y="66"/>
                    <a:pt x="2302" y="73"/>
                  </a:cubicBezTo>
                  <a:cubicBezTo>
                    <a:pt x="2315" y="80"/>
                    <a:pt x="2325" y="113"/>
                    <a:pt x="2337" y="130"/>
                  </a:cubicBezTo>
                  <a:cubicBezTo>
                    <a:pt x="2349" y="147"/>
                    <a:pt x="2362" y="157"/>
                    <a:pt x="2372" y="172"/>
                  </a:cubicBezTo>
                  <a:cubicBezTo>
                    <a:pt x="2382" y="187"/>
                    <a:pt x="2380" y="204"/>
                    <a:pt x="2400" y="222"/>
                  </a:cubicBezTo>
                  <a:cubicBezTo>
                    <a:pt x="2420" y="240"/>
                    <a:pt x="2470" y="264"/>
                    <a:pt x="2492" y="278"/>
                  </a:cubicBezTo>
                  <a:cubicBezTo>
                    <a:pt x="2514" y="292"/>
                    <a:pt x="2521" y="299"/>
                    <a:pt x="2535" y="306"/>
                  </a:cubicBezTo>
                  <a:cubicBezTo>
                    <a:pt x="2549" y="313"/>
                    <a:pt x="2562" y="313"/>
                    <a:pt x="2577" y="320"/>
                  </a:cubicBezTo>
                  <a:cubicBezTo>
                    <a:pt x="2592" y="327"/>
                    <a:pt x="2607" y="341"/>
                    <a:pt x="2626" y="349"/>
                  </a:cubicBezTo>
                  <a:cubicBezTo>
                    <a:pt x="2645" y="357"/>
                    <a:pt x="2670" y="366"/>
                    <a:pt x="2690" y="370"/>
                  </a:cubicBezTo>
                  <a:cubicBezTo>
                    <a:pt x="2710" y="374"/>
                    <a:pt x="2730" y="369"/>
                    <a:pt x="2746" y="370"/>
                  </a:cubicBezTo>
                  <a:cubicBezTo>
                    <a:pt x="2762" y="371"/>
                    <a:pt x="2774" y="373"/>
                    <a:pt x="2789" y="377"/>
                  </a:cubicBezTo>
                  <a:cubicBezTo>
                    <a:pt x="2804" y="381"/>
                    <a:pt x="2823" y="385"/>
                    <a:pt x="2838" y="391"/>
                  </a:cubicBezTo>
                  <a:cubicBezTo>
                    <a:pt x="2853" y="397"/>
                    <a:pt x="2864" y="409"/>
                    <a:pt x="2880" y="412"/>
                  </a:cubicBezTo>
                  <a:cubicBezTo>
                    <a:pt x="2896" y="415"/>
                    <a:pt x="2918" y="411"/>
                    <a:pt x="2937" y="412"/>
                  </a:cubicBezTo>
                  <a:cubicBezTo>
                    <a:pt x="2956" y="413"/>
                    <a:pt x="2972" y="412"/>
                    <a:pt x="2993" y="419"/>
                  </a:cubicBezTo>
                  <a:cubicBezTo>
                    <a:pt x="3014" y="426"/>
                    <a:pt x="3043" y="435"/>
                    <a:pt x="3064" y="454"/>
                  </a:cubicBezTo>
                  <a:cubicBezTo>
                    <a:pt x="3085" y="473"/>
                    <a:pt x="3104" y="517"/>
                    <a:pt x="3120" y="532"/>
                  </a:cubicBezTo>
                  <a:cubicBezTo>
                    <a:pt x="3136" y="547"/>
                    <a:pt x="3146" y="536"/>
                    <a:pt x="3163" y="546"/>
                  </a:cubicBezTo>
                  <a:cubicBezTo>
                    <a:pt x="3180" y="556"/>
                    <a:pt x="3199" y="577"/>
                    <a:pt x="3219" y="589"/>
                  </a:cubicBezTo>
                  <a:cubicBezTo>
                    <a:pt x="3239" y="601"/>
                    <a:pt x="3264" y="610"/>
                    <a:pt x="3283" y="617"/>
                  </a:cubicBezTo>
                  <a:cubicBezTo>
                    <a:pt x="3302" y="624"/>
                    <a:pt x="3312" y="631"/>
                    <a:pt x="3332" y="631"/>
                  </a:cubicBezTo>
                  <a:cubicBezTo>
                    <a:pt x="3352" y="631"/>
                    <a:pt x="3385" y="616"/>
                    <a:pt x="3403" y="617"/>
                  </a:cubicBezTo>
                  <a:cubicBezTo>
                    <a:pt x="3421" y="618"/>
                    <a:pt x="3423" y="634"/>
                    <a:pt x="3438" y="638"/>
                  </a:cubicBezTo>
                  <a:cubicBezTo>
                    <a:pt x="3453" y="642"/>
                    <a:pt x="3475" y="642"/>
                    <a:pt x="3495" y="638"/>
                  </a:cubicBezTo>
                  <a:cubicBezTo>
                    <a:pt x="3515" y="634"/>
                    <a:pt x="3536" y="622"/>
                    <a:pt x="3558" y="617"/>
                  </a:cubicBezTo>
                  <a:cubicBezTo>
                    <a:pt x="3580" y="612"/>
                    <a:pt x="3608" y="613"/>
                    <a:pt x="3629" y="610"/>
                  </a:cubicBezTo>
                  <a:cubicBezTo>
                    <a:pt x="3650" y="607"/>
                    <a:pt x="3667" y="602"/>
                    <a:pt x="3685" y="596"/>
                  </a:cubicBezTo>
                  <a:cubicBezTo>
                    <a:pt x="3703" y="590"/>
                    <a:pt x="3716" y="582"/>
                    <a:pt x="3735" y="574"/>
                  </a:cubicBezTo>
                  <a:cubicBezTo>
                    <a:pt x="3754" y="566"/>
                    <a:pt x="3773" y="555"/>
                    <a:pt x="3798" y="546"/>
                  </a:cubicBezTo>
                  <a:cubicBezTo>
                    <a:pt x="3823" y="537"/>
                    <a:pt x="3862" y="524"/>
                    <a:pt x="3883" y="518"/>
                  </a:cubicBezTo>
                  <a:cubicBezTo>
                    <a:pt x="3904" y="512"/>
                    <a:pt x="3910" y="516"/>
                    <a:pt x="3925" y="511"/>
                  </a:cubicBezTo>
                  <a:cubicBezTo>
                    <a:pt x="3940" y="506"/>
                    <a:pt x="3956" y="500"/>
                    <a:pt x="3975" y="490"/>
                  </a:cubicBezTo>
                  <a:cubicBezTo>
                    <a:pt x="3994" y="480"/>
                    <a:pt x="4021" y="460"/>
                    <a:pt x="4038" y="454"/>
                  </a:cubicBezTo>
                  <a:cubicBezTo>
                    <a:pt x="4055" y="448"/>
                    <a:pt x="4061" y="453"/>
                    <a:pt x="4080" y="454"/>
                  </a:cubicBezTo>
                  <a:cubicBezTo>
                    <a:pt x="4099" y="455"/>
                    <a:pt x="4137" y="468"/>
                    <a:pt x="4151" y="462"/>
                  </a:cubicBezTo>
                  <a:cubicBezTo>
                    <a:pt x="4165" y="456"/>
                    <a:pt x="4156" y="428"/>
                    <a:pt x="4165" y="419"/>
                  </a:cubicBezTo>
                  <a:cubicBezTo>
                    <a:pt x="4174" y="410"/>
                    <a:pt x="4200" y="417"/>
                    <a:pt x="4208" y="405"/>
                  </a:cubicBezTo>
                  <a:cubicBezTo>
                    <a:pt x="4216" y="393"/>
                    <a:pt x="4214" y="365"/>
                    <a:pt x="4215" y="349"/>
                  </a:cubicBezTo>
                  <a:cubicBezTo>
                    <a:pt x="4216" y="333"/>
                    <a:pt x="4212" y="320"/>
                    <a:pt x="4215" y="306"/>
                  </a:cubicBezTo>
                  <a:cubicBezTo>
                    <a:pt x="4218" y="292"/>
                    <a:pt x="4227" y="276"/>
                    <a:pt x="4236" y="264"/>
                  </a:cubicBezTo>
                  <a:cubicBezTo>
                    <a:pt x="4245" y="252"/>
                    <a:pt x="4258" y="238"/>
                    <a:pt x="4271" y="236"/>
                  </a:cubicBezTo>
                  <a:cubicBezTo>
                    <a:pt x="4284" y="234"/>
                    <a:pt x="4298" y="251"/>
                    <a:pt x="4313" y="250"/>
                  </a:cubicBezTo>
                  <a:cubicBezTo>
                    <a:pt x="4328" y="249"/>
                    <a:pt x="4347" y="235"/>
                    <a:pt x="4363" y="229"/>
                  </a:cubicBezTo>
                  <a:cubicBezTo>
                    <a:pt x="4379" y="223"/>
                    <a:pt x="4394" y="210"/>
                    <a:pt x="4412" y="214"/>
                  </a:cubicBezTo>
                  <a:cubicBezTo>
                    <a:pt x="4430" y="218"/>
                    <a:pt x="4451" y="244"/>
                    <a:pt x="4469" y="250"/>
                  </a:cubicBezTo>
                  <a:cubicBezTo>
                    <a:pt x="4487" y="256"/>
                    <a:pt x="4503" y="253"/>
                    <a:pt x="4518" y="250"/>
                  </a:cubicBezTo>
                  <a:cubicBezTo>
                    <a:pt x="4533" y="247"/>
                    <a:pt x="4545" y="233"/>
                    <a:pt x="4560" y="229"/>
                  </a:cubicBezTo>
                  <a:cubicBezTo>
                    <a:pt x="4575" y="225"/>
                    <a:pt x="4598" y="220"/>
                    <a:pt x="4610" y="229"/>
                  </a:cubicBezTo>
                  <a:cubicBezTo>
                    <a:pt x="4622" y="238"/>
                    <a:pt x="4628" y="268"/>
                    <a:pt x="4631" y="285"/>
                  </a:cubicBezTo>
                  <a:cubicBezTo>
                    <a:pt x="4634" y="302"/>
                    <a:pt x="4629" y="316"/>
                    <a:pt x="4631" y="334"/>
                  </a:cubicBezTo>
                  <a:cubicBezTo>
                    <a:pt x="4633" y="352"/>
                    <a:pt x="4638" y="373"/>
                    <a:pt x="4645" y="391"/>
                  </a:cubicBezTo>
                  <a:cubicBezTo>
                    <a:pt x="4652" y="409"/>
                    <a:pt x="4662" y="424"/>
                    <a:pt x="4673" y="44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3732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1"/>
                    <a:pt x="121" y="428"/>
                  </a:cubicBezTo>
                  <a:cubicBezTo>
                    <a:pt x="129" y="445"/>
                    <a:pt x="133" y="463"/>
                    <a:pt x="153" y="483"/>
                  </a:cubicBezTo>
                  <a:cubicBezTo>
                    <a:pt x="173" y="503"/>
                    <a:pt x="235" y="535"/>
                    <a:pt x="243" y="546"/>
                  </a:cubicBezTo>
                  <a:cubicBezTo>
                    <a:pt x="251" y="557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8"/>
                    <a:pt x="162" y="612"/>
                  </a:cubicBezTo>
                  <a:cubicBezTo>
                    <a:pt x="165" y="626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8160" y="4680"/>
            <a:ext cx="8435880" cy="6853320"/>
            <a:chOff x="38160" y="4680"/>
            <a:chExt cx="8435880" cy="6853320"/>
          </a:xfrm>
        </p:grpSpPr>
        <p:sp>
          <p:nvSpPr>
            <p:cNvPr id="699" name=""/>
            <p:cNvSpPr/>
            <p:nvPr/>
          </p:nvSpPr>
          <p:spPr>
            <a:xfrm>
              <a:off x="6643800" y="4680"/>
              <a:ext cx="1830240" cy="6853320"/>
            </a:xfrm>
            <a:custGeom>
              <a:avLst/>
              <a:gdLst/>
              <a:ahLst/>
              <a:rect l="l" t="t" r="r" b="b"/>
              <a:pathLst>
                <a:path w="1153" h="4317">
                  <a:moveTo>
                    <a:pt x="0" y="0"/>
                  </a:moveTo>
                  <a:cubicBezTo>
                    <a:pt x="4" y="18"/>
                    <a:pt x="18" y="83"/>
                    <a:pt x="24" y="114"/>
                  </a:cubicBezTo>
                  <a:cubicBezTo>
                    <a:pt x="30" y="145"/>
                    <a:pt x="32" y="168"/>
                    <a:pt x="36" y="188"/>
                  </a:cubicBezTo>
                  <a:cubicBezTo>
                    <a:pt x="40" y="208"/>
                    <a:pt x="44" y="223"/>
                    <a:pt x="50" y="237"/>
                  </a:cubicBezTo>
                  <a:cubicBezTo>
                    <a:pt x="56" y="251"/>
                    <a:pt x="63" y="257"/>
                    <a:pt x="71" y="272"/>
                  </a:cubicBezTo>
                  <a:cubicBezTo>
                    <a:pt x="79" y="287"/>
                    <a:pt x="90" y="309"/>
                    <a:pt x="96" y="327"/>
                  </a:cubicBezTo>
                  <a:cubicBezTo>
                    <a:pt x="102" y="345"/>
                    <a:pt x="101" y="361"/>
                    <a:pt x="105" y="378"/>
                  </a:cubicBezTo>
                  <a:cubicBezTo>
                    <a:pt x="109" y="395"/>
                    <a:pt x="113" y="412"/>
                    <a:pt x="121" y="428"/>
                  </a:cubicBezTo>
                  <a:cubicBezTo>
                    <a:pt x="129" y="444"/>
                    <a:pt x="136" y="457"/>
                    <a:pt x="156" y="477"/>
                  </a:cubicBezTo>
                  <a:cubicBezTo>
                    <a:pt x="176" y="497"/>
                    <a:pt x="235" y="534"/>
                    <a:pt x="243" y="546"/>
                  </a:cubicBezTo>
                  <a:cubicBezTo>
                    <a:pt x="251" y="558"/>
                    <a:pt x="216" y="549"/>
                    <a:pt x="204" y="552"/>
                  </a:cubicBezTo>
                  <a:cubicBezTo>
                    <a:pt x="192" y="555"/>
                    <a:pt x="177" y="552"/>
                    <a:pt x="170" y="562"/>
                  </a:cubicBezTo>
                  <a:cubicBezTo>
                    <a:pt x="163" y="572"/>
                    <a:pt x="159" y="597"/>
                    <a:pt x="163" y="611"/>
                  </a:cubicBezTo>
                  <a:cubicBezTo>
                    <a:pt x="167" y="625"/>
                    <a:pt x="178" y="637"/>
                    <a:pt x="191" y="646"/>
                  </a:cubicBezTo>
                  <a:cubicBezTo>
                    <a:pt x="204" y="655"/>
                    <a:pt x="223" y="668"/>
                    <a:pt x="241" y="668"/>
                  </a:cubicBezTo>
                  <a:cubicBezTo>
                    <a:pt x="259" y="668"/>
                    <a:pt x="285" y="654"/>
                    <a:pt x="297" y="646"/>
                  </a:cubicBezTo>
                  <a:cubicBezTo>
                    <a:pt x="309" y="638"/>
                    <a:pt x="315" y="632"/>
                    <a:pt x="312" y="618"/>
                  </a:cubicBezTo>
                  <a:cubicBezTo>
                    <a:pt x="309" y="604"/>
                    <a:pt x="275" y="570"/>
                    <a:pt x="276" y="564"/>
                  </a:cubicBezTo>
                  <a:cubicBezTo>
                    <a:pt x="277" y="558"/>
                    <a:pt x="310" y="570"/>
                    <a:pt x="321" y="579"/>
                  </a:cubicBezTo>
                  <a:cubicBezTo>
                    <a:pt x="332" y="588"/>
                    <a:pt x="335" y="603"/>
                    <a:pt x="340" y="618"/>
                  </a:cubicBezTo>
                  <a:cubicBezTo>
                    <a:pt x="345" y="633"/>
                    <a:pt x="349" y="649"/>
                    <a:pt x="354" y="668"/>
                  </a:cubicBezTo>
                  <a:cubicBezTo>
                    <a:pt x="359" y="687"/>
                    <a:pt x="366" y="711"/>
                    <a:pt x="368" y="731"/>
                  </a:cubicBezTo>
                  <a:cubicBezTo>
                    <a:pt x="370" y="751"/>
                    <a:pt x="369" y="770"/>
                    <a:pt x="368" y="788"/>
                  </a:cubicBezTo>
                  <a:cubicBezTo>
                    <a:pt x="367" y="806"/>
                    <a:pt x="372" y="824"/>
                    <a:pt x="361" y="837"/>
                  </a:cubicBezTo>
                  <a:cubicBezTo>
                    <a:pt x="350" y="850"/>
                    <a:pt x="308" y="859"/>
                    <a:pt x="304" y="865"/>
                  </a:cubicBezTo>
                  <a:cubicBezTo>
                    <a:pt x="300" y="871"/>
                    <a:pt x="326" y="874"/>
                    <a:pt x="336" y="873"/>
                  </a:cubicBezTo>
                  <a:cubicBezTo>
                    <a:pt x="346" y="872"/>
                    <a:pt x="357" y="859"/>
                    <a:pt x="363" y="861"/>
                  </a:cubicBezTo>
                  <a:cubicBezTo>
                    <a:pt x="369" y="863"/>
                    <a:pt x="375" y="875"/>
                    <a:pt x="375" y="886"/>
                  </a:cubicBezTo>
                  <a:cubicBezTo>
                    <a:pt x="375" y="897"/>
                    <a:pt x="370" y="914"/>
                    <a:pt x="361" y="929"/>
                  </a:cubicBezTo>
                  <a:cubicBezTo>
                    <a:pt x="352" y="944"/>
                    <a:pt x="325" y="959"/>
                    <a:pt x="319" y="978"/>
                  </a:cubicBezTo>
                  <a:cubicBezTo>
                    <a:pt x="313" y="997"/>
                    <a:pt x="323" y="1023"/>
                    <a:pt x="326" y="1042"/>
                  </a:cubicBezTo>
                  <a:cubicBezTo>
                    <a:pt x="329" y="1061"/>
                    <a:pt x="333" y="1073"/>
                    <a:pt x="340" y="1091"/>
                  </a:cubicBezTo>
                  <a:cubicBezTo>
                    <a:pt x="347" y="1109"/>
                    <a:pt x="361" y="1130"/>
                    <a:pt x="368" y="1148"/>
                  </a:cubicBezTo>
                  <a:cubicBezTo>
                    <a:pt x="375" y="1166"/>
                    <a:pt x="377" y="1182"/>
                    <a:pt x="382" y="1197"/>
                  </a:cubicBezTo>
                  <a:cubicBezTo>
                    <a:pt x="387" y="1212"/>
                    <a:pt x="391" y="1225"/>
                    <a:pt x="396" y="1239"/>
                  </a:cubicBezTo>
                  <a:cubicBezTo>
                    <a:pt x="401" y="1253"/>
                    <a:pt x="406" y="1267"/>
                    <a:pt x="410" y="1282"/>
                  </a:cubicBezTo>
                  <a:cubicBezTo>
                    <a:pt x="414" y="1297"/>
                    <a:pt x="407" y="1313"/>
                    <a:pt x="417" y="1331"/>
                  </a:cubicBezTo>
                  <a:cubicBezTo>
                    <a:pt x="427" y="1349"/>
                    <a:pt x="460" y="1371"/>
                    <a:pt x="471" y="1392"/>
                  </a:cubicBezTo>
                  <a:cubicBezTo>
                    <a:pt x="482" y="1413"/>
                    <a:pt x="477" y="1435"/>
                    <a:pt x="486" y="1455"/>
                  </a:cubicBezTo>
                  <a:cubicBezTo>
                    <a:pt x="495" y="1475"/>
                    <a:pt x="517" y="1495"/>
                    <a:pt x="528" y="1515"/>
                  </a:cubicBezTo>
                  <a:cubicBezTo>
                    <a:pt x="539" y="1535"/>
                    <a:pt x="545" y="1559"/>
                    <a:pt x="549" y="1578"/>
                  </a:cubicBezTo>
                  <a:cubicBezTo>
                    <a:pt x="553" y="1597"/>
                    <a:pt x="551" y="1612"/>
                    <a:pt x="551" y="1628"/>
                  </a:cubicBezTo>
                  <a:cubicBezTo>
                    <a:pt x="551" y="1644"/>
                    <a:pt x="547" y="1663"/>
                    <a:pt x="551" y="1677"/>
                  </a:cubicBezTo>
                  <a:cubicBezTo>
                    <a:pt x="555" y="1691"/>
                    <a:pt x="566" y="1694"/>
                    <a:pt x="573" y="1712"/>
                  </a:cubicBezTo>
                  <a:cubicBezTo>
                    <a:pt x="580" y="1730"/>
                    <a:pt x="583" y="1759"/>
                    <a:pt x="594" y="1783"/>
                  </a:cubicBezTo>
                  <a:cubicBezTo>
                    <a:pt x="605" y="1807"/>
                    <a:pt x="618" y="1826"/>
                    <a:pt x="636" y="1853"/>
                  </a:cubicBezTo>
                  <a:cubicBezTo>
                    <a:pt x="654" y="1880"/>
                    <a:pt x="687" y="1915"/>
                    <a:pt x="700" y="1945"/>
                  </a:cubicBezTo>
                  <a:cubicBezTo>
                    <a:pt x="713" y="1975"/>
                    <a:pt x="701" y="2004"/>
                    <a:pt x="714" y="2030"/>
                  </a:cubicBezTo>
                  <a:cubicBezTo>
                    <a:pt x="727" y="2056"/>
                    <a:pt x="764" y="2078"/>
                    <a:pt x="777" y="2101"/>
                  </a:cubicBezTo>
                  <a:cubicBezTo>
                    <a:pt x="790" y="2124"/>
                    <a:pt x="789" y="2146"/>
                    <a:pt x="791" y="2171"/>
                  </a:cubicBezTo>
                  <a:cubicBezTo>
                    <a:pt x="793" y="2196"/>
                    <a:pt x="789" y="2225"/>
                    <a:pt x="791" y="2249"/>
                  </a:cubicBezTo>
                  <a:cubicBezTo>
                    <a:pt x="793" y="2273"/>
                    <a:pt x="799" y="2285"/>
                    <a:pt x="806" y="2312"/>
                  </a:cubicBezTo>
                  <a:cubicBezTo>
                    <a:pt x="813" y="2339"/>
                    <a:pt x="822" y="2383"/>
                    <a:pt x="834" y="2411"/>
                  </a:cubicBezTo>
                  <a:cubicBezTo>
                    <a:pt x="846" y="2439"/>
                    <a:pt x="865" y="2463"/>
                    <a:pt x="876" y="2481"/>
                  </a:cubicBezTo>
                  <a:cubicBezTo>
                    <a:pt x="887" y="2499"/>
                    <a:pt x="893" y="2501"/>
                    <a:pt x="900" y="2520"/>
                  </a:cubicBezTo>
                  <a:cubicBezTo>
                    <a:pt x="907" y="2539"/>
                    <a:pt x="914" y="2573"/>
                    <a:pt x="915" y="2595"/>
                  </a:cubicBezTo>
                  <a:cubicBezTo>
                    <a:pt x="916" y="2617"/>
                    <a:pt x="902" y="2621"/>
                    <a:pt x="904" y="2651"/>
                  </a:cubicBezTo>
                  <a:cubicBezTo>
                    <a:pt x="906" y="2681"/>
                    <a:pt x="924" y="2749"/>
                    <a:pt x="926" y="2778"/>
                  </a:cubicBezTo>
                  <a:cubicBezTo>
                    <a:pt x="928" y="2807"/>
                    <a:pt x="916" y="2817"/>
                    <a:pt x="919" y="2828"/>
                  </a:cubicBezTo>
                  <a:cubicBezTo>
                    <a:pt x="922" y="2839"/>
                    <a:pt x="934" y="2834"/>
                    <a:pt x="947" y="2842"/>
                  </a:cubicBezTo>
                  <a:cubicBezTo>
                    <a:pt x="960" y="2850"/>
                    <a:pt x="979" y="2859"/>
                    <a:pt x="996" y="2874"/>
                  </a:cubicBezTo>
                  <a:cubicBezTo>
                    <a:pt x="1013" y="2889"/>
                    <a:pt x="1035" y="2910"/>
                    <a:pt x="1047" y="2934"/>
                  </a:cubicBezTo>
                  <a:cubicBezTo>
                    <a:pt x="1059" y="2958"/>
                    <a:pt x="1060" y="2999"/>
                    <a:pt x="1067" y="3018"/>
                  </a:cubicBezTo>
                  <a:cubicBezTo>
                    <a:pt x="1074" y="3037"/>
                    <a:pt x="1079" y="3029"/>
                    <a:pt x="1088" y="3046"/>
                  </a:cubicBezTo>
                  <a:cubicBezTo>
                    <a:pt x="1097" y="3063"/>
                    <a:pt x="1112" y="3091"/>
                    <a:pt x="1123" y="3117"/>
                  </a:cubicBezTo>
                  <a:cubicBezTo>
                    <a:pt x="1134" y="3143"/>
                    <a:pt x="1153" y="3175"/>
                    <a:pt x="1151" y="3202"/>
                  </a:cubicBezTo>
                  <a:cubicBezTo>
                    <a:pt x="1149" y="3229"/>
                    <a:pt x="1124" y="3249"/>
                    <a:pt x="1109" y="3279"/>
                  </a:cubicBezTo>
                  <a:cubicBezTo>
                    <a:pt x="1094" y="3309"/>
                    <a:pt x="1078" y="3352"/>
                    <a:pt x="1060" y="3385"/>
                  </a:cubicBezTo>
                  <a:cubicBezTo>
                    <a:pt x="1042" y="3418"/>
                    <a:pt x="1015" y="3442"/>
                    <a:pt x="1003" y="3477"/>
                  </a:cubicBezTo>
                  <a:cubicBezTo>
                    <a:pt x="991" y="3512"/>
                    <a:pt x="996" y="3559"/>
                    <a:pt x="989" y="3597"/>
                  </a:cubicBezTo>
                  <a:cubicBezTo>
                    <a:pt x="982" y="3635"/>
                    <a:pt x="968" y="3664"/>
                    <a:pt x="961" y="3703"/>
                  </a:cubicBezTo>
                  <a:cubicBezTo>
                    <a:pt x="954" y="3742"/>
                    <a:pt x="960" y="3764"/>
                    <a:pt x="947" y="3830"/>
                  </a:cubicBezTo>
                  <a:cubicBezTo>
                    <a:pt x="934" y="3896"/>
                    <a:pt x="895" y="4040"/>
                    <a:pt x="883" y="4098"/>
                  </a:cubicBezTo>
                  <a:cubicBezTo>
                    <a:pt x="871" y="4156"/>
                    <a:pt x="880" y="4151"/>
                    <a:pt x="876" y="4176"/>
                  </a:cubicBezTo>
                  <a:cubicBezTo>
                    <a:pt x="872" y="4201"/>
                    <a:pt x="865" y="4228"/>
                    <a:pt x="861" y="4251"/>
                  </a:cubicBezTo>
                  <a:cubicBezTo>
                    <a:pt x="857" y="4274"/>
                    <a:pt x="851" y="4306"/>
                    <a:pt x="849" y="431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160" y="355680"/>
              <a:ext cx="706320" cy="1860480"/>
            </a:xfrm>
            <a:custGeom>
              <a:avLst/>
              <a:gdLst/>
              <a:ahLst/>
              <a:rect l="l" t="t" r="r" b="b"/>
              <a:pathLst>
                <a:path w="445" h="1172">
                  <a:moveTo>
                    <a:pt x="308" y="1172"/>
                  </a:moveTo>
                  <a:cubicBezTo>
                    <a:pt x="312" y="1140"/>
                    <a:pt x="316" y="1108"/>
                    <a:pt x="324" y="1072"/>
                  </a:cubicBezTo>
                  <a:cubicBezTo>
                    <a:pt x="332" y="1036"/>
                    <a:pt x="351" y="987"/>
                    <a:pt x="356" y="956"/>
                  </a:cubicBezTo>
                  <a:cubicBezTo>
                    <a:pt x="361" y="925"/>
                    <a:pt x="355" y="909"/>
                    <a:pt x="356" y="888"/>
                  </a:cubicBezTo>
                  <a:cubicBezTo>
                    <a:pt x="357" y="867"/>
                    <a:pt x="359" y="846"/>
                    <a:pt x="364" y="828"/>
                  </a:cubicBezTo>
                  <a:cubicBezTo>
                    <a:pt x="369" y="810"/>
                    <a:pt x="381" y="792"/>
                    <a:pt x="388" y="780"/>
                  </a:cubicBezTo>
                  <a:cubicBezTo>
                    <a:pt x="395" y="768"/>
                    <a:pt x="395" y="759"/>
                    <a:pt x="404" y="756"/>
                  </a:cubicBezTo>
                  <a:cubicBezTo>
                    <a:pt x="413" y="753"/>
                    <a:pt x="435" y="766"/>
                    <a:pt x="440" y="760"/>
                  </a:cubicBezTo>
                  <a:cubicBezTo>
                    <a:pt x="445" y="754"/>
                    <a:pt x="439" y="743"/>
                    <a:pt x="432" y="720"/>
                  </a:cubicBezTo>
                  <a:cubicBezTo>
                    <a:pt x="425" y="697"/>
                    <a:pt x="406" y="654"/>
                    <a:pt x="400" y="620"/>
                  </a:cubicBezTo>
                  <a:cubicBezTo>
                    <a:pt x="394" y="586"/>
                    <a:pt x="397" y="549"/>
                    <a:pt x="396" y="516"/>
                  </a:cubicBezTo>
                  <a:cubicBezTo>
                    <a:pt x="395" y="483"/>
                    <a:pt x="400" y="443"/>
                    <a:pt x="396" y="420"/>
                  </a:cubicBezTo>
                  <a:cubicBezTo>
                    <a:pt x="392" y="397"/>
                    <a:pt x="384" y="391"/>
                    <a:pt x="372" y="380"/>
                  </a:cubicBezTo>
                  <a:cubicBezTo>
                    <a:pt x="360" y="369"/>
                    <a:pt x="330" y="365"/>
                    <a:pt x="324" y="356"/>
                  </a:cubicBezTo>
                  <a:cubicBezTo>
                    <a:pt x="318" y="347"/>
                    <a:pt x="331" y="335"/>
                    <a:pt x="336" y="328"/>
                  </a:cubicBezTo>
                  <a:cubicBezTo>
                    <a:pt x="341" y="321"/>
                    <a:pt x="350" y="324"/>
                    <a:pt x="356" y="312"/>
                  </a:cubicBezTo>
                  <a:cubicBezTo>
                    <a:pt x="362" y="300"/>
                    <a:pt x="373" y="269"/>
                    <a:pt x="372" y="256"/>
                  </a:cubicBezTo>
                  <a:cubicBezTo>
                    <a:pt x="371" y="243"/>
                    <a:pt x="363" y="233"/>
                    <a:pt x="352" y="236"/>
                  </a:cubicBezTo>
                  <a:cubicBezTo>
                    <a:pt x="341" y="239"/>
                    <a:pt x="317" y="271"/>
                    <a:pt x="304" y="272"/>
                  </a:cubicBezTo>
                  <a:cubicBezTo>
                    <a:pt x="291" y="273"/>
                    <a:pt x="283" y="252"/>
                    <a:pt x="276" y="240"/>
                  </a:cubicBezTo>
                  <a:cubicBezTo>
                    <a:pt x="269" y="228"/>
                    <a:pt x="275" y="203"/>
                    <a:pt x="264" y="200"/>
                  </a:cubicBezTo>
                  <a:cubicBezTo>
                    <a:pt x="253" y="197"/>
                    <a:pt x="221" y="220"/>
                    <a:pt x="208" y="224"/>
                  </a:cubicBezTo>
                  <a:cubicBezTo>
                    <a:pt x="195" y="228"/>
                    <a:pt x="187" y="235"/>
                    <a:pt x="184" y="224"/>
                  </a:cubicBezTo>
                  <a:cubicBezTo>
                    <a:pt x="181" y="213"/>
                    <a:pt x="194" y="179"/>
                    <a:pt x="192" y="160"/>
                  </a:cubicBezTo>
                  <a:cubicBezTo>
                    <a:pt x="190" y="141"/>
                    <a:pt x="177" y="125"/>
                    <a:pt x="172" y="112"/>
                  </a:cubicBezTo>
                  <a:cubicBezTo>
                    <a:pt x="167" y="99"/>
                    <a:pt x="172" y="91"/>
                    <a:pt x="160" y="84"/>
                  </a:cubicBezTo>
                  <a:cubicBezTo>
                    <a:pt x="148" y="77"/>
                    <a:pt x="123" y="79"/>
                    <a:pt x="100" y="68"/>
                  </a:cubicBezTo>
                  <a:cubicBezTo>
                    <a:pt x="77" y="57"/>
                    <a:pt x="41" y="31"/>
                    <a:pt x="24" y="20"/>
                  </a:cubicBezTo>
                  <a:cubicBezTo>
                    <a:pt x="7" y="9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69800" y="619200"/>
              <a:ext cx="7608960" cy="6054480"/>
              <a:chOff x="469800" y="619200"/>
              <a:chExt cx="7608960" cy="6054480"/>
            </a:xfrm>
          </p:grpSpPr>
          <p:sp>
            <p:nvSpPr>
              <p:cNvPr id="702" name=""/>
              <p:cNvSpPr/>
              <p:nvPr/>
            </p:nvSpPr>
            <p:spPr>
              <a:xfrm>
                <a:off x="469800" y="619200"/>
                <a:ext cx="6321600" cy="5421240"/>
              </a:xfrm>
              <a:custGeom>
                <a:avLst/>
                <a:gdLst/>
                <a:ahLst/>
                <a:rect l="l" t="t" r="r" b="b"/>
                <a:pathLst>
                  <a:path w="3982" h="3415">
                    <a:moveTo>
                      <a:pt x="120" y="3415"/>
                    </a:moveTo>
                    <a:lnTo>
                      <a:pt x="128" y="2342"/>
                    </a:lnTo>
                    <a:lnTo>
                      <a:pt x="92" y="2257"/>
                    </a:lnTo>
                    <a:lnTo>
                      <a:pt x="142" y="2208"/>
                    </a:lnTo>
                    <a:lnTo>
                      <a:pt x="149" y="1961"/>
                    </a:lnTo>
                    <a:lnTo>
                      <a:pt x="120" y="1918"/>
                    </a:lnTo>
                    <a:lnTo>
                      <a:pt x="135" y="1862"/>
                    </a:lnTo>
                    <a:lnTo>
                      <a:pt x="142" y="1784"/>
                    </a:lnTo>
                    <a:lnTo>
                      <a:pt x="128" y="1608"/>
                    </a:lnTo>
                    <a:lnTo>
                      <a:pt x="177" y="1544"/>
                    </a:lnTo>
                    <a:lnTo>
                      <a:pt x="156" y="1502"/>
                    </a:lnTo>
                    <a:lnTo>
                      <a:pt x="120" y="1459"/>
                    </a:lnTo>
                    <a:lnTo>
                      <a:pt x="113" y="1396"/>
                    </a:lnTo>
                    <a:lnTo>
                      <a:pt x="71" y="1354"/>
                    </a:lnTo>
                    <a:lnTo>
                      <a:pt x="43" y="1304"/>
                    </a:lnTo>
                    <a:lnTo>
                      <a:pt x="22" y="1248"/>
                    </a:lnTo>
                    <a:lnTo>
                      <a:pt x="0" y="1198"/>
                    </a:lnTo>
                    <a:lnTo>
                      <a:pt x="29" y="1078"/>
                    </a:lnTo>
                    <a:lnTo>
                      <a:pt x="43" y="1008"/>
                    </a:lnTo>
                    <a:lnTo>
                      <a:pt x="78" y="986"/>
                    </a:lnTo>
                    <a:lnTo>
                      <a:pt x="128" y="994"/>
                    </a:lnTo>
                    <a:lnTo>
                      <a:pt x="163" y="1022"/>
                    </a:lnTo>
                    <a:lnTo>
                      <a:pt x="212" y="1043"/>
                    </a:lnTo>
                    <a:lnTo>
                      <a:pt x="283" y="1050"/>
                    </a:lnTo>
                    <a:lnTo>
                      <a:pt x="325" y="1078"/>
                    </a:lnTo>
                    <a:lnTo>
                      <a:pt x="382" y="1078"/>
                    </a:lnTo>
                    <a:lnTo>
                      <a:pt x="438" y="1022"/>
                    </a:lnTo>
                    <a:lnTo>
                      <a:pt x="473" y="944"/>
                    </a:lnTo>
                    <a:lnTo>
                      <a:pt x="516" y="902"/>
                    </a:lnTo>
                    <a:lnTo>
                      <a:pt x="558" y="866"/>
                    </a:lnTo>
                    <a:lnTo>
                      <a:pt x="579" y="810"/>
                    </a:lnTo>
                    <a:lnTo>
                      <a:pt x="600" y="775"/>
                    </a:lnTo>
                    <a:lnTo>
                      <a:pt x="629" y="746"/>
                    </a:lnTo>
                    <a:lnTo>
                      <a:pt x="678" y="711"/>
                    </a:lnTo>
                    <a:lnTo>
                      <a:pt x="720" y="711"/>
                    </a:lnTo>
                    <a:lnTo>
                      <a:pt x="770" y="718"/>
                    </a:lnTo>
                    <a:lnTo>
                      <a:pt x="833" y="725"/>
                    </a:lnTo>
                    <a:lnTo>
                      <a:pt x="862" y="683"/>
                    </a:lnTo>
                    <a:lnTo>
                      <a:pt x="888" y="682"/>
                    </a:lnTo>
                    <a:lnTo>
                      <a:pt x="904" y="718"/>
                    </a:lnTo>
                    <a:lnTo>
                      <a:pt x="939" y="690"/>
                    </a:lnTo>
                    <a:lnTo>
                      <a:pt x="968" y="698"/>
                    </a:lnTo>
                    <a:lnTo>
                      <a:pt x="989" y="725"/>
                    </a:lnTo>
                    <a:lnTo>
                      <a:pt x="1032" y="706"/>
                    </a:lnTo>
                    <a:lnTo>
                      <a:pt x="1066" y="725"/>
                    </a:lnTo>
                    <a:lnTo>
                      <a:pt x="1137" y="732"/>
                    </a:lnTo>
                    <a:lnTo>
                      <a:pt x="1176" y="730"/>
                    </a:lnTo>
                    <a:lnTo>
                      <a:pt x="1208" y="761"/>
                    </a:lnTo>
                    <a:lnTo>
                      <a:pt x="1228" y="746"/>
                    </a:lnTo>
                    <a:lnTo>
                      <a:pt x="1236" y="698"/>
                    </a:lnTo>
                    <a:lnTo>
                      <a:pt x="1264" y="706"/>
                    </a:lnTo>
                    <a:lnTo>
                      <a:pt x="1252" y="790"/>
                    </a:lnTo>
                    <a:lnTo>
                      <a:pt x="1280" y="806"/>
                    </a:lnTo>
                    <a:lnTo>
                      <a:pt x="1296" y="774"/>
                    </a:lnTo>
                    <a:lnTo>
                      <a:pt x="1320" y="770"/>
                    </a:lnTo>
                    <a:lnTo>
                      <a:pt x="1328" y="818"/>
                    </a:lnTo>
                    <a:lnTo>
                      <a:pt x="1360" y="802"/>
                    </a:lnTo>
                    <a:lnTo>
                      <a:pt x="1405" y="817"/>
                    </a:lnTo>
                    <a:lnTo>
                      <a:pt x="1416" y="786"/>
                    </a:lnTo>
                    <a:lnTo>
                      <a:pt x="1398" y="761"/>
                    </a:lnTo>
                    <a:lnTo>
                      <a:pt x="1356" y="732"/>
                    </a:lnTo>
                    <a:lnTo>
                      <a:pt x="1320" y="690"/>
                    </a:lnTo>
                    <a:lnTo>
                      <a:pt x="1306" y="634"/>
                    </a:lnTo>
                    <a:lnTo>
                      <a:pt x="1320" y="584"/>
                    </a:lnTo>
                    <a:lnTo>
                      <a:pt x="1370" y="535"/>
                    </a:lnTo>
                    <a:lnTo>
                      <a:pt x="1419" y="542"/>
                    </a:lnTo>
                    <a:lnTo>
                      <a:pt x="1462" y="570"/>
                    </a:lnTo>
                    <a:lnTo>
                      <a:pt x="1553" y="591"/>
                    </a:lnTo>
                    <a:lnTo>
                      <a:pt x="1603" y="612"/>
                    </a:lnTo>
                    <a:lnTo>
                      <a:pt x="1638" y="641"/>
                    </a:lnTo>
                    <a:lnTo>
                      <a:pt x="1680" y="634"/>
                    </a:lnTo>
                    <a:lnTo>
                      <a:pt x="1723" y="591"/>
                    </a:lnTo>
                    <a:lnTo>
                      <a:pt x="1779" y="577"/>
                    </a:lnTo>
                    <a:lnTo>
                      <a:pt x="1822" y="577"/>
                    </a:lnTo>
                    <a:lnTo>
                      <a:pt x="1864" y="626"/>
                    </a:lnTo>
                    <a:lnTo>
                      <a:pt x="1876" y="670"/>
                    </a:lnTo>
                    <a:lnTo>
                      <a:pt x="1920" y="674"/>
                    </a:lnTo>
                    <a:lnTo>
                      <a:pt x="1956" y="648"/>
                    </a:lnTo>
                    <a:lnTo>
                      <a:pt x="2005" y="598"/>
                    </a:lnTo>
                    <a:lnTo>
                      <a:pt x="2026" y="563"/>
                    </a:lnTo>
                    <a:lnTo>
                      <a:pt x="2055" y="521"/>
                    </a:lnTo>
                    <a:lnTo>
                      <a:pt x="2104" y="471"/>
                    </a:lnTo>
                    <a:lnTo>
                      <a:pt x="2160" y="450"/>
                    </a:lnTo>
                    <a:lnTo>
                      <a:pt x="2217" y="401"/>
                    </a:lnTo>
                    <a:lnTo>
                      <a:pt x="2266" y="408"/>
                    </a:lnTo>
                    <a:cubicBezTo>
                      <a:pt x="2266" y="424"/>
                      <a:pt x="2266" y="441"/>
                      <a:pt x="2266" y="457"/>
                    </a:cubicBezTo>
                    <a:lnTo>
                      <a:pt x="2323" y="499"/>
                    </a:lnTo>
                    <a:lnTo>
                      <a:pt x="2393" y="506"/>
                    </a:lnTo>
                    <a:lnTo>
                      <a:pt x="2443" y="506"/>
                    </a:lnTo>
                    <a:lnTo>
                      <a:pt x="2499" y="492"/>
                    </a:lnTo>
                    <a:lnTo>
                      <a:pt x="2577" y="485"/>
                    </a:lnTo>
                    <a:lnTo>
                      <a:pt x="2640" y="478"/>
                    </a:lnTo>
                    <a:lnTo>
                      <a:pt x="2697" y="478"/>
                    </a:lnTo>
                    <a:lnTo>
                      <a:pt x="2739" y="499"/>
                    </a:lnTo>
                    <a:lnTo>
                      <a:pt x="2810" y="556"/>
                    </a:lnTo>
                    <a:lnTo>
                      <a:pt x="2859" y="584"/>
                    </a:lnTo>
                    <a:lnTo>
                      <a:pt x="2916" y="584"/>
                    </a:lnTo>
                    <a:lnTo>
                      <a:pt x="2937" y="549"/>
                    </a:lnTo>
                    <a:lnTo>
                      <a:pt x="2958" y="485"/>
                    </a:lnTo>
                    <a:lnTo>
                      <a:pt x="3036" y="464"/>
                    </a:lnTo>
                    <a:lnTo>
                      <a:pt x="3085" y="464"/>
                    </a:lnTo>
                    <a:lnTo>
                      <a:pt x="3149" y="499"/>
                    </a:lnTo>
                    <a:lnTo>
                      <a:pt x="3233" y="514"/>
                    </a:lnTo>
                    <a:lnTo>
                      <a:pt x="3297" y="542"/>
                    </a:lnTo>
                    <a:lnTo>
                      <a:pt x="3368" y="556"/>
                    </a:lnTo>
                    <a:lnTo>
                      <a:pt x="3431" y="549"/>
                    </a:lnTo>
                    <a:lnTo>
                      <a:pt x="3445" y="506"/>
                    </a:lnTo>
                    <a:lnTo>
                      <a:pt x="3480" y="478"/>
                    </a:lnTo>
                    <a:lnTo>
                      <a:pt x="3544" y="464"/>
                    </a:lnTo>
                    <a:lnTo>
                      <a:pt x="3600" y="464"/>
                    </a:lnTo>
                    <a:lnTo>
                      <a:pt x="3629" y="401"/>
                    </a:lnTo>
                    <a:lnTo>
                      <a:pt x="3692" y="386"/>
                    </a:lnTo>
                    <a:lnTo>
                      <a:pt x="3742" y="323"/>
                    </a:lnTo>
                    <a:lnTo>
                      <a:pt x="3777" y="266"/>
                    </a:lnTo>
                    <a:lnTo>
                      <a:pt x="3805" y="224"/>
                    </a:lnTo>
                    <a:lnTo>
                      <a:pt x="3805" y="175"/>
                    </a:lnTo>
                    <a:lnTo>
                      <a:pt x="3840" y="154"/>
                    </a:lnTo>
                    <a:lnTo>
                      <a:pt x="3883" y="118"/>
                    </a:lnTo>
                    <a:lnTo>
                      <a:pt x="3934" y="87"/>
                    </a:lnTo>
                    <a:lnTo>
                      <a:pt x="3949" y="0"/>
                    </a:lnTo>
                    <a:lnTo>
                      <a:pt x="398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240" y="5654520"/>
                <a:ext cx="7418520" cy="1019160"/>
              </a:xfrm>
              <a:custGeom>
                <a:avLst/>
                <a:gdLst/>
                <a:ahLst/>
                <a:rect l="l" t="t" r="r" b="b"/>
                <a:pathLst>
                  <a:path w="4673" h="642">
                    <a:moveTo>
                      <a:pt x="0" y="243"/>
                    </a:moveTo>
                    <a:cubicBezTo>
                      <a:pt x="22" y="246"/>
                      <a:pt x="44" y="249"/>
                      <a:pt x="64" y="257"/>
                    </a:cubicBezTo>
                    <a:cubicBezTo>
                      <a:pt x="84" y="265"/>
                      <a:pt x="98" y="284"/>
                      <a:pt x="120" y="292"/>
                    </a:cubicBezTo>
                    <a:cubicBezTo>
                      <a:pt x="142" y="300"/>
                      <a:pt x="176" y="301"/>
                      <a:pt x="198" y="306"/>
                    </a:cubicBezTo>
                    <a:cubicBezTo>
                      <a:pt x="220" y="311"/>
                      <a:pt x="235" y="318"/>
                      <a:pt x="255" y="320"/>
                    </a:cubicBezTo>
                    <a:cubicBezTo>
                      <a:pt x="275" y="322"/>
                      <a:pt x="293" y="328"/>
                      <a:pt x="318" y="320"/>
                    </a:cubicBezTo>
                    <a:cubicBezTo>
                      <a:pt x="343" y="312"/>
                      <a:pt x="381" y="285"/>
                      <a:pt x="403" y="271"/>
                    </a:cubicBezTo>
                    <a:cubicBezTo>
                      <a:pt x="425" y="257"/>
                      <a:pt x="438" y="238"/>
                      <a:pt x="452" y="236"/>
                    </a:cubicBezTo>
                    <a:cubicBezTo>
                      <a:pt x="466" y="234"/>
                      <a:pt x="474" y="254"/>
                      <a:pt x="488" y="257"/>
                    </a:cubicBezTo>
                    <a:cubicBezTo>
                      <a:pt x="502" y="260"/>
                      <a:pt x="523" y="265"/>
                      <a:pt x="537" y="257"/>
                    </a:cubicBezTo>
                    <a:cubicBezTo>
                      <a:pt x="551" y="249"/>
                      <a:pt x="554" y="220"/>
                      <a:pt x="572" y="207"/>
                    </a:cubicBezTo>
                    <a:cubicBezTo>
                      <a:pt x="590" y="194"/>
                      <a:pt x="622" y="184"/>
                      <a:pt x="643" y="179"/>
                    </a:cubicBezTo>
                    <a:cubicBezTo>
                      <a:pt x="664" y="174"/>
                      <a:pt x="677" y="178"/>
                      <a:pt x="699" y="179"/>
                    </a:cubicBezTo>
                    <a:cubicBezTo>
                      <a:pt x="721" y="180"/>
                      <a:pt x="751" y="181"/>
                      <a:pt x="777" y="186"/>
                    </a:cubicBezTo>
                    <a:cubicBezTo>
                      <a:pt x="803" y="191"/>
                      <a:pt x="834" y="206"/>
                      <a:pt x="855" y="207"/>
                    </a:cubicBezTo>
                    <a:cubicBezTo>
                      <a:pt x="876" y="208"/>
                      <a:pt x="883" y="193"/>
                      <a:pt x="904" y="193"/>
                    </a:cubicBezTo>
                    <a:cubicBezTo>
                      <a:pt x="925" y="193"/>
                      <a:pt x="959" y="205"/>
                      <a:pt x="982" y="207"/>
                    </a:cubicBezTo>
                    <a:cubicBezTo>
                      <a:pt x="1005" y="209"/>
                      <a:pt x="1018" y="209"/>
                      <a:pt x="1045" y="207"/>
                    </a:cubicBezTo>
                    <a:cubicBezTo>
                      <a:pt x="1072" y="205"/>
                      <a:pt x="1124" y="201"/>
                      <a:pt x="1144" y="193"/>
                    </a:cubicBezTo>
                    <a:cubicBezTo>
                      <a:pt x="1164" y="185"/>
                      <a:pt x="1153" y="167"/>
                      <a:pt x="1165" y="158"/>
                    </a:cubicBezTo>
                    <a:cubicBezTo>
                      <a:pt x="1177" y="149"/>
                      <a:pt x="1195" y="141"/>
                      <a:pt x="1215" y="137"/>
                    </a:cubicBezTo>
                    <a:cubicBezTo>
                      <a:pt x="1235" y="133"/>
                      <a:pt x="1268" y="134"/>
                      <a:pt x="1285" y="137"/>
                    </a:cubicBezTo>
                    <a:cubicBezTo>
                      <a:pt x="1302" y="140"/>
                      <a:pt x="1307" y="160"/>
                      <a:pt x="1320" y="158"/>
                    </a:cubicBezTo>
                    <a:cubicBezTo>
                      <a:pt x="1333" y="156"/>
                      <a:pt x="1350" y="124"/>
                      <a:pt x="1363" y="123"/>
                    </a:cubicBezTo>
                    <a:cubicBezTo>
                      <a:pt x="1376" y="122"/>
                      <a:pt x="1385" y="140"/>
                      <a:pt x="1398" y="151"/>
                    </a:cubicBezTo>
                    <a:cubicBezTo>
                      <a:pt x="1411" y="162"/>
                      <a:pt x="1427" y="177"/>
                      <a:pt x="1440" y="186"/>
                    </a:cubicBezTo>
                    <a:cubicBezTo>
                      <a:pt x="1453" y="195"/>
                      <a:pt x="1461" y="201"/>
                      <a:pt x="1476" y="207"/>
                    </a:cubicBezTo>
                    <a:cubicBezTo>
                      <a:pt x="1491" y="213"/>
                      <a:pt x="1520" y="230"/>
                      <a:pt x="1532" y="222"/>
                    </a:cubicBezTo>
                    <a:cubicBezTo>
                      <a:pt x="1544" y="214"/>
                      <a:pt x="1537" y="175"/>
                      <a:pt x="1546" y="158"/>
                    </a:cubicBezTo>
                    <a:cubicBezTo>
                      <a:pt x="1555" y="141"/>
                      <a:pt x="1575" y="123"/>
                      <a:pt x="1589" y="116"/>
                    </a:cubicBezTo>
                    <a:cubicBezTo>
                      <a:pt x="1603" y="109"/>
                      <a:pt x="1616" y="120"/>
                      <a:pt x="1631" y="116"/>
                    </a:cubicBezTo>
                    <a:cubicBezTo>
                      <a:pt x="1646" y="112"/>
                      <a:pt x="1659" y="100"/>
                      <a:pt x="1680" y="94"/>
                    </a:cubicBezTo>
                    <a:cubicBezTo>
                      <a:pt x="1701" y="88"/>
                      <a:pt x="1737" y="85"/>
                      <a:pt x="1758" y="80"/>
                    </a:cubicBezTo>
                    <a:cubicBezTo>
                      <a:pt x="1779" y="75"/>
                      <a:pt x="1780" y="73"/>
                      <a:pt x="1808" y="66"/>
                    </a:cubicBezTo>
                    <a:cubicBezTo>
                      <a:pt x="1836" y="59"/>
                      <a:pt x="1896" y="44"/>
                      <a:pt x="1928" y="38"/>
                    </a:cubicBezTo>
                    <a:cubicBezTo>
                      <a:pt x="1960" y="32"/>
                      <a:pt x="1979" y="34"/>
                      <a:pt x="1998" y="31"/>
                    </a:cubicBezTo>
                    <a:cubicBezTo>
                      <a:pt x="2017" y="28"/>
                      <a:pt x="2025" y="21"/>
                      <a:pt x="2040" y="17"/>
                    </a:cubicBezTo>
                    <a:cubicBezTo>
                      <a:pt x="2055" y="13"/>
                      <a:pt x="2072" y="12"/>
                      <a:pt x="2090" y="10"/>
                    </a:cubicBezTo>
                    <a:cubicBezTo>
                      <a:pt x="2108" y="8"/>
                      <a:pt x="2126" y="3"/>
                      <a:pt x="2146" y="3"/>
                    </a:cubicBezTo>
                    <a:cubicBezTo>
                      <a:pt x="2166" y="3"/>
                      <a:pt x="2197" y="0"/>
                      <a:pt x="2210" y="10"/>
                    </a:cubicBezTo>
                    <a:cubicBezTo>
                      <a:pt x="2223" y="20"/>
                      <a:pt x="2216" y="53"/>
                      <a:pt x="2224" y="66"/>
                    </a:cubicBezTo>
                    <a:cubicBezTo>
                      <a:pt x="2232" y="79"/>
                      <a:pt x="2246" y="86"/>
                      <a:pt x="2259" y="87"/>
                    </a:cubicBezTo>
                    <a:cubicBezTo>
                      <a:pt x="2272" y="88"/>
                      <a:pt x="2289" y="66"/>
                      <a:pt x="2302" y="73"/>
                    </a:cubicBezTo>
                    <a:cubicBezTo>
                      <a:pt x="2315" y="80"/>
                      <a:pt x="2325" y="113"/>
                      <a:pt x="2337" y="130"/>
                    </a:cubicBezTo>
                    <a:cubicBezTo>
                      <a:pt x="2349" y="147"/>
                      <a:pt x="2362" y="157"/>
                      <a:pt x="2372" y="172"/>
                    </a:cubicBezTo>
                    <a:cubicBezTo>
                      <a:pt x="2382" y="187"/>
                      <a:pt x="2380" y="204"/>
                      <a:pt x="2400" y="222"/>
                    </a:cubicBezTo>
                    <a:cubicBezTo>
                      <a:pt x="2420" y="240"/>
                      <a:pt x="2470" y="264"/>
                      <a:pt x="2492" y="278"/>
                    </a:cubicBezTo>
                    <a:cubicBezTo>
                      <a:pt x="2514" y="292"/>
                      <a:pt x="2521" y="299"/>
                      <a:pt x="2535" y="306"/>
                    </a:cubicBezTo>
                    <a:cubicBezTo>
                      <a:pt x="2549" y="313"/>
                      <a:pt x="2562" y="313"/>
                      <a:pt x="2577" y="320"/>
                    </a:cubicBezTo>
                    <a:cubicBezTo>
                      <a:pt x="2592" y="327"/>
                      <a:pt x="2607" y="341"/>
                      <a:pt x="2626" y="349"/>
                    </a:cubicBezTo>
                    <a:cubicBezTo>
                      <a:pt x="2645" y="357"/>
                      <a:pt x="2670" y="366"/>
                      <a:pt x="2690" y="370"/>
                    </a:cubicBezTo>
                    <a:cubicBezTo>
                      <a:pt x="2710" y="374"/>
                      <a:pt x="2730" y="369"/>
                      <a:pt x="2746" y="370"/>
                    </a:cubicBezTo>
                    <a:cubicBezTo>
                      <a:pt x="2762" y="371"/>
                      <a:pt x="2774" y="373"/>
                      <a:pt x="2789" y="377"/>
                    </a:cubicBezTo>
                    <a:cubicBezTo>
                      <a:pt x="2804" y="381"/>
                      <a:pt x="2823" y="385"/>
                      <a:pt x="2838" y="391"/>
                    </a:cubicBezTo>
                    <a:cubicBezTo>
                      <a:pt x="2853" y="397"/>
                      <a:pt x="2864" y="409"/>
                      <a:pt x="2880" y="412"/>
                    </a:cubicBezTo>
                    <a:cubicBezTo>
                      <a:pt x="2896" y="415"/>
                      <a:pt x="2918" y="411"/>
                      <a:pt x="2937" y="412"/>
                    </a:cubicBezTo>
                    <a:cubicBezTo>
                      <a:pt x="2956" y="413"/>
                      <a:pt x="2972" y="412"/>
                      <a:pt x="2993" y="419"/>
                    </a:cubicBezTo>
                    <a:cubicBezTo>
                      <a:pt x="3014" y="426"/>
                      <a:pt x="3043" y="435"/>
                      <a:pt x="3064" y="454"/>
                    </a:cubicBezTo>
                    <a:cubicBezTo>
                      <a:pt x="3085" y="473"/>
                      <a:pt x="3104" y="517"/>
                      <a:pt x="3120" y="532"/>
                    </a:cubicBezTo>
                    <a:cubicBezTo>
                      <a:pt x="3136" y="547"/>
                      <a:pt x="3146" y="536"/>
                      <a:pt x="3163" y="546"/>
                    </a:cubicBezTo>
                    <a:cubicBezTo>
                      <a:pt x="3180" y="556"/>
                      <a:pt x="3199" y="577"/>
                      <a:pt x="3219" y="589"/>
                    </a:cubicBezTo>
                    <a:cubicBezTo>
                      <a:pt x="3239" y="601"/>
                      <a:pt x="3264" y="610"/>
                      <a:pt x="3283" y="617"/>
                    </a:cubicBezTo>
                    <a:cubicBezTo>
                      <a:pt x="3302" y="624"/>
                      <a:pt x="3312" y="631"/>
                      <a:pt x="3332" y="631"/>
                    </a:cubicBezTo>
                    <a:cubicBezTo>
                      <a:pt x="3352" y="631"/>
                      <a:pt x="3385" y="616"/>
                      <a:pt x="3403" y="617"/>
                    </a:cubicBezTo>
                    <a:cubicBezTo>
                      <a:pt x="3421" y="618"/>
                      <a:pt x="3423" y="634"/>
                      <a:pt x="3438" y="638"/>
                    </a:cubicBezTo>
                    <a:cubicBezTo>
                      <a:pt x="3453" y="642"/>
                      <a:pt x="3475" y="642"/>
                      <a:pt x="3495" y="638"/>
                    </a:cubicBezTo>
                    <a:cubicBezTo>
                      <a:pt x="3515" y="634"/>
                      <a:pt x="3536" y="622"/>
                      <a:pt x="3558" y="617"/>
                    </a:cubicBezTo>
                    <a:cubicBezTo>
                      <a:pt x="3580" y="612"/>
                      <a:pt x="3608" y="613"/>
                      <a:pt x="3629" y="610"/>
                    </a:cubicBezTo>
                    <a:cubicBezTo>
                      <a:pt x="3650" y="607"/>
                      <a:pt x="3667" y="602"/>
                      <a:pt x="3685" y="596"/>
                    </a:cubicBezTo>
                    <a:cubicBezTo>
                      <a:pt x="3703" y="590"/>
                      <a:pt x="3716" y="582"/>
                      <a:pt x="3735" y="574"/>
                    </a:cubicBezTo>
                    <a:cubicBezTo>
                      <a:pt x="3754" y="566"/>
                      <a:pt x="3773" y="555"/>
                      <a:pt x="3798" y="546"/>
                    </a:cubicBezTo>
                    <a:cubicBezTo>
                      <a:pt x="3823" y="537"/>
                      <a:pt x="3862" y="524"/>
                      <a:pt x="3883" y="518"/>
                    </a:cubicBezTo>
                    <a:cubicBezTo>
                      <a:pt x="3904" y="512"/>
                      <a:pt x="3910" y="516"/>
                      <a:pt x="3925" y="511"/>
                    </a:cubicBezTo>
                    <a:cubicBezTo>
                      <a:pt x="3940" y="506"/>
                      <a:pt x="3956" y="500"/>
                      <a:pt x="3975" y="490"/>
                    </a:cubicBezTo>
                    <a:cubicBezTo>
                      <a:pt x="3994" y="480"/>
                      <a:pt x="4021" y="460"/>
                      <a:pt x="4038" y="454"/>
                    </a:cubicBezTo>
                    <a:cubicBezTo>
                      <a:pt x="4055" y="448"/>
                      <a:pt x="4061" y="453"/>
                      <a:pt x="4080" y="454"/>
                    </a:cubicBezTo>
                    <a:cubicBezTo>
                      <a:pt x="4099" y="455"/>
                      <a:pt x="4137" y="468"/>
                      <a:pt x="4151" y="462"/>
                    </a:cubicBezTo>
                    <a:cubicBezTo>
                      <a:pt x="4165" y="456"/>
                      <a:pt x="4156" y="428"/>
                      <a:pt x="4165" y="419"/>
                    </a:cubicBezTo>
                    <a:cubicBezTo>
                      <a:pt x="4174" y="410"/>
                      <a:pt x="4200" y="417"/>
                      <a:pt x="4208" y="405"/>
                    </a:cubicBezTo>
                    <a:cubicBezTo>
                      <a:pt x="4216" y="393"/>
                      <a:pt x="4214" y="365"/>
                      <a:pt x="4215" y="349"/>
                    </a:cubicBezTo>
                    <a:cubicBezTo>
                      <a:pt x="4216" y="333"/>
                      <a:pt x="4212" y="320"/>
                      <a:pt x="4215" y="306"/>
                    </a:cubicBezTo>
                    <a:cubicBezTo>
                      <a:pt x="4218" y="292"/>
                      <a:pt x="4227" y="276"/>
                      <a:pt x="4236" y="264"/>
                    </a:cubicBezTo>
                    <a:cubicBezTo>
                      <a:pt x="4245" y="252"/>
                      <a:pt x="4258" y="238"/>
                      <a:pt x="4271" y="236"/>
                    </a:cubicBezTo>
                    <a:cubicBezTo>
                      <a:pt x="4284" y="234"/>
                      <a:pt x="4298" y="251"/>
                      <a:pt x="4313" y="250"/>
                    </a:cubicBezTo>
                    <a:cubicBezTo>
                      <a:pt x="4328" y="249"/>
                      <a:pt x="4347" y="235"/>
                      <a:pt x="4363" y="229"/>
                    </a:cubicBezTo>
                    <a:cubicBezTo>
                      <a:pt x="4379" y="223"/>
                      <a:pt x="4394" y="210"/>
                      <a:pt x="4412" y="214"/>
                    </a:cubicBezTo>
                    <a:cubicBezTo>
                      <a:pt x="4430" y="218"/>
                      <a:pt x="4451" y="244"/>
                      <a:pt x="4469" y="250"/>
                    </a:cubicBezTo>
                    <a:cubicBezTo>
                      <a:pt x="4487" y="256"/>
                      <a:pt x="4503" y="253"/>
                      <a:pt x="4518" y="250"/>
                    </a:cubicBezTo>
                    <a:cubicBezTo>
                      <a:pt x="4533" y="247"/>
                      <a:pt x="4545" y="233"/>
                      <a:pt x="4560" y="229"/>
                    </a:cubicBezTo>
                    <a:cubicBezTo>
                      <a:pt x="4575" y="225"/>
                      <a:pt x="4598" y="220"/>
                      <a:pt x="4610" y="229"/>
                    </a:cubicBezTo>
                    <a:cubicBezTo>
                      <a:pt x="4622" y="238"/>
                      <a:pt x="4628" y="268"/>
                      <a:pt x="4631" y="285"/>
                    </a:cubicBezTo>
                    <a:cubicBezTo>
                      <a:pt x="4634" y="302"/>
                      <a:pt x="4629" y="316"/>
                      <a:pt x="4631" y="334"/>
                    </a:cubicBezTo>
                    <a:cubicBezTo>
                      <a:pt x="4633" y="352"/>
                      <a:pt x="4638" y="373"/>
                      <a:pt x="4645" y="391"/>
                    </a:cubicBezTo>
                    <a:cubicBezTo>
                      <a:pt x="4652" y="409"/>
                      <a:pt x="4662" y="424"/>
                      <a:pt x="4673" y="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214200" y="907920"/>
            <a:ext cx="8795880" cy="5897520"/>
            <a:chOff x="214200" y="907920"/>
            <a:chExt cx="8795880" cy="5897520"/>
          </a:xfrm>
        </p:grpSpPr>
        <p:sp>
          <p:nvSpPr>
            <p:cNvPr id="705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c3e1f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52160" y="49849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00720" y="90792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7197800">
              <a:off x="6532200" y="180900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58480" y="9176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297000">
              <a:off x="7231680" y="366372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439200">
              <a:off x="1988280" y="15620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52080" y="44514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232200">
              <a:off x="6781680" y="518616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138600">
              <a:off x="6846480" y="55497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742200">
              <a:off x="6643800" y="47520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771200">
              <a:off x="5232240" y="392652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04240" y="24004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154800">
              <a:off x="2109240" y="596268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9657200">
              <a:off x="1344240" y="478116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3381600">
              <a:off x="2000880" y="39103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75000">
              <a:off x="3015720" y="304128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652800">
              <a:off x="5369400" y="196056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72160" y="-13680"/>
            <a:ext cx="1065960" cy="1857960"/>
            <a:chOff x="272160" y="-13680"/>
            <a:chExt cx="1065960" cy="1857960"/>
          </a:xfrm>
        </p:grpSpPr>
        <p:grpSp>
          <p:nvGrpSpPr>
            <p:cNvPr id="765" name=""/>
            <p:cNvGrpSpPr/>
            <p:nvPr/>
          </p:nvGrpSpPr>
          <p:grpSpPr>
            <a:xfrm>
              <a:off x="633240" y="466920"/>
              <a:ext cx="348840" cy="1064880"/>
              <a:chOff x="633240" y="466920"/>
              <a:chExt cx="348840" cy="1064880"/>
            </a:xfrm>
          </p:grpSpPr>
          <p:sp>
            <p:nvSpPr>
              <p:cNvPr id="766" name=""/>
              <p:cNvSpPr/>
              <p:nvPr/>
            </p:nvSpPr>
            <p:spPr>
              <a:xfrm flipH="1">
                <a:off x="708840" y="466920"/>
                <a:ext cx="154080" cy="10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3240" y="856800"/>
                <a:ext cx="34884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72160" y="650160"/>
              <a:ext cx="1065960" cy="483120"/>
              <a:chOff x="272160" y="650160"/>
              <a:chExt cx="1065960" cy="483120"/>
            </a:xfrm>
          </p:grpSpPr>
          <p:sp>
            <p:nvSpPr>
              <p:cNvPr id="769" name=""/>
              <p:cNvSpPr/>
              <p:nvPr/>
            </p:nvSpPr>
            <p:spPr>
              <a:xfrm rot="494400">
                <a:off x="294120" y="6750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494400">
                <a:off x="999000" y="77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 rot="494400">
              <a:off x="690840" y="1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494400">
              <a:off x="529920" y="1486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891200" y="154620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776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865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330280" y="3316320"/>
              <a:ext cx="282960" cy="246240"/>
              <a:chOff x="2330280" y="3316320"/>
              <a:chExt cx="282960" cy="246240"/>
            </a:xfrm>
          </p:grpSpPr>
          <p:sp>
            <p:nvSpPr>
              <p:cNvPr id="868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33028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82400" y="5273640"/>
              <a:ext cx="282960" cy="246240"/>
              <a:chOff x="4982400" y="5273640"/>
              <a:chExt cx="282960" cy="246240"/>
            </a:xfrm>
          </p:grpSpPr>
          <p:sp>
            <p:nvSpPr>
              <p:cNvPr id="871" name=""/>
              <p:cNvSpPr/>
              <p:nvPr/>
            </p:nvSpPr>
            <p:spPr>
              <a:xfrm>
                <a:off x="5073480" y="53276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9824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874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877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880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886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059680" y="4730760"/>
              <a:ext cx="282960" cy="246240"/>
              <a:chOff x="8059680" y="4730760"/>
              <a:chExt cx="282960" cy="246240"/>
            </a:xfrm>
          </p:grpSpPr>
          <p:sp>
            <p:nvSpPr>
              <p:cNvPr id="889" name=""/>
              <p:cNvSpPr/>
              <p:nvPr/>
            </p:nvSpPr>
            <p:spPr>
              <a:xfrm>
                <a:off x="815040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805968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7163640" y="2316240"/>
              <a:ext cx="282960" cy="246240"/>
              <a:chOff x="7163640" y="2316240"/>
              <a:chExt cx="282960" cy="246240"/>
            </a:xfrm>
          </p:grpSpPr>
          <p:sp>
            <p:nvSpPr>
              <p:cNvPr id="892" name=""/>
              <p:cNvSpPr/>
              <p:nvPr/>
            </p:nvSpPr>
            <p:spPr>
              <a:xfrm>
                <a:off x="7254720" y="2370240"/>
                <a:ext cx="12816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636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5844960" y="4254480"/>
              <a:ext cx="282960" cy="246240"/>
              <a:chOff x="5844960" y="4254480"/>
              <a:chExt cx="282960" cy="246240"/>
            </a:xfrm>
          </p:grpSpPr>
          <p:sp>
            <p:nvSpPr>
              <p:cNvPr id="895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84496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"/>
          <p:cNvSpPr/>
          <p:nvPr/>
        </p:nvSpPr>
        <p:spPr>
          <a:xfrm>
            <a:off x="6912000" y="5465880"/>
            <a:ext cx="10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EA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96040" y="37242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267240" y="364968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Zinga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452720" y="2112840"/>
            <a:ext cx="640800" cy="215640"/>
            <a:chOff x="7452720" y="2112840"/>
            <a:chExt cx="640800" cy="215640"/>
          </a:xfrm>
        </p:grpSpPr>
        <p:sp>
          <p:nvSpPr>
            <p:cNvPr id="901" name=""/>
            <p:cNvSpPr/>
            <p:nvPr/>
          </p:nvSpPr>
          <p:spPr>
            <a:xfrm>
              <a:off x="7464600" y="219384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52720" y="211284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8372880" y="4545000"/>
            <a:ext cx="770400" cy="337320"/>
            <a:chOff x="8372880" y="4545000"/>
            <a:chExt cx="770400" cy="337320"/>
          </a:xfrm>
        </p:grpSpPr>
        <p:sp>
          <p:nvSpPr>
            <p:cNvPr id="904" name=""/>
            <p:cNvSpPr/>
            <p:nvPr/>
          </p:nvSpPr>
          <p:spPr>
            <a:xfrm>
              <a:off x="8385480" y="4626000"/>
              <a:ext cx="554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72880" y="4545000"/>
              <a:ext cx="7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OSTA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125760" y="4354560"/>
            <a:ext cx="418320" cy="215640"/>
            <a:chOff x="6125760" y="4354560"/>
            <a:chExt cx="418320" cy="215640"/>
          </a:xfrm>
        </p:grpSpPr>
        <p:sp>
          <p:nvSpPr>
            <p:cNvPr id="907" name=""/>
            <p:cNvSpPr/>
            <p:nvPr/>
          </p:nvSpPr>
          <p:spPr>
            <a:xfrm>
              <a:off x="6137280" y="4435200"/>
              <a:ext cx="5508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25760" y="435456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K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561080" y="2386080"/>
            <a:ext cx="619560" cy="215640"/>
            <a:chOff x="7561080" y="2386080"/>
            <a:chExt cx="619560" cy="215640"/>
          </a:xfrm>
        </p:grpSpPr>
        <p:sp>
          <p:nvSpPr>
            <p:cNvPr id="910" name=""/>
            <p:cNvSpPr/>
            <p:nvPr/>
          </p:nvSpPr>
          <p:spPr>
            <a:xfrm>
              <a:off x="7572600" y="246672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561080" y="2386080"/>
              <a:ext cx="61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40680" y="3230640"/>
            <a:ext cx="637920" cy="215640"/>
            <a:chOff x="2740680" y="3230640"/>
            <a:chExt cx="637920" cy="215640"/>
          </a:xfrm>
        </p:grpSpPr>
        <p:sp>
          <p:nvSpPr>
            <p:cNvPr id="913" name=""/>
            <p:cNvSpPr/>
            <p:nvPr/>
          </p:nvSpPr>
          <p:spPr>
            <a:xfrm>
              <a:off x="2752920" y="3311280"/>
              <a:ext cx="5544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0680" y="3230640"/>
              <a:ext cx="63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GWUL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122840" y="490680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PPER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90760" y="34527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WEST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17080" y="245592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004000" y="2468520"/>
            <a:ext cx="11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RTHERN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17720" y="144612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59880" y="3643200"/>
            <a:ext cx="10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ASHANTI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940800" y="4005360"/>
            <a:ext cx="109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CENTRAL 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481520" y="2671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AN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16200000">
            <a:off x="259560" y="47689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AGAD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7760" y="36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875520" y="3567240"/>
            <a:ext cx="645480" cy="200520"/>
            <a:chOff x="875520" y="3567240"/>
            <a:chExt cx="645480" cy="200520"/>
          </a:xfrm>
        </p:grpSpPr>
        <p:sp>
          <p:nvSpPr>
            <p:cNvPr id="926" name=""/>
            <p:cNvSpPr/>
            <p:nvPr/>
          </p:nvSpPr>
          <p:spPr>
            <a:xfrm>
              <a:off x="90504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5520" y="3567240"/>
              <a:ext cx="64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wanabour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845640" y="2697120"/>
            <a:ext cx="566280" cy="200520"/>
            <a:chOff x="845640" y="2697120"/>
            <a:chExt cx="566280" cy="200520"/>
          </a:xfrm>
        </p:grpSpPr>
        <p:sp>
          <p:nvSpPr>
            <p:cNvPr id="929" name=""/>
            <p:cNvSpPr/>
            <p:nvPr/>
          </p:nvSpPr>
          <p:spPr>
            <a:xfrm flipH="1">
              <a:off x="1348200" y="2771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45280" y="269712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501280" y="2620800"/>
            <a:ext cx="326880" cy="200520"/>
            <a:chOff x="2501280" y="2620800"/>
            <a:chExt cx="326880" cy="200520"/>
          </a:xfrm>
        </p:grpSpPr>
        <p:sp>
          <p:nvSpPr>
            <p:cNvPr id="932" name=""/>
            <p:cNvSpPr/>
            <p:nvPr/>
          </p:nvSpPr>
          <p:spPr>
            <a:xfrm>
              <a:off x="2530440" y="27097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01280" y="26208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711880" y="2119320"/>
            <a:ext cx="537480" cy="200520"/>
            <a:chOff x="2711880" y="2119320"/>
            <a:chExt cx="537480" cy="200520"/>
          </a:xfrm>
        </p:grpSpPr>
        <p:sp>
          <p:nvSpPr>
            <p:cNvPr id="935" name=""/>
            <p:cNvSpPr/>
            <p:nvPr/>
          </p:nvSpPr>
          <p:spPr>
            <a:xfrm>
              <a:off x="2740320" y="21938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1880" y="2119320"/>
              <a:ext cx="53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semb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rot="15639000">
            <a:off x="968760" y="2437200"/>
            <a:ext cx="988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Gambaga Escar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426480" y="2004840"/>
            <a:ext cx="514440" cy="200520"/>
            <a:chOff x="3426480" y="2004840"/>
            <a:chExt cx="514440" cy="200520"/>
          </a:xfrm>
        </p:grpSpPr>
        <p:sp>
          <p:nvSpPr>
            <p:cNvPr id="939" name=""/>
            <p:cNvSpPr/>
            <p:nvPr/>
          </p:nvSpPr>
          <p:spPr>
            <a:xfrm>
              <a:off x="3457440" y="2079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26480" y="20048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gg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958480" y="1414440"/>
            <a:ext cx="375840" cy="200520"/>
            <a:chOff x="2958480" y="1414440"/>
            <a:chExt cx="375840" cy="200520"/>
          </a:xfrm>
        </p:grpSpPr>
        <p:sp>
          <p:nvSpPr>
            <p:cNvPr id="942" name=""/>
            <p:cNvSpPr/>
            <p:nvPr/>
          </p:nvSpPr>
          <p:spPr>
            <a:xfrm>
              <a:off x="2987640" y="1488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58480" y="1414440"/>
              <a:ext cx="37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b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889000" y="1611360"/>
            <a:ext cx="356040" cy="200520"/>
            <a:chOff x="2889000" y="1611360"/>
            <a:chExt cx="356040" cy="200520"/>
          </a:xfrm>
        </p:grpSpPr>
        <p:sp>
          <p:nvSpPr>
            <p:cNvPr id="945" name=""/>
            <p:cNvSpPr/>
            <p:nvPr/>
          </p:nvSpPr>
          <p:spPr>
            <a:xfrm>
              <a:off x="2917800" y="168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89000" y="1611360"/>
              <a:ext cx="356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t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 rot="16200000">
            <a:off x="2104920" y="122184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unme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7291400">
            <a:off x="2807640" y="954720"/>
            <a:ext cx="42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Tifil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367520" y="1839960"/>
            <a:ext cx="410760" cy="200520"/>
            <a:chOff x="4367520" y="1839960"/>
            <a:chExt cx="410760" cy="200520"/>
          </a:xfrm>
        </p:grpSpPr>
        <p:sp>
          <p:nvSpPr>
            <p:cNvPr id="950" name=""/>
            <p:cNvSpPr/>
            <p:nvPr/>
          </p:nvSpPr>
          <p:spPr>
            <a:xfrm>
              <a:off x="4397760" y="1914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67520" y="1839960"/>
              <a:ext cx="4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138560" y="1407960"/>
            <a:ext cx="406440" cy="200520"/>
            <a:chOff x="4138560" y="1407960"/>
            <a:chExt cx="406440" cy="200520"/>
          </a:xfrm>
        </p:grpSpPr>
        <p:sp>
          <p:nvSpPr>
            <p:cNvPr id="953" name=""/>
            <p:cNvSpPr/>
            <p:nvPr/>
          </p:nvSpPr>
          <p:spPr>
            <a:xfrm>
              <a:off x="4168800" y="1482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38560" y="140796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55480" y="1496880"/>
            <a:ext cx="326880" cy="200520"/>
            <a:chOff x="5955480" y="1496880"/>
            <a:chExt cx="326880" cy="200520"/>
          </a:xfrm>
        </p:grpSpPr>
        <p:sp>
          <p:nvSpPr>
            <p:cNvPr id="956" name=""/>
            <p:cNvSpPr/>
            <p:nvPr/>
          </p:nvSpPr>
          <p:spPr>
            <a:xfrm>
              <a:off x="5984640" y="15858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5480" y="14968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7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901080" y="2233440"/>
            <a:ext cx="326880" cy="200520"/>
            <a:chOff x="901080" y="2233440"/>
            <a:chExt cx="326880" cy="200520"/>
          </a:xfrm>
        </p:grpSpPr>
        <p:sp>
          <p:nvSpPr>
            <p:cNvPr id="959" name=""/>
            <p:cNvSpPr/>
            <p:nvPr/>
          </p:nvSpPr>
          <p:spPr>
            <a:xfrm flipH="1">
              <a:off x="1179360" y="23223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901080" y="22334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205640" y="4672080"/>
            <a:ext cx="326880" cy="200520"/>
            <a:chOff x="1205640" y="4672080"/>
            <a:chExt cx="326880" cy="200520"/>
          </a:xfrm>
        </p:grpSpPr>
        <p:sp>
          <p:nvSpPr>
            <p:cNvPr id="962" name=""/>
            <p:cNvSpPr/>
            <p:nvPr/>
          </p:nvSpPr>
          <p:spPr>
            <a:xfrm>
              <a:off x="1234800" y="476100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05640" y="46720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367720" y="4437000"/>
            <a:ext cx="326880" cy="200520"/>
            <a:chOff x="2367720" y="4437000"/>
            <a:chExt cx="326880" cy="200520"/>
          </a:xfrm>
        </p:grpSpPr>
        <p:sp>
          <p:nvSpPr>
            <p:cNvPr id="965" name=""/>
            <p:cNvSpPr/>
            <p:nvPr/>
          </p:nvSpPr>
          <p:spPr>
            <a:xfrm>
              <a:off x="2396880" y="452592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7720" y="443700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364400" y="5510160"/>
            <a:ext cx="326880" cy="200520"/>
            <a:chOff x="1364400" y="5510160"/>
            <a:chExt cx="326880" cy="200520"/>
          </a:xfrm>
        </p:grpSpPr>
        <p:sp>
          <p:nvSpPr>
            <p:cNvPr id="968" name=""/>
            <p:cNvSpPr/>
            <p:nvPr/>
          </p:nvSpPr>
          <p:spPr>
            <a:xfrm flipH="1">
              <a:off x="1643400" y="559908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364400" y="551016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4266360" y="5300640"/>
            <a:ext cx="326880" cy="200520"/>
            <a:chOff x="4266360" y="5300640"/>
            <a:chExt cx="326880" cy="200520"/>
          </a:xfrm>
        </p:grpSpPr>
        <p:sp>
          <p:nvSpPr>
            <p:cNvPr id="971" name=""/>
            <p:cNvSpPr/>
            <p:nvPr/>
          </p:nvSpPr>
          <p:spPr>
            <a:xfrm>
              <a:off x="4295520" y="538956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66360" y="53006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974560" y="4964040"/>
            <a:ext cx="326880" cy="200520"/>
            <a:chOff x="5974560" y="4964040"/>
            <a:chExt cx="326880" cy="200520"/>
          </a:xfrm>
        </p:grpSpPr>
        <p:sp>
          <p:nvSpPr>
            <p:cNvPr id="974" name=""/>
            <p:cNvSpPr/>
            <p:nvPr/>
          </p:nvSpPr>
          <p:spPr>
            <a:xfrm>
              <a:off x="6003720" y="505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74560" y="496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6179760" y="6043680"/>
            <a:ext cx="326880" cy="200520"/>
            <a:chOff x="6179760" y="6043680"/>
            <a:chExt cx="326880" cy="200520"/>
          </a:xfrm>
        </p:grpSpPr>
        <p:sp>
          <p:nvSpPr>
            <p:cNvPr id="977" name=""/>
            <p:cNvSpPr/>
            <p:nvPr/>
          </p:nvSpPr>
          <p:spPr>
            <a:xfrm flipH="1">
              <a:off x="6459480" y="613260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6179760" y="604368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571440" y="4081320"/>
            <a:ext cx="326880" cy="200520"/>
            <a:chOff x="6571440" y="4081320"/>
            <a:chExt cx="326880" cy="200520"/>
          </a:xfrm>
        </p:grpSpPr>
        <p:sp>
          <p:nvSpPr>
            <p:cNvPr id="980" name=""/>
            <p:cNvSpPr/>
            <p:nvPr/>
          </p:nvSpPr>
          <p:spPr>
            <a:xfrm>
              <a:off x="6600600" y="41702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71440" y="40813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447680" y="3274920"/>
            <a:ext cx="326880" cy="200520"/>
            <a:chOff x="7447680" y="3274920"/>
            <a:chExt cx="326880" cy="200520"/>
          </a:xfrm>
        </p:grpSpPr>
        <p:sp>
          <p:nvSpPr>
            <p:cNvPr id="983" name=""/>
            <p:cNvSpPr/>
            <p:nvPr/>
          </p:nvSpPr>
          <p:spPr>
            <a:xfrm>
              <a:off x="7476840" y="3363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47680" y="3274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457320" y="2678040"/>
            <a:ext cx="326880" cy="200520"/>
            <a:chOff x="6457320" y="2678040"/>
            <a:chExt cx="326880" cy="200520"/>
          </a:xfrm>
        </p:grpSpPr>
        <p:sp>
          <p:nvSpPr>
            <p:cNvPr id="986" name=""/>
            <p:cNvSpPr/>
            <p:nvPr/>
          </p:nvSpPr>
          <p:spPr>
            <a:xfrm>
              <a:off x="6486480" y="2766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57320" y="2678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765040" y="3929040"/>
            <a:ext cx="326880" cy="200520"/>
            <a:chOff x="5765040" y="3929040"/>
            <a:chExt cx="326880" cy="200520"/>
          </a:xfrm>
        </p:grpSpPr>
        <p:sp>
          <p:nvSpPr>
            <p:cNvPr id="989" name=""/>
            <p:cNvSpPr/>
            <p:nvPr/>
          </p:nvSpPr>
          <p:spPr>
            <a:xfrm>
              <a:off x="5794200" y="4017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65040" y="3929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247280" y="3382920"/>
            <a:ext cx="326880" cy="200520"/>
            <a:chOff x="4247280" y="3382920"/>
            <a:chExt cx="326880" cy="200520"/>
          </a:xfrm>
        </p:grpSpPr>
        <p:sp>
          <p:nvSpPr>
            <p:cNvPr id="992" name=""/>
            <p:cNvSpPr/>
            <p:nvPr/>
          </p:nvSpPr>
          <p:spPr>
            <a:xfrm>
              <a:off x="4276440" y="3471840"/>
              <a:ext cx="1872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47280" y="33829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587200" y="6138720"/>
            <a:ext cx="326880" cy="200520"/>
            <a:chOff x="5587200" y="6138720"/>
            <a:chExt cx="326880" cy="200520"/>
          </a:xfrm>
        </p:grpSpPr>
        <p:sp>
          <p:nvSpPr>
            <p:cNvPr id="995" name=""/>
            <p:cNvSpPr/>
            <p:nvPr/>
          </p:nvSpPr>
          <p:spPr>
            <a:xfrm>
              <a:off x="5616360" y="622764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87200" y="613872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 flipV="1" rot="11361000">
            <a:off x="4877640" y="1310040"/>
            <a:ext cx="947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kwapim-Gao Ran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 rot="6891000">
            <a:off x="5972760" y="3028320"/>
            <a:ext cx="72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Kwahu Platea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 rot="15109200">
            <a:off x="5331600" y="871920"/>
            <a:ext cx="48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amp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rot="17291400">
            <a:off x="5781600" y="780840"/>
            <a:ext cx="54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Segumb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082760" y="2919240"/>
            <a:ext cx="557280" cy="200520"/>
            <a:chOff x="4082760" y="2919240"/>
            <a:chExt cx="557280" cy="200520"/>
          </a:xfrm>
        </p:grpSpPr>
        <p:sp>
          <p:nvSpPr>
            <p:cNvPr id="1002" name=""/>
            <p:cNvSpPr/>
            <p:nvPr/>
          </p:nvSpPr>
          <p:spPr>
            <a:xfrm>
              <a:off x="4111560" y="29937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82760" y="291924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m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82880" y="2811600"/>
            <a:ext cx="362160" cy="200520"/>
            <a:chOff x="3782880" y="2811600"/>
            <a:chExt cx="362160" cy="200520"/>
          </a:xfrm>
        </p:grpSpPr>
        <p:sp>
          <p:nvSpPr>
            <p:cNvPr id="1005" name=""/>
            <p:cNvSpPr/>
            <p:nvPr/>
          </p:nvSpPr>
          <p:spPr>
            <a:xfrm>
              <a:off x="3813120" y="288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82880" y="2811600"/>
              <a:ext cx="362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inj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705200" y="2163600"/>
            <a:ext cx="464040" cy="200520"/>
            <a:chOff x="4705200" y="2163600"/>
            <a:chExt cx="464040" cy="200520"/>
          </a:xfrm>
        </p:grpSpPr>
        <p:sp>
          <p:nvSpPr>
            <p:cNvPr id="1008" name=""/>
            <p:cNvSpPr/>
            <p:nvPr/>
          </p:nvSpPr>
          <p:spPr>
            <a:xfrm>
              <a:off x="4734000" y="2238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05200" y="216360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ro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225040" y="1477800"/>
            <a:ext cx="390960" cy="200520"/>
            <a:chOff x="5225040" y="1477800"/>
            <a:chExt cx="390960" cy="200520"/>
          </a:xfrm>
        </p:grpSpPr>
        <p:sp>
          <p:nvSpPr>
            <p:cNvPr id="1011" name=""/>
            <p:cNvSpPr/>
            <p:nvPr/>
          </p:nvSpPr>
          <p:spPr>
            <a:xfrm>
              <a:off x="5254560" y="1552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25040" y="147780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v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804920" y="1465200"/>
            <a:ext cx="377280" cy="200520"/>
            <a:chOff x="4804920" y="1465200"/>
            <a:chExt cx="377280" cy="200520"/>
          </a:xfrm>
        </p:grpSpPr>
        <p:sp>
          <p:nvSpPr>
            <p:cNvPr id="1014" name=""/>
            <p:cNvSpPr/>
            <p:nvPr/>
          </p:nvSpPr>
          <p:spPr>
            <a:xfrm flipH="1">
              <a:off x="5114520" y="1539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4804920" y="146520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lo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4214880" y="3033720"/>
            <a:ext cx="455040" cy="200520"/>
            <a:chOff x="4214880" y="3033720"/>
            <a:chExt cx="455040" cy="200520"/>
          </a:xfrm>
        </p:grpSpPr>
        <p:sp>
          <p:nvSpPr>
            <p:cNvPr id="1017" name=""/>
            <p:cNvSpPr/>
            <p:nvPr/>
          </p:nvSpPr>
          <p:spPr>
            <a:xfrm>
              <a:off x="4245120" y="31082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4880" y="3033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34480" y="1452600"/>
            <a:ext cx="381960" cy="200520"/>
            <a:chOff x="6234480" y="1452600"/>
            <a:chExt cx="381960" cy="200520"/>
          </a:xfrm>
        </p:grpSpPr>
        <p:sp>
          <p:nvSpPr>
            <p:cNvPr id="1020" name=""/>
            <p:cNvSpPr/>
            <p:nvPr/>
          </p:nvSpPr>
          <p:spPr>
            <a:xfrm>
              <a:off x="6264360" y="1527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34480" y="14526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785200" y="1401840"/>
            <a:ext cx="468720" cy="200520"/>
            <a:chOff x="5785200" y="1401840"/>
            <a:chExt cx="468720" cy="200520"/>
          </a:xfrm>
        </p:grpSpPr>
        <p:sp>
          <p:nvSpPr>
            <p:cNvPr id="1023" name=""/>
            <p:cNvSpPr/>
            <p:nvPr/>
          </p:nvSpPr>
          <p:spPr>
            <a:xfrm>
              <a:off x="5813640" y="147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85200" y="140184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a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757480" y="1522440"/>
            <a:ext cx="377280" cy="200520"/>
            <a:chOff x="5757480" y="1522440"/>
            <a:chExt cx="377280" cy="200520"/>
          </a:xfrm>
        </p:grpSpPr>
        <p:sp>
          <p:nvSpPr>
            <p:cNvPr id="1026" name=""/>
            <p:cNvSpPr/>
            <p:nvPr/>
          </p:nvSpPr>
          <p:spPr>
            <a:xfrm>
              <a:off x="5788440" y="1596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57480" y="152244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876000" y="544680"/>
            <a:ext cx="406440" cy="200520"/>
            <a:chOff x="6876000" y="544680"/>
            <a:chExt cx="406440" cy="200520"/>
          </a:xfrm>
        </p:grpSpPr>
        <p:sp>
          <p:nvSpPr>
            <p:cNvPr id="1029" name=""/>
            <p:cNvSpPr/>
            <p:nvPr/>
          </p:nvSpPr>
          <p:spPr>
            <a:xfrm>
              <a:off x="6905520" y="619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6000" y="54468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to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851160" y="423720"/>
            <a:ext cx="577080" cy="200520"/>
            <a:chOff x="6851160" y="423720"/>
            <a:chExt cx="577080" cy="200520"/>
          </a:xfrm>
        </p:grpSpPr>
        <p:sp>
          <p:nvSpPr>
            <p:cNvPr id="1032" name=""/>
            <p:cNvSpPr/>
            <p:nvPr/>
          </p:nvSpPr>
          <p:spPr>
            <a:xfrm>
              <a:off x="6880320" y="4982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51160" y="4237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049800" y="1623960"/>
            <a:ext cx="470160" cy="200520"/>
            <a:chOff x="6049800" y="1623960"/>
            <a:chExt cx="470160" cy="200520"/>
          </a:xfrm>
        </p:grpSpPr>
        <p:sp>
          <p:nvSpPr>
            <p:cNvPr id="1035" name=""/>
            <p:cNvSpPr/>
            <p:nvPr/>
          </p:nvSpPr>
          <p:spPr>
            <a:xfrm>
              <a:off x="6080040" y="1698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49800" y="1623960"/>
              <a:ext cx="47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kkal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H="1" flipV="1" rot="11890800">
            <a:off x="6389640" y="143280"/>
            <a:ext cx="414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Ceci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7269840" y="1262160"/>
            <a:ext cx="390960" cy="200520"/>
            <a:chOff x="7269840" y="1262160"/>
            <a:chExt cx="390960" cy="200520"/>
          </a:xfrm>
        </p:grpSpPr>
        <p:sp>
          <p:nvSpPr>
            <p:cNvPr id="1039" name=""/>
            <p:cNvSpPr/>
            <p:nvPr/>
          </p:nvSpPr>
          <p:spPr>
            <a:xfrm>
              <a:off x="7299360" y="1336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69840" y="1262160"/>
              <a:ext cx="390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984360" y="1344600"/>
            <a:ext cx="420120" cy="200520"/>
            <a:chOff x="6984360" y="1344600"/>
            <a:chExt cx="420120" cy="200520"/>
          </a:xfrm>
        </p:grpSpPr>
        <p:sp>
          <p:nvSpPr>
            <p:cNvPr id="1042" name=""/>
            <p:cNvSpPr/>
            <p:nvPr/>
          </p:nvSpPr>
          <p:spPr>
            <a:xfrm>
              <a:off x="7013880" y="14191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84360" y="1344600"/>
              <a:ext cx="42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123320" y="754200"/>
            <a:ext cx="381960" cy="200520"/>
            <a:chOff x="7123320" y="754200"/>
            <a:chExt cx="381960" cy="200520"/>
          </a:xfrm>
        </p:grpSpPr>
        <p:sp>
          <p:nvSpPr>
            <p:cNvPr id="1045" name=""/>
            <p:cNvSpPr/>
            <p:nvPr/>
          </p:nvSpPr>
          <p:spPr>
            <a:xfrm>
              <a:off x="7153560" y="8287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23320" y="754200"/>
              <a:ext cx="38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729840" y="1967040"/>
            <a:ext cx="439920" cy="200520"/>
            <a:chOff x="6729840" y="1967040"/>
            <a:chExt cx="439920" cy="200520"/>
          </a:xfrm>
        </p:grpSpPr>
        <p:sp>
          <p:nvSpPr>
            <p:cNvPr id="1048" name=""/>
            <p:cNvSpPr/>
            <p:nvPr/>
          </p:nvSpPr>
          <p:spPr>
            <a:xfrm>
              <a:off x="6759720" y="2041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29840" y="196704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146640" y="2011320"/>
            <a:ext cx="596880" cy="200520"/>
            <a:chOff x="6146640" y="2011320"/>
            <a:chExt cx="596880" cy="200520"/>
          </a:xfrm>
        </p:grpSpPr>
        <p:sp>
          <p:nvSpPr>
            <p:cNvPr id="1051" name=""/>
            <p:cNvSpPr/>
            <p:nvPr/>
          </p:nvSpPr>
          <p:spPr>
            <a:xfrm flipH="1">
              <a:off x="6678720" y="2085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6146640" y="2011320"/>
              <a:ext cx="59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ca D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6678720" y="2055960"/>
            <a:ext cx="426240" cy="200520"/>
            <a:chOff x="6678720" y="2055960"/>
            <a:chExt cx="426240" cy="200520"/>
          </a:xfrm>
        </p:grpSpPr>
        <p:sp>
          <p:nvSpPr>
            <p:cNvPr id="1054" name=""/>
            <p:cNvSpPr/>
            <p:nvPr/>
          </p:nvSpPr>
          <p:spPr>
            <a:xfrm>
              <a:off x="6708600" y="2130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78720" y="20559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uk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869880" y="2468520"/>
            <a:ext cx="567720" cy="200520"/>
            <a:chOff x="6869880" y="2468520"/>
            <a:chExt cx="567720" cy="200520"/>
          </a:xfrm>
        </p:grpSpPr>
        <p:sp>
          <p:nvSpPr>
            <p:cNvPr id="1057" name=""/>
            <p:cNvSpPr/>
            <p:nvPr/>
          </p:nvSpPr>
          <p:spPr>
            <a:xfrm>
              <a:off x="6899400" y="25430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69880" y="24685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ackm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7029360" y="2093760"/>
            <a:ext cx="522000" cy="200520"/>
            <a:chOff x="7029360" y="2093760"/>
            <a:chExt cx="522000" cy="200520"/>
          </a:xfrm>
        </p:grpSpPr>
        <p:sp>
          <p:nvSpPr>
            <p:cNvPr id="1060" name=""/>
            <p:cNvSpPr/>
            <p:nvPr/>
          </p:nvSpPr>
          <p:spPr>
            <a:xfrm>
              <a:off x="7058160" y="2168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029360" y="2093760"/>
              <a:ext cx="52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p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6330600" y="3147840"/>
            <a:ext cx="429120" cy="200520"/>
            <a:chOff x="6330600" y="3147840"/>
            <a:chExt cx="429120" cy="200520"/>
          </a:xfrm>
        </p:grpSpPr>
        <p:sp>
          <p:nvSpPr>
            <p:cNvPr id="1063" name=""/>
            <p:cNvSpPr/>
            <p:nvPr/>
          </p:nvSpPr>
          <p:spPr>
            <a:xfrm>
              <a:off x="6359400" y="32223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30600" y="3147840"/>
              <a:ext cx="42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arib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660720" y="2766960"/>
            <a:ext cx="513000" cy="200520"/>
            <a:chOff x="6660720" y="2766960"/>
            <a:chExt cx="513000" cy="200520"/>
          </a:xfrm>
        </p:grpSpPr>
        <p:sp>
          <p:nvSpPr>
            <p:cNvPr id="1066" name=""/>
            <p:cNvSpPr/>
            <p:nvPr/>
          </p:nvSpPr>
          <p:spPr>
            <a:xfrm>
              <a:off x="6689880" y="28414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0720" y="27669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nro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7238880" y="2589120"/>
            <a:ext cx="424440" cy="200520"/>
            <a:chOff x="7238880" y="2589120"/>
            <a:chExt cx="424440" cy="200520"/>
          </a:xfrm>
        </p:grpSpPr>
        <p:sp>
          <p:nvSpPr>
            <p:cNvPr id="1069" name=""/>
            <p:cNvSpPr/>
            <p:nvPr/>
          </p:nvSpPr>
          <p:spPr>
            <a:xfrm>
              <a:off x="7267680" y="266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38880" y="2589120"/>
              <a:ext cx="42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666840" y="2894040"/>
            <a:ext cx="326880" cy="200520"/>
            <a:chOff x="6666840" y="2894040"/>
            <a:chExt cx="326880" cy="200520"/>
          </a:xfrm>
        </p:grpSpPr>
        <p:sp>
          <p:nvSpPr>
            <p:cNvPr id="1072" name=""/>
            <p:cNvSpPr/>
            <p:nvPr/>
          </p:nvSpPr>
          <p:spPr>
            <a:xfrm>
              <a:off x="6696000" y="2982960"/>
              <a:ext cx="19080" cy="1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66840" y="2894040"/>
              <a:ext cx="32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 flipH="1" rot="1491000">
            <a:off x="6793560" y="2971440"/>
            <a:ext cx="415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Ate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Rang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8000280" y="3567240"/>
            <a:ext cx="528120" cy="200520"/>
            <a:chOff x="8000280" y="3567240"/>
            <a:chExt cx="528120" cy="200520"/>
          </a:xfrm>
        </p:grpSpPr>
        <p:sp>
          <p:nvSpPr>
            <p:cNvPr id="1076" name=""/>
            <p:cNvSpPr/>
            <p:nvPr/>
          </p:nvSpPr>
          <p:spPr>
            <a:xfrm>
              <a:off x="8029800" y="36417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00280" y="3567240"/>
              <a:ext cx="52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tpo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123680" y="3497400"/>
            <a:ext cx="479520" cy="200520"/>
            <a:chOff x="7123680" y="3497400"/>
            <a:chExt cx="479520" cy="200520"/>
          </a:xfrm>
        </p:grpSpPr>
        <p:sp>
          <p:nvSpPr>
            <p:cNvPr id="1079" name=""/>
            <p:cNvSpPr/>
            <p:nvPr/>
          </p:nvSpPr>
          <p:spPr>
            <a:xfrm>
              <a:off x="7153560" y="35719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23680" y="349740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h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888240" y="3268800"/>
            <a:ext cx="455040" cy="200520"/>
            <a:chOff x="6888240" y="3268800"/>
            <a:chExt cx="455040" cy="200520"/>
          </a:xfrm>
        </p:grpSpPr>
        <p:sp>
          <p:nvSpPr>
            <p:cNvPr id="1082" name=""/>
            <p:cNvSpPr/>
            <p:nvPr/>
          </p:nvSpPr>
          <p:spPr>
            <a:xfrm>
              <a:off x="6918480" y="334332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88240" y="32688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dai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8101440" y="3840120"/>
            <a:ext cx="552600" cy="200520"/>
            <a:chOff x="8101440" y="3840120"/>
            <a:chExt cx="552600" cy="200520"/>
          </a:xfrm>
        </p:grpSpPr>
        <p:sp>
          <p:nvSpPr>
            <p:cNvPr id="1085" name=""/>
            <p:cNvSpPr/>
            <p:nvPr/>
          </p:nvSpPr>
          <p:spPr>
            <a:xfrm>
              <a:off x="8131320" y="3914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01440" y="38401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plo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8139240" y="3954600"/>
            <a:ext cx="450360" cy="200520"/>
            <a:chOff x="8139240" y="3954600"/>
            <a:chExt cx="450360" cy="200520"/>
          </a:xfrm>
        </p:grpSpPr>
        <p:sp>
          <p:nvSpPr>
            <p:cNvPr id="1088" name=""/>
            <p:cNvSpPr/>
            <p:nvPr/>
          </p:nvSpPr>
          <p:spPr>
            <a:xfrm>
              <a:off x="8169120" y="4029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139240" y="3954600"/>
              <a:ext cx="45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lmi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824240" y="2989440"/>
            <a:ext cx="455040" cy="200520"/>
            <a:chOff x="7824240" y="2989440"/>
            <a:chExt cx="455040" cy="200520"/>
          </a:xfrm>
        </p:grpSpPr>
        <p:sp>
          <p:nvSpPr>
            <p:cNvPr id="1091" name=""/>
            <p:cNvSpPr/>
            <p:nvPr/>
          </p:nvSpPr>
          <p:spPr>
            <a:xfrm>
              <a:off x="7853760" y="3063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24240" y="298944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nk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8151480" y="6049800"/>
            <a:ext cx="543600" cy="200520"/>
            <a:chOff x="8151480" y="6049800"/>
            <a:chExt cx="543600" cy="200520"/>
          </a:xfrm>
        </p:grpSpPr>
        <p:sp>
          <p:nvSpPr>
            <p:cNvPr id="1094" name=""/>
            <p:cNvSpPr/>
            <p:nvPr/>
          </p:nvSpPr>
          <p:spPr>
            <a:xfrm>
              <a:off x="8182080" y="61243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51480" y="604980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anvi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8394480" y="5199120"/>
            <a:ext cx="464040" cy="200520"/>
            <a:chOff x="8394480" y="5199120"/>
            <a:chExt cx="464040" cy="200520"/>
          </a:xfrm>
        </p:grpSpPr>
        <p:sp>
          <p:nvSpPr>
            <p:cNvPr id="1097" name=""/>
            <p:cNvSpPr/>
            <p:nvPr/>
          </p:nvSpPr>
          <p:spPr>
            <a:xfrm>
              <a:off x="8423280" y="52736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94480" y="5199120"/>
              <a:ext cx="464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ona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8280360" y="4443480"/>
            <a:ext cx="552600" cy="200520"/>
            <a:chOff x="8280360" y="4443480"/>
            <a:chExt cx="552600" cy="200520"/>
          </a:xfrm>
        </p:grpSpPr>
        <p:sp>
          <p:nvSpPr>
            <p:cNvPr id="1100" name=""/>
            <p:cNvSpPr/>
            <p:nvPr/>
          </p:nvSpPr>
          <p:spPr>
            <a:xfrm>
              <a:off x="8309160" y="4518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80360" y="444348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ndo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8167680" y="4164120"/>
            <a:ext cx="557280" cy="200520"/>
            <a:chOff x="8167680" y="4164120"/>
            <a:chExt cx="557280" cy="200520"/>
          </a:xfrm>
        </p:grpSpPr>
        <p:sp>
          <p:nvSpPr>
            <p:cNvPr id="1103" name=""/>
            <p:cNvSpPr/>
            <p:nvPr/>
          </p:nvSpPr>
          <p:spPr>
            <a:xfrm>
              <a:off x="8196480" y="42386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67680" y="4164120"/>
              <a:ext cx="55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men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988240" y="3554280"/>
            <a:ext cx="493200" cy="200520"/>
            <a:chOff x="5988240" y="3554280"/>
            <a:chExt cx="493200" cy="200520"/>
          </a:xfrm>
        </p:grpSpPr>
        <p:sp>
          <p:nvSpPr>
            <p:cNvPr id="1106" name=""/>
            <p:cNvSpPr/>
            <p:nvPr/>
          </p:nvSpPr>
          <p:spPr>
            <a:xfrm>
              <a:off x="6016680" y="36288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88240" y="3554280"/>
              <a:ext cx="49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ono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453000" y="3560760"/>
            <a:ext cx="659160" cy="200520"/>
            <a:chOff x="6453000" y="3560760"/>
            <a:chExt cx="659160" cy="200520"/>
          </a:xfrm>
        </p:grpSpPr>
        <p:sp>
          <p:nvSpPr>
            <p:cNvPr id="1109" name=""/>
            <p:cNvSpPr/>
            <p:nvPr/>
          </p:nvSpPr>
          <p:spPr>
            <a:xfrm>
              <a:off x="6480360" y="3635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453000" y="3560760"/>
              <a:ext cx="65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randvach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033680" y="4576680"/>
            <a:ext cx="377280" cy="200520"/>
            <a:chOff x="7033680" y="4576680"/>
            <a:chExt cx="377280" cy="200520"/>
          </a:xfrm>
        </p:grpSpPr>
        <p:sp>
          <p:nvSpPr>
            <p:cNvPr id="1112" name=""/>
            <p:cNvSpPr/>
            <p:nvPr/>
          </p:nvSpPr>
          <p:spPr>
            <a:xfrm>
              <a:off x="7064640" y="4651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33680" y="4576680"/>
              <a:ext cx="37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487280" y="4253040"/>
            <a:ext cx="625680" cy="200520"/>
            <a:chOff x="7487280" y="4253040"/>
            <a:chExt cx="625680" cy="200520"/>
          </a:xfrm>
        </p:grpSpPr>
        <p:sp>
          <p:nvSpPr>
            <p:cNvPr id="1115" name=""/>
            <p:cNvSpPr/>
            <p:nvPr/>
          </p:nvSpPr>
          <p:spPr>
            <a:xfrm>
              <a:off x="7515360" y="43275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87280" y="42530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mes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7821360" y="4830840"/>
            <a:ext cx="406440" cy="200520"/>
            <a:chOff x="7821360" y="4830840"/>
            <a:chExt cx="406440" cy="200520"/>
          </a:xfrm>
        </p:grpSpPr>
        <p:sp>
          <p:nvSpPr>
            <p:cNvPr id="1118" name=""/>
            <p:cNvSpPr/>
            <p:nvPr/>
          </p:nvSpPr>
          <p:spPr>
            <a:xfrm>
              <a:off x="7851960" y="4905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1360" y="4830840"/>
              <a:ext cx="40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6761880" y="4405320"/>
            <a:ext cx="439920" cy="200520"/>
            <a:chOff x="6761880" y="4405320"/>
            <a:chExt cx="439920" cy="200520"/>
          </a:xfrm>
        </p:grpSpPr>
        <p:sp>
          <p:nvSpPr>
            <p:cNvPr id="1121" name=""/>
            <p:cNvSpPr/>
            <p:nvPr/>
          </p:nvSpPr>
          <p:spPr>
            <a:xfrm>
              <a:off x="6791400" y="44798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1880" y="4405320"/>
              <a:ext cx="43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ng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590160" y="5992920"/>
            <a:ext cx="503640" cy="200520"/>
            <a:chOff x="6590160" y="5992920"/>
            <a:chExt cx="503640" cy="200520"/>
          </a:xfrm>
        </p:grpSpPr>
        <p:sp>
          <p:nvSpPr>
            <p:cNvPr id="1124" name=""/>
            <p:cNvSpPr/>
            <p:nvPr/>
          </p:nvSpPr>
          <p:spPr>
            <a:xfrm>
              <a:off x="6619680" y="60674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90160" y="599292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gui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193160" y="5954760"/>
            <a:ext cx="426240" cy="200520"/>
            <a:chOff x="7193160" y="5954760"/>
            <a:chExt cx="426240" cy="200520"/>
          </a:xfrm>
        </p:grpSpPr>
        <p:sp>
          <p:nvSpPr>
            <p:cNvPr id="1127" name=""/>
            <p:cNvSpPr/>
            <p:nvPr/>
          </p:nvSpPr>
          <p:spPr>
            <a:xfrm>
              <a:off x="7223040" y="6029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93160" y="5954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utch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580880" y="5846760"/>
            <a:ext cx="474840" cy="200520"/>
            <a:chOff x="7580880" y="5846760"/>
            <a:chExt cx="474840" cy="200520"/>
          </a:xfrm>
        </p:grpSpPr>
        <p:sp>
          <p:nvSpPr>
            <p:cNvPr id="1130" name=""/>
            <p:cNvSpPr/>
            <p:nvPr/>
          </p:nvSpPr>
          <p:spPr>
            <a:xfrm>
              <a:off x="7610760" y="59212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80880" y="58467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kimb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7536960" y="4881600"/>
            <a:ext cx="415440" cy="307080"/>
            <a:chOff x="7536960" y="4881600"/>
            <a:chExt cx="415440" cy="307080"/>
          </a:xfrm>
        </p:grpSpPr>
        <p:sp>
          <p:nvSpPr>
            <p:cNvPr id="1133" name=""/>
            <p:cNvSpPr/>
            <p:nvPr/>
          </p:nvSpPr>
          <p:spPr>
            <a:xfrm>
              <a:off x="7566120" y="49561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36960" y="488160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go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998680" y="5541840"/>
            <a:ext cx="465840" cy="200520"/>
            <a:chOff x="5998680" y="5541840"/>
            <a:chExt cx="465840" cy="200520"/>
          </a:xfrm>
        </p:grpSpPr>
        <p:sp>
          <p:nvSpPr>
            <p:cNvPr id="1136" name=""/>
            <p:cNvSpPr/>
            <p:nvPr/>
          </p:nvSpPr>
          <p:spPr>
            <a:xfrm>
              <a:off x="6029640" y="56163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8680" y="5541840"/>
              <a:ext cx="465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zi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414120" y="5275440"/>
            <a:ext cx="625680" cy="200520"/>
            <a:chOff x="6414120" y="5275440"/>
            <a:chExt cx="625680" cy="200520"/>
          </a:xfrm>
        </p:grpSpPr>
        <p:sp>
          <p:nvSpPr>
            <p:cNvPr id="1139" name=""/>
            <p:cNvSpPr/>
            <p:nvPr/>
          </p:nvSpPr>
          <p:spPr>
            <a:xfrm>
              <a:off x="6442200" y="5349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14120" y="5275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ther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151320" y="6310440"/>
            <a:ext cx="352800" cy="200520"/>
            <a:chOff x="6151320" y="6310440"/>
            <a:chExt cx="352800" cy="200520"/>
          </a:xfrm>
        </p:grpSpPr>
        <p:sp>
          <p:nvSpPr>
            <p:cNvPr id="1142" name=""/>
            <p:cNvSpPr/>
            <p:nvPr/>
          </p:nvSpPr>
          <p:spPr>
            <a:xfrm>
              <a:off x="6181920" y="638496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51320" y="6310440"/>
              <a:ext cx="35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4540680" y="5770440"/>
            <a:ext cx="625680" cy="200520"/>
            <a:chOff x="4540680" y="5770440"/>
            <a:chExt cx="625680" cy="200520"/>
          </a:xfrm>
        </p:grpSpPr>
        <p:sp>
          <p:nvSpPr>
            <p:cNvPr id="1145" name=""/>
            <p:cNvSpPr/>
            <p:nvPr/>
          </p:nvSpPr>
          <p:spPr>
            <a:xfrm>
              <a:off x="4568760" y="58449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40680" y="5770440"/>
              <a:ext cx="62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ampim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74280" y="5618160"/>
            <a:ext cx="479520" cy="200520"/>
            <a:chOff x="5174280" y="5618160"/>
            <a:chExt cx="479520" cy="200520"/>
          </a:xfrm>
        </p:grpSpPr>
        <p:sp>
          <p:nvSpPr>
            <p:cNvPr id="1148" name=""/>
            <p:cNvSpPr/>
            <p:nvPr/>
          </p:nvSpPr>
          <p:spPr>
            <a:xfrm>
              <a:off x="5204160" y="56926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74280" y="56181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eluc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294520" y="5294160"/>
            <a:ext cx="543600" cy="200520"/>
            <a:chOff x="5294520" y="5294160"/>
            <a:chExt cx="543600" cy="200520"/>
          </a:xfrm>
        </p:grpSpPr>
        <p:sp>
          <p:nvSpPr>
            <p:cNvPr id="1151" name=""/>
            <p:cNvSpPr/>
            <p:nvPr/>
          </p:nvSpPr>
          <p:spPr>
            <a:xfrm>
              <a:off x="5324400" y="53686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94520" y="529416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lisbu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3173400" y="5472000"/>
            <a:ext cx="401760" cy="200520"/>
            <a:chOff x="3173400" y="5472000"/>
            <a:chExt cx="401760" cy="200520"/>
          </a:xfrm>
        </p:grpSpPr>
        <p:sp>
          <p:nvSpPr>
            <p:cNvPr id="1154" name=""/>
            <p:cNvSpPr/>
            <p:nvPr/>
          </p:nvSpPr>
          <p:spPr>
            <a:xfrm>
              <a:off x="3203640" y="55465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73400" y="5472000"/>
              <a:ext cx="40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sh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4400640" y="4468680"/>
            <a:ext cx="631800" cy="200520"/>
            <a:chOff x="4400640" y="4468680"/>
            <a:chExt cx="631800" cy="200520"/>
          </a:xfrm>
        </p:grpSpPr>
        <p:sp>
          <p:nvSpPr>
            <p:cNvPr id="1157" name=""/>
            <p:cNvSpPr/>
            <p:nvPr/>
          </p:nvSpPr>
          <p:spPr>
            <a:xfrm>
              <a:off x="4429440" y="4543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00640" y="446868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 Andrew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806360" y="4970520"/>
            <a:ext cx="577080" cy="200520"/>
            <a:chOff x="4806360" y="4970520"/>
            <a:chExt cx="577080" cy="200520"/>
          </a:xfrm>
        </p:grpSpPr>
        <p:sp>
          <p:nvSpPr>
            <p:cNvPr id="1160" name=""/>
            <p:cNvSpPr/>
            <p:nvPr/>
          </p:nvSpPr>
          <p:spPr>
            <a:xfrm>
              <a:off x="4835520" y="504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06360" y="4970520"/>
              <a:ext cx="577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llerha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5009040" y="4741920"/>
            <a:ext cx="543600" cy="200520"/>
            <a:chOff x="5009040" y="4741920"/>
            <a:chExt cx="543600" cy="200520"/>
          </a:xfrm>
        </p:grpSpPr>
        <p:sp>
          <p:nvSpPr>
            <p:cNvPr id="1163" name=""/>
            <p:cNvSpPr/>
            <p:nvPr/>
          </p:nvSpPr>
          <p:spPr>
            <a:xfrm>
              <a:off x="5038920" y="481644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09040" y="474192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ingtow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 flipH="1" rot="5400000">
            <a:off x="7473240" y="6427800"/>
            <a:ext cx="564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Petit Pari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 rot="4138200">
            <a:off x="7332480" y="6498720"/>
            <a:ext cx="54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Escallop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903680" y="5478480"/>
            <a:ext cx="386640" cy="200520"/>
            <a:chOff x="1903680" y="5478480"/>
            <a:chExt cx="386640" cy="200520"/>
          </a:xfrm>
        </p:grpSpPr>
        <p:sp>
          <p:nvSpPr>
            <p:cNvPr id="1168" name=""/>
            <p:cNvSpPr/>
            <p:nvPr/>
          </p:nvSpPr>
          <p:spPr>
            <a:xfrm>
              <a:off x="1933920" y="55530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903680" y="5478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s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2997720" y="3751200"/>
            <a:ext cx="473400" cy="200520"/>
            <a:chOff x="2997720" y="3751200"/>
            <a:chExt cx="473400" cy="200520"/>
          </a:xfrm>
        </p:grpSpPr>
        <p:sp>
          <p:nvSpPr>
            <p:cNvPr id="1171" name=""/>
            <p:cNvSpPr/>
            <p:nvPr/>
          </p:nvSpPr>
          <p:spPr>
            <a:xfrm>
              <a:off x="3025800" y="382572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97720" y="3751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Libret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123000" y="4589640"/>
            <a:ext cx="426240" cy="200520"/>
            <a:chOff x="3123000" y="4589640"/>
            <a:chExt cx="426240" cy="200520"/>
          </a:xfrm>
        </p:grpSpPr>
        <p:sp>
          <p:nvSpPr>
            <p:cNvPr id="1174" name=""/>
            <p:cNvSpPr/>
            <p:nvPr/>
          </p:nvSpPr>
          <p:spPr>
            <a:xfrm>
              <a:off x="3152880" y="466416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23000" y="4589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lafi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877480" y="5376960"/>
            <a:ext cx="526680" cy="200520"/>
            <a:chOff x="2877480" y="5376960"/>
            <a:chExt cx="526680" cy="200520"/>
          </a:xfrm>
        </p:grpSpPr>
        <p:sp>
          <p:nvSpPr>
            <p:cNvPr id="1177" name=""/>
            <p:cNvSpPr/>
            <p:nvPr/>
          </p:nvSpPr>
          <p:spPr>
            <a:xfrm>
              <a:off x="2905200" y="54514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77480" y="5376960"/>
              <a:ext cx="52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ngfo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"/>
          <p:cNvSpPr/>
          <p:nvPr/>
        </p:nvSpPr>
        <p:spPr>
          <a:xfrm rot="17461800">
            <a:off x="2727720" y="615024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Fal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793400" y="2360520"/>
            <a:ext cx="430560" cy="200520"/>
            <a:chOff x="4793400" y="2360520"/>
            <a:chExt cx="430560" cy="200520"/>
          </a:xfrm>
        </p:grpSpPr>
        <p:sp>
          <p:nvSpPr>
            <p:cNvPr id="1181" name=""/>
            <p:cNvSpPr/>
            <p:nvPr/>
          </p:nvSpPr>
          <p:spPr>
            <a:xfrm>
              <a:off x="4822920" y="243504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3400" y="236052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ob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5662440" y="4030560"/>
            <a:ext cx="479520" cy="200520"/>
            <a:chOff x="5662440" y="4030560"/>
            <a:chExt cx="479520" cy="200520"/>
          </a:xfrm>
        </p:grpSpPr>
        <p:sp>
          <p:nvSpPr>
            <p:cNvPr id="1184" name=""/>
            <p:cNvSpPr/>
            <p:nvPr/>
          </p:nvSpPr>
          <p:spPr>
            <a:xfrm>
              <a:off x="5693040" y="410508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62440" y="4030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dall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730760" y="3973680"/>
            <a:ext cx="630360" cy="200520"/>
            <a:chOff x="4730760" y="3973680"/>
            <a:chExt cx="630360" cy="200520"/>
          </a:xfrm>
        </p:grpSpPr>
        <p:sp>
          <p:nvSpPr>
            <p:cNvPr id="1187" name=""/>
            <p:cNvSpPr/>
            <p:nvPr/>
          </p:nvSpPr>
          <p:spPr>
            <a:xfrm flipH="1">
              <a:off x="5296320" y="404820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4730400" y="3973680"/>
              <a:ext cx="63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pidurang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786200" y="3452760"/>
            <a:ext cx="357480" cy="200520"/>
            <a:chOff x="4786200" y="3452760"/>
            <a:chExt cx="357480" cy="200520"/>
          </a:xfrm>
        </p:grpSpPr>
        <p:sp>
          <p:nvSpPr>
            <p:cNvPr id="1190" name=""/>
            <p:cNvSpPr/>
            <p:nvPr/>
          </p:nvSpPr>
          <p:spPr>
            <a:xfrm>
              <a:off x="4816440" y="35272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86200" y="3452760"/>
              <a:ext cx="35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 flipH="1" rot="4531800">
            <a:off x="5221800" y="639828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 Har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632760" y="46274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Laki Saf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9363800">
            <a:off x="3368160" y="535284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8080"/>
                </a:solidFill>
                <a:latin typeface="Arial"/>
              </a:rPr>
              <a:t>Caca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2122800">
            <a:off x="4898520" y="3901680"/>
            <a:ext cx="1417680" cy="2770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1859400">
            <a:off x="1546200" y="2028600"/>
            <a:ext cx="1355760" cy="267624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704960" y="29653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08680" y="478296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2152200">
            <a:off x="2560680" y="3925800"/>
            <a:ext cx="1423800" cy="635040"/>
          </a:xfrm>
          <a:prstGeom prst="rightArrow">
            <a:avLst>
              <a:gd name="adj1" fmla="val 50000"/>
              <a:gd name="adj2" fmla="val 56052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3042000">
            <a:off x="3935160" y="5159520"/>
            <a:ext cx="765000" cy="679320"/>
          </a:xfrm>
          <a:prstGeom prst="leftArrow">
            <a:avLst>
              <a:gd name="adj1" fmla="val 50000"/>
              <a:gd name="adj2" fmla="val 28153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21396000">
            <a:off x="4430880" y="4216320"/>
            <a:ext cx="765000" cy="679680"/>
          </a:xfrm>
          <a:prstGeom prst="leftArrow">
            <a:avLst>
              <a:gd name="adj1" fmla="val 50000"/>
              <a:gd name="adj2" fmla="val 2813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588560" y="270828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477880" y="6159600"/>
            <a:ext cx="1465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A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COAX_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922320" y="2914560"/>
            <a:ext cx="8126280" cy="3957840"/>
          </a:xfrm>
          <a:custGeom>
            <a:avLst/>
            <a:gdLst/>
            <a:ahLst/>
            <a:rect l="l" t="t" r="r" b="b"/>
            <a:pathLst>
              <a:path w="5119" h="2493">
                <a:moveTo>
                  <a:pt x="2630" y="3"/>
                </a:moveTo>
                <a:cubicBezTo>
                  <a:pt x="2350" y="3"/>
                  <a:pt x="2045" y="0"/>
                  <a:pt x="1858" y="27"/>
                </a:cubicBezTo>
                <a:cubicBezTo>
                  <a:pt x="1671" y="54"/>
                  <a:pt x="1608" y="117"/>
                  <a:pt x="1507" y="167"/>
                </a:cubicBezTo>
                <a:cubicBezTo>
                  <a:pt x="1406" y="217"/>
                  <a:pt x="1347" y="255"/>
                  <a:pt x="1250" y="330"/>
                </a:cubicBezTo>
                <a:cubicBezTo>
                  <a:pt x="1153" y="405"/>
                  <a:pt x="1062" y="560"/>
                  <a:pt x="923" y="619"/>
                </a:cubicBezTo>
                <a:cubicBezTo>
                  <a:pt x="784" y="678"/>
                  <a:pt x="559" y="580"/>
                  <a:pt x="416" y="681"/>
                </a:cubicBezTo>
                <a:cubicBezTo>
                  <a:pt x="273" y="782"/>
                  <a:pt x="122" y="991"/>
                  <a:pt x="66" y="1227"/>
                </a:cubicBezTo>
                <a:cubicBezTo>
                  <a:pt x="10" y="1463"/>
                  <a:pt x="0" y="1905"/>
                  <a:pt x="81" y="2100"/>
                </a:cubicBezTo>
                <a:cubicBezTo>
                  <a:pt x="162" y="2295"/>
                  <a:pt x="176" y="2349"/>
                  <a:pt x="549" y="2396"/>
                </a:cubicBezTo>
                <a:cubicBezTo>
                  <a:pt x="922" y="2443"/>
                  <a:pt x="1740" y="2383"/>
                  <a:pt x="2320" y="2385"/>
                </a:cubicBezTo>
                <a:cubicBezTo>
                  <a:pt x="2900" y="2387"/>
                  <a:pt x="3619" y="2425"/>
                  <a:pt x="4032" y="2411"/>
                </a:cubicBezTo>
                <a:cubicBezTo>
                  <a:pt x="4445" y="2397"/>
                  <a:pt x="4660" y="2493"/>
                  <a:pt x="4800" y="2303"/>
                </a:cubicBezTo>
                <a:cubicBezTo>
                  <a:pt x="4940" y="2113"/>
                  <a:pt x="4828" y="1539"/>
                  <a:pt x="4874" y="1273"/>
                </a:cubicBezTo>
                <a:cubicBezTo>
                  <a:pt x="4920" y="1007"/>
                  <a:pt x="5042" y="868"/>
                  <a:pt x="5076" y="705"/>
                </a:cubicBezTo>
                <a:cubicBezTo>
                  <a:pt x="5110" y="542"/>
                  <a:pt x="5119" y="400"/>
                  <a:pt x="5076" y="292"/>
                </a:cubicBezTo>
                <a:cubicBezTo>
                  <a:pt x="5033" y="184"/>
                  <a:pt x="4967" y="102"/>
                  <a:pt x="4819" y="58"/>
                </a:cubicBezTo>
                <a:cubicBezTo>
                  <a:pt x="4671" y="14"/>
                  <a:pt x="4401" y="32"/>
                  <a:pt x="4188" y="27"/>
                </a:cubicBezTo>
                <a:cubicBezTo>
                  <a:pt x="3975" y="22"/>
                  <a:pt x="3801" y="31"/>
                  <a:pt x="3541" y="27"/>
                </a:cubicBezTo>
                <a:cubicBezTo>
                  <a:pt x="3281" y="23"/>
                  <a:pt x="2910" y="3"/>
                  <a:pt x="2630" y="3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98880" y="3048120"/>
            <a:ext cx="838440" cy="837720"/>
            <a:chOff x="4898880" y="3048120"/>
            <a:chExt cx="838440" cy="837720"/>
          </a:xfrm>
        </p:grpSpPr>
        <p:sp>
          <p:nvSpPr>
            <p:cNvPr id="1207" name=""/>
            <p:cNvSpPr/>
            <p:nvPr/>
          </p:nvSpPr>
          <p:spPr>
            <a:xfrm>
              <a:off x="4975200" y="3048120"/>
              <a:ext cx="7621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98880" y="3124080"/>
              <a:ext cx="762120" cy="76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7108920" y="4419720"/>
            <a:ext cx="837720" cy="837720"/>
            <a:chOff x="7108920" y="4419720"/>
            <a:chExt cx="837720" cy="837720"/>
          </a:xfrm>
        </p:grpSpPr>
        <p:sp>
          <p:nvSpPr>
            <p:cNvPr id="1210" name=""/>
            <p:cNvSpPr/>
            <p:nvPr/>
          </p:nvSpPr>
          <p:spPr>
            <a:xfrm>
              <a:off x="7184880" y="4419720"/>
              <a:ext cx="76176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08920" y="4495680"/>
              <a:ext cx="76176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4898880" y="4419720"/>
            <a:ext cx="838440" cy="837720"/>
            <a:chOff x="4898880" y="4419720"/>
            <a:chExt cx="838440" cy="837720"/>
          </a:xfrm>
        </p:grpSpPr>
        <p:sp>
          <p:nvSpPr>
            <p:cNvPr id="1213" name=""/>
            <p:cNvSpPr/>
            <p:nvPr/>
          </p:nvSpPr>
          <p:spPr>
            <a:xfrm>
              <a:off x="4975200" y="4419720"/>
              <a:ext cx="762120" cy="76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98880" y="4495680"/>
              <a:ext cx="762120" cy="761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612880" y="4419720"/>
            <a:ext cx="838440" cy="837720"/>
            <a:chOff x="2612880" y="4419720"/>
            <a:chExt cx="838440" cy="837720"/>
          </a:xfrm>
        </p:grpSpPr>
        <p:sp>
          <p:nvSpPr>
            <p:cNvPr id="1216" name=""/>
            <p:cNvSpPr/>
            <p:nvPr/>
          </p:nvSpPr>
          <p:spPr>
            <a:xfrm>
              <a:off x="2689200" y="4419720"/>
              <a:ext cx="762120" cy="761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12880" y="4495680"/>
              <a:ext cx="762120" cy="761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7108920" y="5638680"/>
            <a:ext cx="837720" cy="838440"/>
            <a:chOff x="7108920" y="5638680"/>
            <a:chExt cx="837720" cy="838440"/>
          </a:xfrm>
        </p:grpSpPr>
        <p:sp>
          <p:nvSpPr>
            <p:cNvPr id="1219" name=""/>
            <p:cNvSpPr/>
            <p:nvPr/>
          </p:nvSpPr>
          <p:spPr>
            <a:xfrm>
              <a:off x="7184880" y="5638680"/>
              <a:ext cx="761760" cy="76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08920" y="5715000"/>
              <a:ext cx="761760" cy="762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898880" y="5638680"/>
            <a:ext cx="838440" cy="838440"/>
            <a:chOff x="4898880" y="5638680"/>
            <a:chExt cx="838440" cy="838440"/>
          </a:xfrm>
        </p:grpSpPr>
        <p:sp>
          <p:nvSpPr>
            <p:cNvPr id="1222" name=""/>
            <p:cNvSpPr/>
            <p:nvPr/>
          </p:nvSpPr>
          <p:spPr>
            <a:xfrm>
              <a:off x="4975200" y="5638680"/>
              <a:ext cx="762120" cy="76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98880" y="5715000"/>
              <a:ext cx="762120" cy="762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612880" y="5638680"/>
            <a:ext cx="838440" cy="838440"/>
            <a:chOff x="2612880" y="5638680"/>
            <a:chExt cx="838440" cy="838440"/>
          </a:xfrm>
        </p:grpSpPr>
        <p:sp>
          <p:nvSpPr>
            <p:cNvPr id="1225" name=""/>
            <p:cNvSpPr/>
            <p:nvPr/>
          </p:nvSpPr>
          <p:spPr>
            <a:xfrm>
              <a:off x="2689200" y="5638680"/>
              <a:ext cx="762120" cy="762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12880" y="5715000"/>
              <a:ext cx="762120" cy="762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993760" y="1218960"/>
            <a:ext cx="4496400" cy="4496400"/>
            <a:chOff x="2993760" y="1218960"/>
            <a:chExt cx="4496400" cy="4496400"/>
          </a:xfrm>
        </p:grpSpPr>
        <p:cxnSp>
          <p:nvCxnSpPr>
            <p:cNvPr id="1228" name=""/>
            <p:cNvCxnSpPr>
              <a:stCxn id="1208" idx="2"/>
              <a:endCxn id="1214" idx="0"/>
            </p:cNvCxnSpPr>
            <p:nvPr/>
          </p:nvCxnSpPr>
          <p:spPr>
            <a:xfrm>
              <a:off x="5279760" y="3885840"/>
              <a:ext cx="1080" cy="61020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29" name=""/>
            <p:cNvCxnSpPr>
              <a:stCxn id="1214" idx="2"/>
              <a:endCxn id="1223" idx="0"/>
            </p:cNvCxnSpPr>
            <p:nvPr/>
          </p:nvCxnSpPr>
          <p:spPr>
            <a:xfrm>
              <a:off x="5279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0" name=""/>
            <p:cNvCxnSpPr>
              <a:stCxn id="1217" idx="2"/>
              <a:endCxn id="1226" idx="0"/>
            </p:cNvCxnSpPr>
            <p:nvPr/>
          </p:nvCxnSpPr>
          <p:spPr>
            <a:xfrm>
              <a:off x="299376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1" name=""/>
            <p:cNvCxnSpPr>
              <a:stCxn id="1211" idx="2"/>
              <a:endCxn id="1220" idx="0"/>
            </p:cNvCxnSpPr>
            <p:nvPr/>
          </p:nvCxnSpPr>
          <p:spPr>
            <a:xfrm>
              <a:off x="7489440" y="5257800"/>
              <a:ext cx="1080" cy="457920"/>
            </a:xfrm>
            <a:prstGeom prst="straightConnector1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2" name=""/>
            <p:cNvCxnSpPr>
              <a:stCxn id="1208" idx="2"/>
              <a:endCxn id="1217" idx="0"/>
            </p:cNvCxnSpPr>
            <p:nvPr/>
          </p:nvCxnSpPr>
          <p:spPr>
            <a:xfrm rot="5400000">
              <a:off x="3831840" y="3047760"/>
              <a:ext cx="610200" cy="2286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3" name=""/>
            <p:cNvCxnSpPr>
              <a:stCxn id="1208" idx="2"/>
              <a:endCxn id="1211" idx="0"/>
            </p:cNvCxnSpPr>
            <p:nvPr/>
          </p:nvCxnSpPr>
          <p:spPr>
            <a:xfrm flipH="1" rot="16200000">
              <a:off x="6080040" y="3085560"/>
              <a:ext cx="610200" cy="2210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  <p:cxnSp>
          <p:nvCxnSpPr>
            <p:cNvPr id="1234" name=""/>
            <p:cNvCxnSpPr>
              <a:stCxn id="1208" idx="3"/>
              <a:endCxn id="1235" idx="2"/>
            </p:cNvCxnSpPr>
            <p:nvPr/>
          </p:nvCxnSpPr>
          <p:spPr>
            <a:xfrm flipV="1">
              <a:off x="5661000" y="1218960"/>
              <a:ext cx="1296000" cy="2286720"/>
            </a:xfrm>
            <a:prstGeom prst="bentConnector2">
              <a:avLst/>
            </a:prstGeom>
            <a:ln w="38160">
              <a:solidFill>
                <a:srgbClr val="777777"/>
              </a:solidFill>
              <a:prstDash val="sysDot"/>
              <a:miter/>
            </a:ln>
          </p:spPr>
        </p:cxnSp>
      </p:grpSp>
      <p:sp>
        <p:nvSpPr>
          <p:cNvPr id="1236" name=""/>
          <p:cNvSpPr/>
          <p:nvPr/>
        </p:nvSpPr>
        <p:spPr>
          <a:xfrm>
            <a:off x="3832200" y="32004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C in CF 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41880" y="457200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ACC in CFA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32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LCC in CFL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546200" y="457200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Force 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Comma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FMCC in CFMC H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546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32200" y="5791320"/>
            <a:ext cx="1752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041880" y="5791320"/>
            <a:ext cx="1752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1600200"/>
            <a:ext cx="17524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13712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137120" y="23623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G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6" name=""/>
          <p:cNvCxnSpPr>
            <a:stCxn id="1244" idx="2"/>
            <a:endCxn id="1245" idx="0"/>
          </p:cNvCxnSpPr>
          <p:nvPr/>
        </p:nvCxnSpPr>
        <p:spPr>
          <a:xfrm>
            <a:off x="4708080" y="22096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245" idx="2"/>
            <a:endCxn id="1243" idx="2"/>
          </p:cNvCxnSpPr>
          <p:nvPr/>
        </p:nvCxnSpPr>
        <p:spPr>
          <a:xfrm>
            <a:off x="4708080" y="2666880"/>
            <a:ext cx="108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0"/>
            <a:endCxn id="1243" idx="2"/>
          </p:cNvCxnSpPr>
          <p:nvPr/>
        </p:nvCxnSpPr>
        <p:spPr>
          <a:xfrm flipV="1">
            <a:off x="4708080" y="281916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36" idx="2"/>
            <a:endCxn id="1238" idx="0"/>
          </p:cNvCxnSpPr>
          <p:nvPr/>
        </p:nvCxnSpPr>
        <p:spPr>
          <a:xfrm>
            <a:off x="4708080" y="39621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238" idx="2"/>
            <a:endCxn id="1241" idx="0"/>
          </p:cNvCxnSpPr>
          <p:nvPr/>
        </p:nvCxnSpPr>
        <p:spPr>
          <a:xfrm>
            <a:off x="4708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237" idx="2"/>
            <a:endCxn id="1242" idx="0"/>
          </p:cNvCxnSpPr>
          <p:nvPr/>
        </p:nvCxnSpPr>
        <p:spPr>
          <a:xfrm>
            <a:off x="691812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39" idx="2"/>
            <a:endCxn id="1240" idx="0"/>
          </p:cNvCxnSpPr>
          <p:nvPr/>
        </p:nvCxnSpPr>
        <p:spPr>
          <a:xfrm>
            <a:off x="2422080" y="53341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36" idx="2"/>
            <a:endCxn id="1239" idx="0"/>
          </p:cNvCxnSpPr>
          <p:nvPr/>
        </p:nvCxnSpPr>
        <p:spPr>
          <a:xfrm rot="5400000">
            <a:off x="3260160" y="3124080"/>
            <a:ext cx="61020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36" idx="2"/>
            <a:endCxn id="1237" idx="0"/>
          </p:cNvCxnSpPr>
          <p:nvPr/>
        </p:nvCxnSpPr>
        <p:spPr>
          <a:xfrm flipH="1" rot="16200000">
            <a:off x="5507640" y="3161880"/>
            <a:ext cx="610200" cy="2210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36" idx="2"/>
          </p:cNvCxnSpPr>
          <p:nvPr/>
        </p:nvCxnSpPr>
        <p:spPr>
          <a:xfrm flipH="1" rot="16200000">
            <a:off x="6298560" y="2372040"/>
            <a:ext cx="305280" cy="3485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6" name=""/>
          <p:cNvGrpSpPr/>
          <p:nvPr/>
        </p:nvGrpSpPr>
        <p:grpSpPr>
          <a:xfrm>
            <a:off x="379440" y="360360"/>
            <a:ext cx="784080" cy="1544760"/>
            <a:chOff x="379440" y="360360"/>
            <a:chExt cx="784080" cy="1544760"/>
          </a:xfrm>
        </p:grpSpPr>
        <p:sp>
          <p:nvSpPr>
            <p:cNvPr id="1257" name=""/>
            <p:cNvSpPr/>
            <p:nvPr/>
          </p:nvSpPr>
          <p:spPr>
            <a:xfrm>
              <a:off x="771120" y="36036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9440" y="81756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400" y="1536840"/>
            <a:ext cx="784080" cy="1930320"/>
            <a:chOff x="68400" y="1536840"/>
            <a:chExt cx="784080" cy="1930320"/>
          </a:xfrm>
        </p:grpSpPr>
        <p:sp>
          <p:nvSpPr>
            <p:cNvPr id="1260" name=""/>
            <p:cNvSpPr/>
            <p:nvPr/>
          </p:nvSpPr>
          <p:spPr>
            <a:xfrm>
              <a:off x="460440" y="1536840"/>
              <a:ext cx="0" cy="19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400" y="2146320"/>
              <a:ext cx="7840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285840" y="3276720"/>
            <a:ext cx="971640" cy="1776240"/>
            <a:chOff x="285840" y="3276720"/>
            <a:chExt cx="971640" cy="1776240"/>
          </a:xfrm>
        </p:grpSpPr>
        <p:sp>
          <p:nvSpPr>
            <p:cNvPr id="1263" name=""/>
            <p:cNvSpPr/>
            <p:nvPr/>
          </p:nvSpPr>
          <p:spPr>
            <a:xfrm>
              <a:off x="771480" y="3276720"/>
              <a:ext cx="0" cy="17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840" y="3992400"/>
              <a:ext cx="97164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106920" y="4856040"/>
            <a:ext cx="706680" cy="1544760"/>
            <a:chOff x="106920" y="4856040"/>
            <a:chExt cx="706680" cy="1544760"/>
          </a:xfrm>
        </p:grpSpPr>
        <p:sp>
          <p:nvSpPr>
            <p:cNvPr id="1266" name=""/>
            <p:cNvSpPr/>
            <p:nvPr/>
          </p:nvSpPr>
          <p:spPr>
            <a:xfrm>
              <a:off x="460440" y="4856040"/>
              <a:ext cx="0" cy="15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6920" y="5516640"/>
              <a:ext cx="70668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7646040" y="26668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73840" y="2971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755880" y="304920"/>
            <a:ext cx="2057040" cy="838080"/>
            <a:chOff x="3755880" y="304920"/>
            <a:chExt cx="2057040" cy="838080"/>
          </a:xfrm>
        </p:grpSpPr>
        <p:sp>
          <p:nvSpPr>
            <p:cNvPr id="1271" name=""/>
            <p:cNvSpPr/>
            <p:nvPr/>
          </p:nvSpPr>
          <p:spPr>
            <a:xfrm>
              <a:off x="3902760" y="30492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9320" y="380880"/>
              <a:ext cx="19101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55880" y="457200"/>
              <a:ext cx="19105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4" name=""/>
          <p:cNvCxnSpPr>
            <a:stCxn id="1273" idx="4"/>
            <a:endCxn id="1243" idx="0"/>
          </p:cNvCxnSpPr>
          <p:nvPr/>
        </p:nvCxnSpPr>
        <p:spPr>
          <a:xfrm flipH="1">
            <a:off x="4707720" y="11430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6270480" y="228600"/>
            <a:ext cx="1524240" cy="990360"/>
            <a:chOff x="6270480" y="228600"/>
            <a:chExt cx="1524240" cy="990360"/>
          </a:xfrm>
        </p:grpSpPr>
        <p:sp>
          <p:nvSpPr>
            <p:cNvPr id="1276" name=""/>
            <p:cNvSpPr/>
            <p:nvPr/>
          </p:nvSpPr>
          <p:spPr>
            <a:xfrm>
              <a:off x="6423120" y="228600"/>
              <a:ext cx="1371600" cy="8251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46800" y="310680"/>
              <a:ext cx="1371600" cy="82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70480" y="393480"/>
              <a:ext cx="1371600" cy="825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nd 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int 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8" name=""/>
          <p:cNvCxnSpPr>
            <a:stCxn id="1273" idx="6"/>
            <a:endCxn id="1235" idx="1"/>
          </p:cNvCxnSpPr>
          <p:nvPr/>
        </p:nvCxnSpPr>
        <p:spPr>
          <a:xfrm>
            <a:off x="5665680" y="799920"/>
            <a:ext cx="605520" cy="6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1279" name=""/>
          <p:cNvGrpSpPr/>
          <p:nvPr/>
        </p:nvGrpSpPr>
        <p:grpSpPr>
          <a:xfrm>
            <a:off x="1446120" y="1901880"/>
            <a:ext cx="1143000" cy="787320"/>
            <a:chOff x="1446120" y="1901880"/>
            <a:chExt cx="1143000" cy="787320"/>
          </a:xfrm>
        </p:grpSpPr>
        <p:sp>
          <p:nvSpPr>
            <p:cNvPr id="1280" name=""/>
            <p:cNvSpPr/>
            <p:nvPr/>
          </p:nvSpPr>
          <p:spPr>
            <a:xfrm>
              <a:off x="1628640" y="190188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54120" y="1977840"/>
              <a:ext cx="9586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46120" y="2054160"/>
              <a:ext cx="9604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3" name=""/>
          <p:cNvCxnSpPr>
            <a:stCxn id="1280" idx="3"/>
            <a:endCxn id="1243" idx="1"/>
          </p:cNvCxnSpPr>
          <p:nvPr/>
        </p:nvCxnSpPr>
        <p:spPr>
          <a:xfrm flipV="1">
            <a:off x="2588760" y="2208960"/>
            <a:ext cx="1243800" cy="10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1284" name=""/>
          <p:cNvCxnSpPr>
            <a:stCxn id="1282" idx="2"/>
            <a:endCxn id="1236" idx="1"/>
          </p:cNvCxnSpPr>
          <p:nvPr/>
        </p:nvCxnSpPr>
        <p:spPr>
          <a:xfrm flipH="1" rot="16200000">
            <a:off x="2433600" y="2182320"/>
            <a:ext cx="892800" cy="190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285" name=""/>
          <p:cNvSpPr/>
          <p:nvPr/>
        </p:nvSpPr>
        <p:spPr>
          <a:xfrm>
            <a:off x="2544840" y="5881680"/>
            <a:ext cx="655560" cy="5810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032600" y="5881680"/>
            <a:ext cx="655560" cy="5810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22920" y="5881680"/>
            <a:ext cx="655560" cy="5810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’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8083440" y="39196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88080" y="336564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s, SF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726080" y="1219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640480" y="838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CoAX Team</dc:creator>
  <dc:description>10 Sep 2002 - Initial version at Sep rehearsal
28 Oct 2002 - Distributed as part of v5-1
22 Nov 2002 - Final distribution - v5-2 (0952EST)
</dc:description>
  <dc:language>en-US</dc:language>
  <cp:lastModifiedBy>Patrick Beautement</cp:lastModifiedBy>
  <cp:lastPrinted>2000-06-09T23:34:42Z</cp:lastPrinted>
  <dcterms:modified xsi:type="dcterms:W3CDTF">2002-11-21T14:51:44Z</dcterms:modified>
  <cp:revision>550</cp:revision>
  <dc:subject>'Wallpaper' presentations</dc:subject>
  <dc:title>Coalition Agents eXperiment - The Coalition TIE</dc:title>
</cp:coreProperties>
</file>