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457950" cy="9413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458400" cy="9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EASE 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DDD06A5C-F6BF-4C56-BF1E-530B3EF7461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5.xml"/><Relationship Id="rId19" Type="http://schemas.openxmlformats.org/officeDocument/2006/relationships/slide" Target="slide7.xml"/><Relationship Id="rId20" Type="http://schemas.openxmlformats.org/officeDocument/2006/relationships/slide" Target="slide3.xml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" Target="slide2.xml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3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4.png"/><Relationship Id="rId18" Type="http://schemas.openxmlformats.org/officeDocument/2006/relationships/slide" Target="slide2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slide7.xml"/><Relationship Id="rId22" Type="http://schemas.openxmlformats.org/officeDocument/2006/relationships/slide" Target="slide3.xml"/><Relationship Id="rId23" Type="http://schemas.openxmlformats.org/officeDocument/2006/relationships/slide" Target="slide8.xml"/><Relationship Id="rId24" Type="http://schemas.openxmlformats.org/officeDocument/2006/relationships/slide" Target="slide9.xml"/><Relationship Id="rId25" Type="http://schemas.openxmlformats.org/officeDocument/2006/relationships/image" Target="../media/image15.jpeg"/><Relationship Id="rId26" Type="http://schemas.openxmlformats.org/officeDocument/2006/relationships/image" Target="../media/image16.jpe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slide" Target="slide2.xml"/><Relationship Id="rId15" Type="http://schemas.openxmlformats.org/officeDocument/2006/relationships/slide" Target="slide4.xml"/><Relationship Id="rId16" Type="http://schemas.openxmlformats.org/officeDocument/2006/relationships/slide" Target="slide6.xml"/><Relationship Id="rId17" Type="http://schemas.openxmlformats.org/officeDocument/2006/relationships/slide" Target="slide5.xml"/><Relationship Id="rId18" Type="http://schemas.openxmlformats.org/officeDocument/2006/relationships/slide" Target="slide3.xml"/><Relationship Id="rId19" Type="http://schemas.openxmlformats.org/officeDocument/2006/relationships/slide" Target="slide8.xml"/><Relationship Id="rId20" Type="http://schemas.openxmlformats.org/officeDocument/2006/relationships/slide" Target="slide9.xml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slide" Target="slide2.xml"/><Relationship Id="rId22" Type="http://schemas.openxmlformats.org/officeDocument/2006/relationships/slide" Target="slide4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7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2.xml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3200" y="4575240"/>
            <a:ext cx="83440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lition Agents eXperiment (CoAX)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oalition 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3920" y="4032000"/>
            <a:ext cx="672156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nni Maps for t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5808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dsto-logo" descr=""/>
          <p:cNvPicPr/>
          <p:nvPr/>
        </p:nvPicPr>
        <p:blipFill>
          <a:blip r:embed="rId3"/>
          <a:stretch/>
        </p:blipFill>
        <p:spPr>
          <a:xfrm>
            <a:off x="6832440" y="2417760"/>
            <a:ext cx="1371600" cy="89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CoABS%20Logo%20Final" descr=""/>
          <p:cNvPicPr/>
          <p:nvPr/>
        </p:nvPicPr>
        <p:blipFill>
          <a:blip r:embed="rId6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5" name="coax-logo-globe-binni-2002" descr=""/>
          <p:cNvPicPr/>
          <p:nvPr/>
        </p:nvPicPr>
        <p:blipFill>
          <a:blip r:embed="rId7"/>
          <a:stretch/>
        </p:blipFill>
        <p:spPr>
          <a:xfrm>
            <a:off x="3014640" y="214200"/>
            <a:ext cx="3121200" cy="3372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73640" y="351000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stline modifications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474840" y="471600"/>
            <a:ext cx="7810200" cy="6221160"/>
            <a:chOff x="474840" y="471600"/>
            <a:chExt cx="7810200" cy="6221160"/>
          </a:xfrm>
        </p:grpSpPr>
        <p:sp>
          <p:nvSpPr>
            <p:cNvPr id="1634" name=""/>
            <p:cNvSpPr/>
            <p:nvPr/>
          </p:nvSpPr>
          <p:spPr>
            <a:xfrm>
              <a:off x="477720" y="471600"/>
              <a:ext cx="7807320" cy="6221160"/>
            </a:xfrm>
            <a:custGeom>
              <a:avLst/>
              <a:gdLst/>
              <a:ahLst/>
              <a:rect l="l" t="t" r="r" b="b"/>
              <a:pathLst>
                <a:path w="4918" h="3919">
                  <a:moveTo>
                    <a:pt x="107" y="3469"/>
                  </a:moveTo>
                  <a:lnTo>
                    <a:pt x="122" y="2413"/>
                  </a:lnTo>
                  <a:lnTo>
                    <a:pt x="87" y="2333"/>
                  </a:lnTo>
                  <a:lnTo>
                    <a:pt x="134" y="2286"/>
                  </a:lnTo>
                  <a:lnTo>
                    <a:pt x="148" y="2040"/>
                  </a:lnTo>
                  <a:lnTo>
                    <a:pt x="119" y="1998"/>
                  </a:lnTo>
                  <a:lnTo>
                    <a:pt x="137" y="1922"/>
                  </a:lnTo>
                  <a:lnTo>
                    <a:pt x="133" y="1795"/>
                  </a:lnTo>
                  <a:lnTo>
                    <a:pt x="127" y="1681"/>
                  </a:lnTo>
                  <a:lnTo>
                    <a:pt x="168" y="1628"/>
                  </a:lnTo>
                  <a:lnTo>
                    <a:pt x="122" y="1536"/>
                  </a:lnTo>
                  <a:lnTo>
                    <a:pt x="110" y="1477"/>
                  </a:lnTo>
                  <a:lnTo>
                    <a:pt x="69" y="1435"/>
                  </a:lnTo>
                  <a:lnTo>
                    <a:pt x="0" y="1275"/>
                  </a:lnTo>
                  <a:lnTo>
                    <a:pt x="42" y="1091"/>
                  </a:lnTo>
                  <a:lnTo>
                    <a:pt x="89" y="1069"/>
                  </a:lnTo>
                  <a:lnTo>
                    <a:pt x="150" y="1093"/>
                  </a:lnTo>
                  <a:lnTo>
                    <a:pt x="203" y="1125"/>
                  </a:lnTo>
                  <a:lnTo>
                    <a:pt x="263" y="1124"/>
                  </a:lnTo>
                  <a:lnTo>
                    <a:pt x="317" y="1155"/>
                  </a:lnTo>
                  <a:lnTo>
                    <a:pt x="359" y="1155"/>
                  </a:lnTo>
                  <a:lnTo>
                    <a:pt x="412" y="1131"/>
                  </a:lnTo>
                  <a:lnTo>
                    <a:pt x="444" y="1077"/>
                  </a:lnTo>
                  <a:lnTo>
                    <a:pt x="479" y="1036"/>
                  </a:lnTo>
                  <a:lnTo>
                    <a:pt x="517" y="976"/>
                  </a:lnTo>
                  <a:lnTo>
                    <a:pt x="564" y="928"/>
                  </a:lnTo>
                  <a:lnTo>
                    <a:pt x="601" y="844"/>
                  </a:lnTo>
                  <a:lnTo>
                    <a:pt x="646" y="816"/>
                  </a:lnTo>
                  <a:lnTo>
                    <a:pt x="698" y="791"/>
                  </a:lnTo>
                  <a:lnTo>
                    <a:pt x="732" y="797"/>
                  </a:lnTo>
                  <a:lnTo>
                    <a:pt x="786" y="815"/>
                  </a:lnTo>
                  <a:lnTo>
                    <a:pt x="835" y="816"/>
                  </a:lnTo>
                  <a:lnTo>
                    <a:pt x="859" y="762"/>
                  </a:lnTo>
                  <a:lnTo>
                    <a:pt x="901" y="799"/>
                  </a:lnTo>
                  <a:lnTo>
                    <a:pt x="968" y="775"/>
                  </a:lnTo>
                  <a:lnTo>
                    <a:pt x="992" y="805"/>
                  </a:lnTo>
                  <a:lnTo>
                    <a:pt x="1034" y="795"/>
                  </a:lnTo>
                  <a:lnTo>
                    <a:pt x="1080" y="818"/>
                  </a:lnTo>
                  <a:lnTo>
                    <a:pt x="1118" y="818"/>
                  </a:lnTo>
                  <a:lnTo>
                    <a:pt x="1152" y="818"/>
                  </a:lnTo>
                  <a:lnTo>
                    <a:pt x="1218" y="849"/>
                  </a:lnTo>
                  <a:lnTo>
                    <a:pt x="1237" y="790"/>
                  </a:lnTo>
                  <a:lnTo>
                    <a:pt x="1268" y="838"/>
                  </a:lnTo>
                  <a:lnTo>
                    <a:pt x="1260" y="891"/>
                  </a:lnTo>
                  <a:lnTo>
                    <a:pt x="1297" y="868"/>
                  </a:lnTo>
                  <a:lnTo>
                    <a:pt x="1339" y="886"/>
                  </a:lnTo>
                  <a:lnTo>
                    <a:pt x="1412" y="904"/>
                  </a:lnTo>
                  <a:lnTo>
                    <a:pt x="1393" y="831"/>
                  </a:lnTo>
                  <a:lnTo>
                    <a:pt x="1353" y="803"/>
                  </a:lnTo>
                  <a:lnTo>
                    <a:pt x="1315" y="772"/>
                  </a:lnTo>
                  <a:lnTo>
                    <a:pt x="1304" y="718"/>
                  </a:lnTo>
                  <a:lnTo>
                    <a:pt x="1321" y="676"/>
                  </a:lnTo>
                  <a:lnTo>
                    <a:pt x="1353" y="647"/>
                  </a:lnTo>
                  <a:lnTo>
                    <a:pt x="1418" y="623"/>
                  </a:lnTo>
                  <a:lnTo>
                    <a:pt x="1467" y="665"/>
                  </a:lnTo>
                  <a:lnTo>
                    <a:pt x="1526" y="678"/>
                  </a:lnTo>
                  <a:lnTo>
                    <a:pt x="1580" y="703"/>
                  </a:lnTo>
                  <a:lnTo>
                    <a:pt x="1623" y="720"/>
                  </a:lnTo>
                  <a:lnTo>
                    <a:pt x="1658" y="738"/>
                  </a:lnTo>
                  <a:lnTo>
                    <a:pt x="1724" y="680"/>
                  </a:lnTo>
                  <a:lnTo>
                    <a:pt x="1790" y="663"/>
                  </a:lnTo>
                  <a:lnTo>
                    <a:pt x="1857" y="686"/>
                  </a:lnTo>
                  <a:lnTo>
                    <a:pt x="1879" y="728"/>
                  </a:lnTo>
                  <a:lnTo>
                    <a:pt x="1933" y="765"/>
                  </a:lnTo>
                  <a:lnTo>
                    <a:pt x="1988" y="710"/>
                  </a:lnTo>
                  <a:lnTo>
                    <a:pt x="2012" y="681"/>
                  </a:lnTo>
                  <a:lnTo>
                    <a:pt x="2072" y="603"/>
                  </a:lnTo>
                  <a:lnTo>
                    <a:pt x="2109" y="569"/>
                  </a:lnTo>
                  <a:lnTo>
                    <a:pt x="2145" y="556"/>
                  </a:lnTo>
                  <a:lnTo>
                    <a:pt x="2180" y="533"/>
                  </a:lnTo>
                  <a:lnTo>
                    <a:pt x="2223" y="508"/>
                  </a:lnTo>
                  <a:lnTo>
                    <a:pt x="2260" y="499"/>
                  </a:lnTo>
                  <a:lnTo>
                    <a:pt x="2277" y="551"/>
                  </a:lnTo>
                  <a:lnTo>
                    <a:pt x="2312" y="582"/>
                  </a:lnTo>
                  <a:lnTo>
                    <a:pt x="2372" y="599"/>
                  </a:lnTo>
                  <a:lnTo>
                    <a:pt x="2487" y="595"/>
                  </a:lnTo>
                  <a:lnTo>
                    <a:pt x="2565" y="585"/>
                  </a:lnTo>
                  <a:lnTo>
                    <a:pt x="2672" y="585"/>
                  </a:lnTo>
                  <a:lnTo>
                    <a:pt x="2763" y="603"/>
                  </a:lnTo>
                  <a:lnTo>
                    <a:pt x="2810" y="646"/>
                  </a:lnTo>
                  <a:lnTo>
                    <a:pt x="2846" y="675"/>
                  </a:lnTo>
                  <a:lnTo>
                    <a:pt x="2893" y="683"/>
                  </a:lnTo>
                  <a:lnTo>
                    <a:pt x="2935" y="664"/>
                  </a:lnTo>
                  <a:lnTo>
                    <a:pt x="2948" y="616"/>
                  </a:lnTo>
                  <a:lnTo>
                    <a:pt x="2960" y="580"/>
                  </a:lnTo>
                  <a:lnTo>
                    <a:pt x="3044" y="569"/>
                  </a:lnTo>
                  <a:lnTo>
                    <a:pt x="3116" y="576"/>
                  </a:lnTo>
                  <a:lnTo>
                    <a:pt x="3171" y="611"/>
                  </a:lnTo>
                  <a:lnTo>
                    <a:pt x="3259" y="625"/>
                  </a:lnTo>
                  <a:lnTo>
                    <a:pt x="3344" y="655"/>
                  </a:lnTo>
                  <a:lnTo>
                    <a:pt x="3422" y="663"/>
                  </a:lnTo>
                  <a:lnTo>
                    <a:pt x="3458" y="603"/>
                  </a:lnTo>
                  <a:lnTo>
                    <a:pt x="3511" y="573"/>
                  </a:lnTo>
                  <a:lnTo>
                    <a:pt x="3572" y="567"/>
                  </a:lnTo>
                  <a:lnTo>
                    <a:pt x="3608" y="561"/>
                  </a:lnTo>
                  <a:lnTo>
                    <a:pt x="3632" y="527"/>
                  </a:lnTo>
                  <a:lnTo>
                    <a:pt x="3712" y="491"/>
                  </a:lnTo>
                  <a:lnTo>
                    <a:pt x="3746" y="430"/>
                  </a:lnTo>
                  <a:lnTo>
                    <a:pt x="3783" y="383"/>
                  </a:lnTo>
                  <a:lnTo>
                    <a:pt x="3808" y="335"/>
                  </a:lnTo>
                  <a:lnTo>
                    <a:pt x="3813" y="300"/>
                  </a:lnTo>
                  <a:lnTo>
                    <a:pt x="3857" y="252"/>
                  </a:lnTo>
                  <a:lnTo>
                    <a:pt x="3905" y="210"/>
                  </a:lnTo>
                  <a:lnTo>
                    <a:pt x="3941" y="197"/>
                  </a:lnTo>
                  <a:lnTo>
                    <a:pt x="3954" y="134"/>
                  </a:lnTo>
                  <a:lnTo>
                    <a:pt x="4004" y="0"/>
                  </a:lnTo>
                  <a:lnTo>
                    <a:pt x="4031" y="48"/>
                  </a:lnTo>
                  <a:lnTo>
                    <a:pt x="4075" y="93"/>
                  </a:lnTo>
                  <a:lnTo>
                    <a:pt x="4097" y="134"/>
                  </a:lnTo>
                  <a:lnTo>
                    <a:pt x="4107" y="172"/>
                  </a:lnTo>
                  <a:lnTo>
                    <a:pt x="4082" y="203"/>
                  </a:lnTo>
                  <a:lnTo>
                    <a:pt x="4052" y="173"/>
                  </a:lnTo>
                  <a:lnTo>
                    <a:pt x="4048" y="152"/>
                  </a:lnTo>
                  <a:lnTo>
                    <a:pt x="4049" y="122"/>
                  </a:lnTo>
                  <a:lnTo>
                    <a:pt x="4031" y="96"/>
                  </a:lnTo>
                  <a:lnTo>
                    <a:pt x="4008" y="93"/>
                  </a:lnTo>
                  <a:lnTo>
                    <a:pt x="3990" y="174"/>
                  </a:lnTo>
                  <a:lnTo>
                    <a:pt x="4001" y="222"/>
                  </a:lnTo>
                  <a:lnTo>
                    <a:pt x="3993" y="310"/>
                  </a:lnTo>
                  <a:lnTo>
                    <a:pt x="4006" y="389"/>
                  </a:lnTo>
                  <a:lnTo>
                    <a:pt x="4011" y="458"/>
                  </a:lnTo>
                  <a:lnTo>
                    <a:pt x="4006" y="536"/>
                  </a:lnTo>
                  <a:lnTo>
                    <a:pt x="3972" y="628"/>
                  </a:lnTo>
                  <a:lnTo>
                    <a:pt x="3969" y="698"/>
                  </a:lnTo>
                  <a:lnTo>
                    <a:pt x="3967" y="757"/>
                  </a:lnTo>
                  <a:lnTo>
                    <a:pt x="3940" y="804"/>
                  </a:lnTo>
                  <a:lnTo>
                    <a:pt x="3979" y="891"/>
                  </a:lnTo>
                  <a:lnTo>
                    <a:pt x="3961" y="970"/>
                  </a:lnTo>
                  <a:lnTo>
                    <a:pt x="3943" y="1037"/>
                  </a:lnTo>
                  <a:lnTo>
                    <a:pt x="3973" y="1079"/>
                  </a:lnTo>
                  <a:lnTo>
                    <a:pt x="3950" y="1132"/>
                  </a:lnTo>
                  <a:lnTo>
                    <a:pt x="3954" y="1209"/>
                  </a:lnTo>
                  <a:lnTo>
                    <a:pt x="3949" y="1291"/>
                  </a:lnTo>
                  <a:lnTo>
                    <a:pt x="3964" y="1371"/>
                  </a:lnTo>
                  <a:lnTo>
                    <a:pt x="3978" y="1473"/>
                  </a:lnTo>
                  <a:lnTo>
                    <a:pt x="3992" y="1544"/>
                  </a:lnTo>
                  <a:lnTo>
                    <a:pt x="4040" y="1566"/>
                  </a:lnTo>
                  <a:lnTo>
                    <a:pt x="4078" y="1559"/>
                  </a:lnTo>
                  <a:lnTo>
                    <a:pt x="4112" y="1535"/>
                  </a:lnTo>
                  <a:lnTo>
                    <a:pt x="4133" y="1542"/>
                  </a:lnTo>
                  <a:lnTo>
                    <a:pt x="4145" y="1574"/>
                  </a:lnTo>
                  <a:lnTo>
                    <a:pt x="4118" y="1593"/>
                  </a:lnTo>
                  <a:lnTo>
                    <a:pt x="4127" y="1615"/>
                  </a:lnTo>
                  <a:lnTo>
                    <a:pt x="4186" y="1662"/>
                  </a:lnTo>
                  <a:lnTo>
                    <a:pt x="4237" y="1692"/>
                  </a:lnTo>
                  <a:lnTo>
                    <a:pt x="4261" y="1758"/>
                  </a:lnTo>
                  <a:lnTo>
                    <a:pt x="4297" y="1797"/>
                  </a:lnTo>
                  <a:lnTo>
                    <a:pt x="4281" y="1823"/>
                  </a:lnTo>
                  <a:lnTo>
                    <a:pt x="4285" y="1882"/>
                  </a:lnTo>
                  <a:lnTo>
                    <a:pt x="4333" y="1909"/>
                  </a:lnTo>
                  <a:lnTo>
                    <a:pt x="4381" y="1884"/>
                  </a:lnTo>
                  <a:lnTo>
                    <a:pt x="4366" y="1939"/>
                  </a:lnTo>
                  <a:lnTo>
                    <a:pt x="4404" y="1958"/>
                  </a:lnTo>
                  <a:lnTo>
                    <a:pt x="4432" y="1945"/>
                  </a:lnTo>
                  <a:lnTo>
                    <a:pt x="4443" y="1985"/>
                  </a:lnTo>
                  <a:lnTo>
                    <a:pt x="4466" y="2022"/>
                  </a:lnTo>
                  <a:lnTo>
                    <a:pt x="4517" y="2019"/>
                  </a:lnTo>
                  <a:lnTo>
                    <a:pt x="4551" y="2109"/>
                  </a:lnTo>
                  <a:lnTo>
                    <a:pt x="4580" y="2234"/>
                  </a:lnTo>
                  <a:lnTo>
                    <a:pt x="4622" y="2305"/>
                  </a:lnTo>
                  <a:lnTo>
                    <a:pt x="4647" y="2384"/>
                  </a:lnTo>
                  <a:lnTo>
                    <a:pt x="4673" y="2458"/>
                  </a:lnTo>
                  <a:lnTo>
                    <a:pt x="4674" y="2514"/>
                  </a:lnTo>
                  <a:lnTo>
                    <a:pt x="4687" y="2606"/>
                  </a:lnTo>
                  <a:lnTo>
                    <a:pt x="4700" y="2694"/>
                  </a:lnTo>
                  <a:lnTo>
                    <a:pt x="4702" y="2779"/>
                  </a:lnTo>
                  <a:lnTo>
                    <a:pt x="4712" y="2833"/>
                  </a:lnTo>
                  <a:lnTo>
                    <a:pt x="4718" y="2872"/>
                  </a:lnTo>
                  <a:lnTo>
                    <a:pt x="4724" y="2945"/>
                  </a:lnTo>
                  <a:lnTo>
                    <a:pt x="4723" y="3020"/>
                  </a:lnTo>
                  <a:lnTo>
                    <a:pt x="4733" y="3091"/>
                  </a:lnTo>
                  <a:lnTo>
                    <a:pt x="4724" y="3168"/>
                  </a:lnTo>
                  <a:lnTo>
                    <a:pt x="4719" y="3234"/>
                  </a:lnTo>
                  <a:lnTo>
                    <a:pt x="4732" y="3293"/>
                  </a:lnTo>
                  <a:lnTo>
                    <a:pt x="4728" y="3334"/>
                  </a:lnTo>
                  <a:lnTo>
                    <a:pt x="4742" y="3380"/>
                  </a:lnTo>
                  <a:lnTo>
                    <a:pt x="4743" y="3418"/>
                  </a:lnTo>
                  <a:lnTo>
                    <a:pt x="4810" y="3480"/>
                  </a:lnTo>
                  <a:lnTo>
                    <a:pt x="4809" y="3543"/>
                  </a:lnTo>
                  <a:lnTo>
                    <a:pt x="4836" y="3630"/>
                  </a:lnTo>
                  <a:lnTo>
                    <a:pt x="4877" y="3679"/>
                  </a:lnTo>
                  <a:lnTo>
                    <a:pt x="4895" y="3764"/>
                  </a:lnTo>
                  <a:lnTo>
                    <a:pt x="4918" y="3834"/>
                  </a:lnTo>
                  <a:lnTo>
                    <a:pt x="4891" y="3889"/>
                  </a:lnTo>
                  <a:lnTo>
                    <a:pt x="4810" y="3783"/>
                  </a:lnTo>
                  <a:lnTo>
                    <a:pt x="4772" y="3732"/>
                  </a:lnTo>
                  <a:lnTo>
                    <a:pt x="4738" y="3667"/>
                  </a:lnTo>
                  <a:lnTo>
                    <a:pt x="4738" y="3581"/>
                  </a:lnTo>
                  <a:lnTo>
                    <a:pt x="4725" y="3533"/>
                  </a:lnTo>
                  <a:lnTo>
                    <a:pt x="4690" y="3509"/>
                  </a:lnTo>
                  <a:lnTo>
                    <a:pt x="4636" y="3520"/>
                  </a:lnTo>
                  <a:lnTo>
                    <a:pt x="4594" y="3526"/>
                  </a:lnTo>
                  <a:lnTo>
                    <a:pt x="4540" y="3508"/>
                  </a:lnTo>
                  <a:lnTo>
                    <a:pt x="4479" y="3495"/>
                  </a:lnTo>
                  <a:lnTo>
                    <a:pt x="4426" y="3518"/>
                  </a:lnTo>
                  <a:lnTo>
                    <a:pt x="4346" y="3535"/>
                  </a:lnTo>
                  <a:lnTo>
                    <a:pt x="4311" y="3589"/>
                  </a:lnTo>
                  <a:lnTo>
                    <a:pt x="4323" y="3644"/>
                  </a:lnTo>
                  <a:lnTo>
                    <a:pt x="4316" y="3686"/>
                  </a:lnTo>
                  <a:lnTo>
                    <a:pt x="4262" y="3698"/>
                  </a:lnTo>
                  <a:lnTo>
                    <a:pt x="4245" y="3740"/>
                  </a:lnTo>
                  <a:lnTo>
                    <a:pt x="4183" y="3730"/>
                  </a:lnTo>
                  <a:lnTo>
                    <a:pt x="4130" y="3731"/>
                  </a:lnTo>
                  <a:lnTo>
                    <a:pt x="4089" y="3756"/>
                  </a:lnTo>
                  <a:lnTo>
                    <a:pt x="4040" y="3791"/>
                  </a:lnTo>
                  <a:lnTo>
                    <a:pt x="3950" y="3814"/>
                  </a:lnTo>
                  <a:lnTo>
                    <a:pt x="3878" y="3832"/>
                  </a:lnTo>
                  <a:lnTo>
                    <a:pt x="3782" y="3868"/>
                  </a:lnTo>
                  <a:lnTo>
                    <a:pt x="3703" y="3879"/>
                  </a:lnTo>
                  <a:lnTo>
                    <a:pt x="3655" y="3885"/>
                  </a:lnTo>
                  <a:lnTo>
                    <a:pt x="3589" y="3919"/>
                  </a:lnTo>
                  <a:lnTo>
                    <a:pt x="3545" y="3917"/>
                  </a:lnTo>
                  <a:lnTo>
                    <a:pt x="3511" y="3894"/>
                  </a:lnTo>
                  <a:lnTo>
                    <a:pt x="3463" y="3901"/>
                  </a:lnTo>
                  <a:lnTo>
                    <a:pt x="3367" y="3894"/>
                  </a:lnTo>
                  <a:lnTo>
                    <a:pt x="3309" y="3852"/>
                  </a:lnTo>
                  <a:lnTo>
                    <a:pt x="3272" y="3822"/>
                  </a:lnTo>
                  <a:lnTo>
                    <a:pt x="3230" y="3804"/>
                  </a:lnTo>
                  <a:lnTo>
                    <a:pt x="3177" y="3737"/>
                  </a:lnTo>
                  <a:lnTo>
                    <a:pt x="3134" y="3701"/>
                  </a:lnTo>
                  <a:lnTo>
                    <a:pt x="3080" y="3693"/>
                  </a:lnTo>
                  <a:lnTo>
                    <a:pt x="3008" y="3693"/>
                  </a:lnTo>
                  <a:lnTo>
                    <a:pt x="2942" y="3669"/>
                  </a:lnTo>
                  <a:lnTo>
                    <a:pt x="2883" y="3651"/>
                  </a:lnTo>
                  <a:lnTo>
                    <a:pt x="2789" y="3648"/>
                  </a:lnTo>
                  <a:lnTo>
                    <a:pt x="2721" y="3607"/>
                  </a:lnTo>
                  <a:lnTo>
                    <a:pt x="2644" y="3572"/>
                  </a:lnTo>
                  <a:lnTo>
                    <a:pt x="2555" y="3521"/>
                  </a:lnTo>
                  <a:lnTo>
                    <a:pt x="2513" y="3486"/>
                  </a:lnTo>
                  <a:lnTo>
                    <a:pt x="2477" y="3432"/>
                  </a:lnTo>
                  <a:lnTo>
                    <a:pt x="2441" y="3390"/>
                  </a:lnTo>
                  <a:lnTo>
                    <a:pt x="2407" y="3341"/>
                  </a:lnTo>
                  <a:lnTo>
                    <a:pt x="2364" y="3352"/>
                  </a:lnTo>
                  <a:lnTo>
                    <a:pt x="2333" y="3306"/>
                  </a:lnTo>
                  <a:lnTo>
                    <a:pt x="2303" y="3268"/>
                  </a:lnTo>
                  <a:lnTo>
                    <a:pt x="2220" y="3268"/>
                  </a:lnTo>
                  <a:lnTo>
                    <a:pt x="2136" y="3284"/>
                  </a:lnTo>
                  <a:lnTo>
                    <a:pt x="2046" y="3314"/>
                  </a:lnTo>
                  <a:lnTo>
                    <a:pt x="1908" y="3325"/>
                  </a:lnTo>
                  <a:lnTo>
                    <a:pt x="1837" y="3343"/>
                  </a:lnTo>
                  <a:lnTo>
                    <a:pt x="1782" y="3360"/>
                  </a:lnTo>
                  <a:lnTo>
                    <a:pt x="1716" y="3384"/>
                  </a:lnTo>
                  <a:lnTo>
                    <a:pt x="1643" y="3461"/>
                  </a:lnTo>
                  <a:lnTo>
                    <a:pt x="1619" y="3490"/>
                  </a:lnTo>
                  <a:lnTo>
                    <a:pt x="1541" y="3455"/>
                  </a:lnTo>
                  <a:lnTo>
                    <a:pt x="1493" y="3400"/>
                  </a:lnTo>
                  <a:lnTo>
                    <a:pt x="1439" y="3405"/>
                  </a:lnTo>
                  <a:lnTo>
                    <a:pt x="1368" y="3387"/>
                  </a:lnTo>
                  <a:lnTo>
                    <a:pt x="1290" y="3405"/>
                  </a:lnTo>
                  <a:lnTo>
                    <a:pt x="1241" y="3453"/>
                  </a:lnTo>
                  <a:lnTo>
                    <a:pt x="1164" y="3458"/>
                  </a:lnTo>
                  <a:lnTo>
                    <a:pt x="1031" y="3457"/>
                  </a:lnTo>
                  <a:lnTo>
                    <a:pt x="971" y="3451"/>
                  </a:lnTo>
                  <a:lnTo>
                    <a:pt x="846" y="3440"/>
                  </a:lnTo>
                  <a:lnTo>
                    <a:pt x="755" y="3437"/>
                  </a:lnTo>
                  <a:lnTo>
                    <a:pt x="658" y="3472"/>
                  </a:lnTo>
                  <a:lnTo>
                    <a:pt x="612" y="3519"/>
                  </a:lnTo>
                  <a:lnTo>
                    <a:pt x="557" y="3495"/>
                  </a:lnTo>
                  <a:lnTo>
                    <a:pt x="488" y="3540"/>
                  </a:lnTo>
                  <a:lnTo>
                    <a:pt x="394" y="3578"/>
                  </a:lnTo>
                  <a:lnTo>
                    <a:pt x="322" y="3559"/>
                  </a:lnTo>
                  <a:lnTo>
                    <a:pt x="235" y="3549"/>
                  </a:lnTo>
                  <a:lnTo>
                    <a:pt x="174" y="3512"/>
                  </a:lnTo>
                  <a:lnTo>
                    <a:pt x="107" y="346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15960" y="3708360"/>
              <a:ext cx="3473280" cy="2449440"/>
            </a:xfrm>
            <a:custGeom>
              <a:avLst/>
              <a:gdLst/>
              <a:ahLst/>
              <a:rect l="l" t="t" r="r" b="b"/>
              <a:pathLst>
                <a:path w="2188" h="1543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9" y="1438"/>
                  </a:lnTo>
                  <a:lnTo>
                    <a:pt x="1465" y="1420"/>
                  </a:lnTo>
                  <a:lnTo>
                    <a:pt x="1439" y="1399"/>
                  </a:lnTo>
                  <a:lnTo>
                    <a:pt x="1409" y="1372"/>
                  </a:lnTo>
                  <a:lnTo>
                    <a:pt x="1384" y="1359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205" y="1378"/>
                  </a:lnTo>
                  <a:lnTo>
                    <a:pt x="1176" y="1404"/>
                  </a:lnTo>
                  <a:lnTo>
                    <a:pt x="1168" y="1422"/>
                  </a:lnTo>
                  <a:lnTo>
                    <a:pt x="1139" y="1425"/>
                  </a:lnTo>
                  <a:lnTo>
                    <a:pt x="1100" y="1423"/>
                  </a:lnTo>
                  <a:lnTo>
                    <a:pt x="1049" y="1422"/>
                  </a:lnTo>
                  <a:lnTo>
                    <a:pt x="1012" y="1422"/>
                  </a:lnTo>
                  <a:lnTo>
                    <a:pt x="977" y="1422"/>
                  </a:lnTo>
                  <a:lnTo>
                    <a:pt x="952" y="1420"/>
                  </a:lnTo>
                  <a:lnTo>
                    <a:pt x="934" y="1417"/>
                  </a:lnTo>
                  <a:lnTo>
                    <a:pt x="905" y="1419"/>
                  </a:lnTo>
                  <a:lnTo>
                    <a:pt x="869" y="1417"/>
                  </a:lnTo>
                  <a:lnTo>
                    <a:pt x="833" y="1413"/>
                  </a:lnTo>
                  <a:lnTo>
                    <a:pt x="808" y="1416"/>
                  </a:lnTo>
                  <a:lnTo>
                    <a:pt x="770" y="1411"/>
                  </a:lnTo>
                  <a:lnTo>
                    <a:pt x="740" y="1407"/>
                  </a:lnTo>
                  <a:lnTo>
                    <a:pt x="700" y="1405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cubicBezTo>
                    <a:pt x="565" y="1455"/>
                    <a:pt x="550" y="1469"/>
                    <a:pt x="539" y="1476"/>
                  </a:cubicBezTo>
                  <a:lnTo>
                    <a:pt x="508" y="1488"/>
                  </a:lnTo>
                  <a:lnTo>
                    <a:pt x="476" y="1460"/>
                  </a:lnTo>
                  <a:lnTo>
                    <a:pt x="427" y="1498"/>
                  </a:lnTo>
                  <a:lnTo>
                    <a:pt x="380" y="1521"/>
                  </a:lnTo>
                  <a:lnTo>
                    <a:pt x="347" y="1534"/>
                  </a:lnTo>
                  <a:lnTo>
                    <a:pt x="299" y="1543"/>
                  </a:lnTo>
                  <a:lnTo>
                    <a:pt x="252" y="1536"/>
                  </a:lnTo>
                  <a:lnTo>
                    <a:pt x="223" y="1521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5" y="1464"/>
                  </a:lnTo>
                  <a:lnTo>
                    <a:pt x="25" y="1437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74840" y="2082960"/>
              <a:ext cx="1093680" cy="1517400"/>
            </a:xfrm>
            <a:custGeom>
              <a:avLst/>
              <a:gdLst/>
              <a:ahLst/>
              <a:rect l="l" t="t" r="r" b="b"/>
              <a:pathLst>
                <a:path w="689" h="956">
                  <a:moveTo>
                    <a:pt x="129" y="940"/>
                  </a:moveTo>
                  <a:lnTo>
                    <a:pt x="165" y="956"/>
                  </a:lnTo>
                  <a:lnTo>
                    <a:pt x="225" y="952"/>
                  </a:lnTo>
                  <a:lnTo>
                    <a:pt x="253" y="932"/>
                  </a:lnTo>
                  <a:lnTo>
                    <a:pt x="289" y="944"/>
                  </a:lnTo>
                  <a:lnTo>
                    <a:pt x="329" y="956"/>
                  </a:lnTo>
                  <a:lnTo>
                    <a:pt x="365" y="956"/>
                  </a:lnTo>
                  <a:lnTo>
                    <a:pt x="385" y="924"/>
                  </a:lnTo>
                  <a:lnTo>
                    <a:pt x="361" y="888"/>
                  </a:lnTo>
                  <a:lnTo>
                    <a:pt x="365" y="852"/>
                  </a:lnTo>
                  <a:lnTo>
                    <a:pt x="401" y="844"/>
                  </a:lnTo>
                  <a:lnTo>
                    <a:pt x="421" y="860"/>
                  </a:lnTo>
                  <a:lnTo>
                    <a:pt x="465" y="888"/>
                  </a:lnTo>
                  <a:lnTo>
                    <a:pt x="513" y="884"/>
                  </a:lnTo>
                  <a:lnTo>
                    <a:pt x="533" y="872"/>
                  </a:lnTo>
                  <a:lnTo>
                    <a:pt x="545" y="856"/>
                  </a:lnTo>
                  <a:lnTo>
                    <a:pt x="533" y="832"/>
                  </a:lnTo>
                  <a:lnTo>
                    <a:pt x="533" y="780"/>
                  </a:lnTo>
                  <a:lnTo>
                    <a:pt x="537" y="752"/>
                  </a:lnTo>
                  <a:lnTo>
                    <a:pt x="565" y="744"/>
                  </a:lnTo>
                  <a:lnTo>
                    <a:pt x="621" y="716"/>
                  </a:lnTo>
                  <a:lnTo>
                    <a:pt x="657" y="704"/>
                  </a:lnTo>
                  <a:lnTo>
                    <a:pt x="685" y="664"/>
                  </a:lnTo>
                  <a:lnTo>
                    <a:pt x="689" y="636"/>
                  </a:lnTo>
                  <a:lnTo>
                    <a:pt x="673" y="616"/>
                  </a:lnTo>
                  <a:lnTo>
                    <a:pt x="645" y="612"/>
                  </a:lnTo>
                  <a:lnTo>
                    <a:pt x="621" y="592"/>
                  </a:lnTo>
                  <a:lnTo>
                    <a:pt x="621" y="560"/>
                  </a:lnTo>
                  <a:lnTo>
                    <a:pt x="641" y="532"/>
                  </a:lnTo>
                  <a:lnTo>
                    <a:pt x="673" y="508"/>
                  </a:lnTo>
                  <a:lnTo>
                    <a:pt x="665" y="480"/>
                  </a:lnTo>
                  <a:lnTo>
                    <a:pt x="649" y="460"/>
                  </a:lnTo>
                  <a:lnTo>
                    <a:pt x="645" y="420"/>
                  </a:lnTo>
                  <a:lnTo>
                    <a:pt x="641" y="388"/>
                  </a:lnTo>
                  <a:lnTo>
                    <a:pt x="633" y="348"/>
                  </a:lnTo>
                  <a:lnTo>
                    <a:pt x="609" y="308"/>
                  </a:lnTo>
                  <a:lnTo>
                    <a:pt x="601" y="272"/>
                  </a:lnTo>
                  <a:lnTo>
                    <a:pt x="553" y="208"/>
                  </a:lnTo>
                  <a:lnTo>
                    <a:pt x="569" y="144"/>
                  </a:lnTo>
                  <a:lnTo>
                    <a:pt x="569" y="96"/>
                  </a:lnTo>
                  <a:lnTo>
                    <a:pt x="601" y="56"/>
                  </a:lnTo>
                  <a:lnTo>
                    <a:pt x="609" y="20"/>
                  </a:lnTo>
                  <a:lnTo>
                    <a:pt x="577" y="0"/>
                  </a:lnTo>
                  <a:lnTo>
                    <a:pt x="541" y="20"/>
                  </a:lnTo>
                  <a:lnTo>
                    <a:pt x="505" y="20"/>
                  </a:lnTo>
                  <a:lnTo>
                    <a:pt x="484" y="7"/>
                  </a:lnTo>
                  <a:lnTo>
                    <a:pt x="456" y="32"/>
                  </a:lnTo>
                  <a:lnTo>
                    <a:pt x="426" y="104"/>
                  </a:lnTo>
                  <a:lnTo>
                    <a:pt x="357" y="152"/>
                  </a:lnTo>
                  <a:lnTo>
                    <a:pt x="310" y="137"/>
                  </a:lnTo>
                  <a:lnTo>
                    <a:pt x="268" y="116"/>
                  </a:lnTo>
                  <a:lnTo>
                    <a:pt x="201" y="112"/>
                  </a:lnTo>
                  <a:lnTo>
                    <a:pt x="151" y="80"/>
                  </a:lnTo>
                  <a:lnTo>
                    <a:pt x="102" y="64"/>
                  </a:lnTo>
                  <a:lnTo>
                    <a:pt x="48" y="80"/>
                  </a:lnTo>
                  <a:lnTo>
                    <a:pt x="21" y="140"/>
                  </a:lnTo>
                  <a:lnTo>
                    <a:pt x="0" y="271"/>
                  </a:lnTo>
                  <a:lnTo>
                    <a:pt x="66" y="427"/>
                  </a:lnTo>
                  <a:lnTo>
                    <a:pt x="109" y="476"/>
                  </a:lnTo>
                  <a:lnTo>
                    <a:pt x="123" y="536"/>
                  </a:lnTo>
                  <a:lnTo>
                    <a:pt x="165" y="624"/>
                  </a:lnTo>
                  <a:lnTo>
                    <a:pt x="120" y="689"/>
                  </a:lnTo>
                  <a:lnTo>
                    <a:pt x="132" y="806"/>
                  </a:lnTo>
                  <a:lnTo>
                    <a:pt x="129" y="94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68680" y="2387520"/>
              <a:ext cx="3467160" cy="4189320"/>
            </a:xfrm>
            <a:custGeom>
              <a:avLst/>
              <a:gdLst/>
              <a:ahLst/>
              <a:rect l="l" t="t" r="r" b="b"/>
              <a:pathLst>
                <a:path w="2184" h="2639">
                  <a:moveTo>
                    <a:pt x="0" y="2112"/>
                  </a:moveTo>
                  <a:lnTo>
                    <a:pt x="52" y="2064"/>
                  </a:lnTo>
                  <a:lnTo>
                    <a:pt x="84" y="2036"/>
                  </a:lnTo>
                  <a:lnTo>
                    <a:pt x="124" y="2020"/>
                  </a:lnTo>
                  <a:lnTo>
                    <a:pt x="156" y="2044"/>
                  </a:lnTo>
                  <a:lnTo>
                    <a:pt x="196" y="2016"/>
                  </a:lnTo>
                  <a:lnTo>
                    <a:pt x="244" y="1992"/>
                  </a:lnTo>
                  <a:lnTo>
                    <a:pt x="276" y="1964"/>
                  </a:lnTo>
                  <a:lnTo>
                    <a:pt x="284" y="1932"/>
                  </a:lnTo>
                  <a:lnTo>
                    <a:pt x="300" y="1904"/>
                  </a:lnTo>
                  <a:lnTo>
                    <a:pt x="312" y="1872"/>
                  </a:lnTo>
                  <a:lnTo>
                    <a:pt x="344" y="1856"/>
                  </a:lnTo>
                  <a:lnTo>
                    <a:pt x="380" y="1844"/>
                  </a:lnTo>
                  <a:lnTo>
                    <a:pt x="412" y="1836"/>
                  </a:lnTo>
                  <a:lnTo>
                    <a:pt x="432" y="1852"/>
                  </a:lnTo>
                  <a:lnTo>
                    <a:pt x="428" y="1892"/>
                  </a:lnTo>
                  <a:lnTo>
                    <a:pt x="452" y="1932"/>
                  </a:lnTo>
                  <a:lnTo>
                    <a:pt x="476" y="1916"/>
                  </a:lnTo>
                  <a:lnTo>
                    <a:pt x="480" y="1872"/>
                  </a:lnTo>
                  <a:lnTo>
                    <a:pt x="480" y="1836"/>
                  </a:lnTo>
                  <a:lnTo>
                    <a:pt x="476" y="1808"/>
                  </a:lnTo>
                  <a:lnTo>
                    <a:pt x="536" y="1792"/>
                  </a:lnTo>
                  <a:lnTo>
                    <a:pt x="568" y="1812"/>
                  </a:lnTo>
                  <a:lnTo>
                    <a:pt x="604" y="1812"/>
                  </a:lnTo>
                  <a:lnTo>
                    <a:pt x="624" y="1792"/>
                  </a:lnTo>
                  <a:lnTo>
                    <a:pt x="668" y="1796"/>
                  </a:lnTo>
                  <a:lnTo>
                    <a:pt x="680" y="1820"/>
                  </a:lnTo>
                  <a:lnTo>
                    <a:pt x="704" y="1844"/>
                  </a:lnTo>
                  <a:lnTo>
                    <a:pt x="756" y="1852"/>
                  </a:lnTo>
                  <a:lnTo>
                    <a:pt x="792" y="1876"/>
                  </a:lnTo>
                  <a:lnTo>
                    <a:pt x="820" y="1908"/>
                  </a:lnTo>
                  <a:lnTo>
                    <a:pt x="852" y="1932"/>
                  </a:lnTo>
                  <a:lnTo>
                    <a:pt x="876" y="1900"/>
                  </a:lnTo>
                  <a:lnTo>
                    <a:pt x="880" y="1872"/>
                  </a:lnTo>
                  <a:lnTo>
                    <a:pt x="888" y="1848"/>
                  </a:lnTo>
                  <a:lnTo>
                    <a:pt x="868" y="1824"/>
                  </a:lnTo>
                  <a:lnTo>
                    <a:pt x="840" y="1824"/>
                  </a:lnTo>
                  <a:lnTo>
                    <a:pt x="816" y="1824"/>
                  </a:lnTo>
                  <a:lnTo>
                    <a:pt x="800" y="1800"/>
                  </a:lnTo>
                  <a:lnTo>
                    <a:pt x="776" y="1788"/>
                  </a:lnTo>
                  <a:lnTo>
                    <a:pt x="736" y="1780"/>
                  </a:lnTo>
                  <a:lnTo>
                    <a:pt x="708" y="1756"/>
                  </a:lnTo>
                  <a:lnTo>
                    <a:pt x="680" y="1744"/>
                  </a:lnTo>
                  <a:lnTo>
                    <a:pt x="616" y="1732"/>
                  </a:lnTo>
                  <a:lnTo>
                    <a:pt x="568" y="1708"/>
                  </a:lnTo>
                  <a:lnTo>
                    <a:pt x="556" y="1684"/>
                  </a:lnTo>
                  <a:lnTo>
                    <a:pt x="544" y="1648"/>
                  </a:lnTo>
                  <a:lnTo>
                    <a:pt x="516" y="1628"/>
                  </a:lnTo>
                  <a:lnTo>
                    <a:pt x="508" y="1596"/>
                  </a:lnTo>
                  <a:lnTo>
                    <a:pt x="536" y="1588"/>
                  </a:lnTo>
                  <a:lnTo>
                    <a:pt x="532" y="1552"/>
                  </a:lnTo>
                  <a:lnTo>
                    <a:pt x="516" y="1528"/>
                  </a:lnTo>
                  <a:lnTo>
                    <a:pt x="488" y="1496"/>
                  </a:lnTo>
                  <a:lnTo>
                    <a:pt x="468" y="1464"/>
                  </a:lnTo>
                  <a:lnTo>
                    <a:pt x="456" y="1436"/>
                  </a:lnTo>
                  <a:lnTo>
                    <a:pt x="456" y="1408"/>
                  </a:lnTo>
                  <a:lnTo>
                    <a:pt x="432" y="1368"/>
                  </a:lnTo>
                  <a:lnTo>
                    <a:pt x="412" y="1348"/>
                  </a:lnTo>
                  <a:lnTo>
                    <a:pt x="400" y="1312"/>
                  </a:lnTo>
                  <a:lnTo>
                    <a:pt x="408" y="1284"/>
                  </a:lnTo>
                  <a:lnTo>
                    <a:pt x="420" y="1248"/>
                  </a:lnTo>
                  <a:lnTo>
                    <a:pt x="416" y="1220"/>
                  </a:lnTo>
                  <a:lnTo>
                    <a:pt x="428" y="1192"/>
                  </a:lnTo>
                  <a:lnTo>
                    <a:pt x="416" y="1160"/>
                  </a:lnTo>
                  <a:lnTo>
                    <a:pt x="408" y="1124"/>
                  </a:lnTo>
                  <a:lnTo>
                    <a:pt x="456" y="1100"/>
                  </a:lnTo>
                  <a:lnTo>
                    <a:pt x="492" y="1084"/>
                  </a:lnTo>
                  <a:lnTo>
                    <a:pt x="512" y="1044"/>
                  </a:lnTo>
                  <a:lnTo>
                    <a:pt x="548" y="1040"/>
                  </a:lnTo>
                  <a:lnTo>
                    <a:pt x="580" y="1080"/>
                  </a:lnTo>
                  <a:lnTo>
                    <a:pt x="580" y="1120"/>
                  </a:lnTo>
                  <a:lnTo>
                    <a:pt x="584" y="1152"/>
                  </a:lnTo>
                  <a:lnTo>
                    <a:pt x="572" y="1192"/>
                  </a:lnTo>
                  <a:lnTo>
                    <a:pt x="572" y="1240"/>
                  </a:lnTo>
                  <a:lnTo>
                    <a:pt x="596" y="1268"/>
                  </a:lnTo>
                  <a:lnTo>
                    <a:pt x="612" y="1292"/>
                  </a:lnTo>
                  <a:lnTo>
                    <a:pt x="620" y="1324"/>
                  </a:lnTo>
                  <a:lnTo>
                    <a:pt x="664" y="1332"/>
                  </a:lnTo>
                  <a:lnTo>
                    <a:pt x="672" y="1360"/>
                  </a:lnTo>
                  <a:lnTo>
                    <a:pt x="700" y="1340"/>
                  </a:lnTo>
                  <a:lnTo>
                    <a:pt x="688" y="1312"/>
                  </a:lnTo>
                  <a:lnTo>
                    <a:pt x="676" y="1280"/>
                  </a:lnTo>
                  <a:lnTo>
                    <a:pt x="680" y="1248"/>
                  </a:lnTo>
                  <a:lnTo>
                    <a:pt x="712" y="1232"/>
                  </a:lnTo>
                  <a:lnTo>
                    <a:pt x="736" y="1220"/>
                  </a:lnTo>
                  <a:lnTo>
                    <a:pt x="764" y="1216"/>
                  </a:lnTo>
                  <a:lnTo>
                    <a:pt x="804" y="1232"/>
                  </a:lnTo>
                  <a:lnTo>
                    <a:pt x="808" y="1260"/>
                  </a:lnTo>
                  <a:lnTo>
                    <a:pt x="844" y="1292"/>
                  </a:lnTo>
                  <a:lnTo>
                    <a:pt x="872" y="1316"/>
                  </a:lnTo>
                  <a:lnTo>
                    <a:pt x="912" y="1324"/>
                  </a:lnTo>
                  <a:lnTo>
                    <a:pt x="928" y="1276"/>
                  </a:lnTo>
                  <a:lnTo>
                    <a:pt x="928" y="1232"/>
                  </a:lnTo>
                  <a:lnTo>
                    <a:pt x="920" y="1188"/>
                  </a:lnTo>
                  <a:lnTo>
                    <a:pt x="904" y="1156"/>
                  </a:lnTo>
                  <a:lnTo>
                    <a:pt x="904" y="1124"/>
                  </a:lnTo>
                  <a:lnTo>
                    <a:pt x="888" y="1076"/>
                  </a:lnTo>
                  <a:lnTo>
                    <a:pt x="880" y="1008"/>
                  </a:lnTo>
                  <a:lnTo>
                    <a:pt x="872" y="980"/>
                  </a:lnTo>
                  <a:lnTo>
                    <a:pt x="860" y="944"/>
                  </a:lnTo>
                  <a:lnTo>
                    <a:pt x="856" y="900"/>
                  </a:lnTo>
                  <a:lnTo>
                    <a:pt x="884" y="896"/>
                  </a:lnTo>
                  <a:lnTo>
                    <a:pt x="900" y="924"/>
                  </a:lnTo>
                  <a:lnTo>
                    <a:pt x="912" y="960"/>
                  </a:lnTo>
                  <a:lnTo>
                    <a:pt x="944" y="988"/>
                  </a:lnTo>
                  <a:lnTo>
                    <a:pt x="976" y="1008"/>
                  </a:lnTo>
                  <a:lnTo>
                    <a:pt x="1008" y="992"/>
                  </a:lnTo>
                  <a:lnTo>
                    <a:pt x="1028" y="960"/>
                  </a:lnTo>
                  <a:lnTo>
                    <a:pt x="1048" y="920"/>
                  </a:lnTo>
                  <a:lnTo>
                    <a:pt x="1068" y="884"/>
                  </a:lnTo>
                  <a:lnTo>
                    <a:pt x="1068" y="856"/>
                  </a:lnTo>
                  <a:lnTo>
                    <a:pt x="1056" y="828"/>
                  </a:lnTo>
                  <a:lnTo>
                    <a:pt x="1060" y="800"/>
                  </a:lnTo>
                  <a:lnTo>
                    <a:pt x="1116" y="792"/>
                  </a:lnTo>
                  <a:lnTo>
                    <a:pt x="1136" y="764"/>
                  </a:lnTo>
                  <a:lnTo>
                    <a:pt x="1128" y="708"/>
                  </a:lnTo>
                  <a:lnTo>
                    <a:pt x="1120" y="660"/>
                  </a:lnTo>
                  <a:lnTo>
                    <a:pt x="1080" y="636"/>
                  </a:lnTo>
                  <a:lnTo>
                    <a:pt x="1056" y="624"/>
                  </a:lnTo>
                  <a:lnTo>
                    <a:pt x="1016" y="572"/>
                  </a:lnTo>
                  <a:lnTo>
                    <a:pt x="1000" y="532"/>
                  </a:lnTo>
                  <a:lnTo>
                    <a:pt x="1028" y="492"/>
                  </a:lnTo>
                  <a:lnTo>
                    <a:pt x="1048" y="472"/>
                  </a:lnTo>
                  <a:lnTo>
                    <a:pt x="1036" y="436"/>
                  </a:lnTo>
                  <a:lnTo>
                    <a:pt x="1000" y="392"/>
                  </a:lnTo>
                  <a:lnTo>
                    <a:pt x="976" y="356"/>
                  </a:lnTo>
                  <a:lnTo>
                    <a:pt x="944" y="300"/>
                  </a:lnTo>
                  <a:lnTo>
                    <a:pt x="948" y="256"/>
                  </a:lnTo>
                  <a:lnTo>
                    <a:pt x="968" y="196"/>
                  </a:lnTo>
                  <a:lnTo>
                    <a:pt x="992" y="188"/>
                  </a:lnTo>
                  <a:lnTo>
                    <a:pt x="1024" y="204"/>
                  </a:lnTo>
                  <a:lnTo>
                    <a:pt x="1048" y="228"/>
                  </a:lnTo>
                  <a:lnTo>
                    <a:pt x="1052" y="260"/>
                  </a:lnTo>
                  <a:lnTo>
                    <a:pt x="1052" y="308"/>
                  </a:lnTo>
                  <a:lnTo>
                    <a:pt x="1064" y="340"/>
                  </a:lnTo>
                  <a:lnTo>
                    <a:pt x="1104" y="344"/>
                  </a:lnTo>
                  <a:lnTo>
                    <a:pt x="1132" y="324"/>
                  </a:lnTo>
                  <a:lnTo>
                    <a:pt x="1176" y="332"/>
                  </a:lnTo>
                  <a:lnTo>
                    <a:pt x="1196" y="356"/>
                  </a:lnTo>
                  <a:lnTo>
                    <a:pt x="1232" y="380"/>
                  </a:lnTo>
                  <a:lnTo>
                    <a:pt x="1268" y="416"/>
                  </a:lnTo>
                  <a:lnTo>
                    <a:pt x="1276" y="460"/>
                  </a:lnTo>
                  <a:lnTo>
                    <a:pt x="1276" y="508"/>
                  </a:lnTo>
                  <a:lnTo>
                    <a:pt x="1260" y="552"/>
                  </a:lnTo>
                  <a:lnTo>
                    <a:pt x="1232" y="604"/>
                  </a:lnTo>
                  <a:lnTo>
                    <a:pt x="1224" y="644"/>
                  </a:lnTo>
                  <a:lnTo>
                    <a:pt x="1216" y="692"/>
                  </a:lnTo>
                  <a:lnTo>
                    <a:pt x="1212" y="724"/>
                  </a:lnTo>
                  <a:lnTo>
                    <a:pt x="1200" y="764"/>
                  </a:lnTo>
                  <a:lnTo>
                    <a:pt x="1188" y="796"/>
                  </a:lnTo>
                  <a:lnTo>
                    <a:pt x="1168" y="836"/>
                  </a:lnTo>
                  <a:lnTo>
                    <a:pt x="1120" y="884"/>
                  </a:lnTo>
                  <a:lnTo>
                    <a:pt x="1096" y="940"/>
                  </a:lnTo>
                  <a:lnTo>
                    <a:pt x="1088" y="972"/>
                  </a:lnTo>
                  <a:lnTo>
                    <a:pt x="1072" y="1020"/>
                  </a:lnTo>
                  <a:lnTo>
                    <a:pt x="1064" y="1052"/>
                  </a:lnTo>
                  <a:lnTo>
                    <a:pt x="1036" y="1092"/>
                  </a:lnTo>
                  <a:lnTo>
                    <a:pt x="1012" y="1140"/>
                  </a:lnTo>
                  <a:lnTo>
                    <a:pt x="1044" y="1164"/>
                  </a:lnTo>
                  <a:lnTo>
                    <a:pt x="1100" y="1164"/>
                  </a:lnTo>
                  <a:lnTo>
                    <a:pt x="1112" y="1128"/>
                  </a:lnTo>
                  <a:lnTo>
                    <a:pt x="1132" y="1084"/>
                  </a:lnTo>
                  <a:lnTo>
                    <a:pt x="1168" y="1052"/>
                  </a:lnTo>
                  <a:lnTo>
                    <a:pt x="1208" y="1020"/>
                  </a:lnTo>
                  <a:lnTo>
                    <a:pt x="1240" y="980"/>
                  </a:lnTo>
                  <a:lnTo>
                    <a:pt x="1272" y="932"/>
                  </a:lnTo>
                  <a:lnTo>
                    <a:pt x="1296" y="872"/>
                  </a:lnTo>
                  <a:lnTo>
                    <a:pt x="1308" y="836"/>
                  </a:lnTo>
                  <a:lnTo>
                    <a:pt x="1332" y="828"/>
                  </a:lnTo>
                  <a:lnTo>
                    <a:pt x="1372" y="852"/>
                  </a:lnTo>
                  <a:lnTo>
                    <a:pt x="1396" y="836"/>
                  </a:lnTo>
                  <a:lnTo>
                    <a:pt x="1396" y="792"/>
                  </a:lnTo>
                  <a:lnTo>
                    <a:pt x="1428" y="768"/>
                  </a:lnTo>
                  <a:lnTo>
                    <a:pt x="1448" y="732"/>
                  </a:lnTo>
                  <a:lnTo>
                    <a:pt x="1448" y="688"/>
                  </a:lnTo>
                  <a:lnTo>
                    <a:pt x="1464" y="612"/>
                  </a:lnTo>
                  <a:lnTo>
                    <a:pt x="1496" y="572"/>
                  </a:lnTo>
                  <a:lnTo>
                    <a:pt x="1520" y="520"/>
                  </a:lnTo>
                  <a:lnTo>
                    <a:pt x="1540" y="464"/>
                  </a:lnTo>
                  <a:lnTo>
                    <a:pt x="1560" y="436"/>
                  </a:lnTo>
                  <a:lnTo>
                    <a:pt x="1560" y="368"/>
                  </a:lnTo>
                  <a:lnTo>
                    <a:pt x="1572" y="304"/>
                  </a:lnTo>
                  <a:lnTo>
                    <a:pt x="1600" y="256"/>
                  </a:lnTo>
                  <a:lnTo>
                    <a:pt x="1616" y="220"/>
                  </a:lnTo>
                  <a:lnTo>
                    <a:pt x="1640" y="164"/>
                  </a:lnTo>
                  <a:lnTo>
                    <a:pt x="1700" y="96"/>
                  </a:lnTo>
                  <a:lnTo>
                    <a:pt x="1728" y="60"/>
                  </a:lnTo>
                  <a:lnTo>
                    <a:pt x="1760" y="28"/>
                  </a:lnTo>
                  <a:lnTo>
                    <a:pt x="1800" y="0"/>
                  </a:lnTo>
                  <a:lnTo>
                    <a:pt x="1822" y="4"/>
                  </a:lnTo>
                  <a:lnTo>
                    <a:pt x="1853" y="22"/>
                  </a:lnTo>
                  <a:lnTo>
                    <a:pt x="1855" y="49"/>
                  </a:lnTo>
                  <a:lnTo>
                    <a:pt x="1856" y="77"/>
                  </a:lnTo>
                  <a:lnTo>
                    <a:pt x="1847" y="95"/>
                  </a:lnTo>
                  <a:lnTo>
                    <a:pt x="1835" y="118"/>
                  </a:lnTo>
                  <a:lnTo>
                    <a:pt x="1831" y="154"/>
                  </a:lnTo>
                  <a:lnTo>
                    <a:pt x="1831" y="190"/>
                  </a:lnTo>
                  <a:lnTo>
                    <a:pt x="1837" y="227"/>
                  </a:lnTo>
                  <a:lnTo>
                    <a:pt x="1834" y="268"/>
                  </a:lnTo>
                  <a:lnTo>
                    <a:pt x="1850" y="310"/>
                  </a:lnTo>
                  <a:lnTo>
                    <a:pt x="1877" y="358"/>
                  </a:lnTo>
                  <a:lnTo>
                    <a:pt x="1906" y="398"/>
                  </a:lnTo>
                  <a:lnTo>
                    <a:pt x="1946" y="422"/>
                  </a:lnTo>
                  <a:lnTo>
                    <a:pt x="1966" y="458"/>
                  </a:lnTo>
                  <a:lnTo>
                    <a:pt x="1972" y="478"/>
                  </a:lnTo>
                  <a:lnTo>
                    <a:pt x="1969" y="502"/>
                  </a:lnTo>
                  <a:lnTo>
                    <a:pt x="1942" y="511"/>
                  </a:lnTo>
                  <a:lnTo>
                    <a:pt x="1933" y="533"/>
                  </a:lnTo>
                  <a:lnTo>
                    <a:pt x="1920" y="556"/>
                  </a:lnTo>
                  <a:lnTo>
                    <a:pt x="1880" y="548"/>
                  </a:lnTo>
                  <a:lnTo>
                    <a:pt x="1844" y="524"/>
                  </a:lnTo>
                  <a:lnTo>
                    <a:pt x="1840" y="568"/>
                  </a:lnTo>
                  <a:lnTo>
                    <a:pt x="1856" y="592"/>
                  </a:lnTo>
                  <a:lnTo>
                    <a:pt x="1904" y="628"/>
                  </a:lnTo>
                  <a:lnTo>
                    <a:pt x="1928" y="656"/>
                  </a:lnTo>
                  <a:lnTo>
                    <a:pt x="1964" y="688"/>
                  </a:lnTo>
                  <a:lnTo>
                    <a:pt x="2008" y="704"/>
                  </a:lnTo>
                  <a:lnTo>
                    <a:pt x="2036" y="756"/>
                  </a:lnTo>
                  <a:lnTo>
                    <a:pt x="2012" y="784"/>
                  </a:lnTo>
                  <a:lnTo>
                    <a:pt x="1972" y="796"/>
                  </a:lnTo>
                  <a:lnTo>
                    <a:pt x="1948" y="784"/>
                  </a:lnTo>
                  <a:lnTo>
                    <a:pt x="1900" y="756"/>
                  </a:lnTo>
                  <a:lnTo>
                    <a:pt x="1868" y="724"/>
                  </a:lnTo>
                  <a:lnTo>
                    <a:pt x="1832" y="712"/>
                  </a:lnTo>
                  <a:lnTo>
                    <a:pt x="1812" y="736"/>
                  </a:lnTo>
                  <a:lnTo>
                    <a:pt x="1816" y="772"/>
                  </a:lnTo>
                  <a:lnTo>
                    <a:pt x="1828" y="808"/>
                  </a:lnTo>
                  <a:cubicBezTo>
                    <a:pt x="1815" y="812"/>
                    <a:pt x="1820" y="812"/>
                    <a:pt x="1812" y="812"/>
                  </a:cubicBezTo>
                  <a:lnTo>
                    <a:pt x="1760" y="788"/>
                  </a:lnTo>
                  <a:cubicBezTo>
                    <a:pt x="1717" y="792"/>
                    <a:pt x="1726" y="780"/>
                    <a:pt x="1716" y="800"/>
                  </a:cubicBezTo>
                  <a:lnTo>
                    <a:pt x="1716" y="832"/>
                  </a:lnTo>
                  <a:lnTo>
                    <a:pt x="1720" y="876"/>
                  </a:lnTo>
                  <a:lnTo>
                    <a:pt x="1736" y="908"/>
                  </a:lnTo>
                  <a:lnTo>
                    <a:pt x="1784" y="916"/>
                  </a:lnTo>
                  <a:lnTo>
                    <a:pt x="1820" y="920"/>
                  </a:lnTo>
                  <a:lnTo>
                    <a:pt x="1836" y="964"/>
                  </a:lnTo>
                  <a:lnTo>
                    <a:pt x="1804" y="980"/>
                  </a:lnTo>
                  <a:lnTo>
                    <a:pt x="1760" y="1004"/>
                  </a:lnTo>
                  <a:lnTo>
                    <a:pt x="1720" y="1004"/>
                  </a:lnTo>
                  <a:lnTo>
                    <a:pt x="1668" y="1004"/>
                  </a:lnTo>
                  <a:lnTo>
                    <a:pt x="1632" y="1036"/>
                  </a:lnTo>
                  <a:lnTo>
                    <a:pt x="1656" y="1072"/>
                  </a:lnTo>
                  <a:lnTo>
                    <a:pt x="1688" y="1076"/>
                  </a:lnTo>
                  <a:lnTo>
                    <a:pt x="1756" y="1076"/>
                  </a:lnTo>
                  <a:lnTo>
                    <a:pt x="1816" y="1072"/>
                  </a:lnTo>
                  <a:lnTo>
                    <a:pt x="1864" y="1056"/>
                  </a:lnTo>
                  <a:lnTo>
                    <a:pt x="1908" y="1032"/>
                  </a:lnTo>
                  <a:lnTo>
                    <a:pt x="1960" y="1032"/>
                  </a:lnTo>
                  <a:lnTo>
                    <a:pt x="1992" y="1060"/>
                  </a:lnTo>
                  <a:lnTo>
                    <a:pt x="2012" y="1092"/>
                  </a:lnTo>
                  <a:lnTo>
                    <a:pt x="2004" y="1132"/>
                  </a:lnTo>
                  <a:lnTo>
                    <a:pt x="1964" y="1156"/>
                  </a:lnTo>
                  <a:lnTo>
                    <a:pt x="1952" y="1196"/>
                  </a:lnTo>
                  <a:lnTo>
                    <a:pt x="1964" y="1228"/>
                  </a:lnTo>
                  <a:lnTo>
                    <a:pt x="1992" y="1260"/>
                  </a:lnTo>
                  <a:lnTo>
                    <a:pt x="2024" y="1280"/>
                  </a:lnTo>
                  <a:lnTo>
                    <a:pt x="2052" y="1316"/>
                  </a:lnTo>
                  <a:lnTo>
                    <a:pt x="2076" y="1356"/>
                  </a:lnTo>
                  <a:lnTo>
                    <a:pt x="2036" y="1376"/>
                  </a:lnTo>
                  <a:lnTo>
                    <a:pt x="2008" y="1344"/>
                  </a:lnTo>
                  <a:lnTo>
                    <a:pt x="1980" y="1344"/>
                  </a:lnTo>
                  <a:lnTo>
                    <a:pt x="1968" y="1368"/>
                  </a:lnTo>
                  <a:lnTo>
                    <a:pt x="1976" y="1396"/>
                  </a:lnTo>
                  <a:lnTo>
                    <a:pt x="2016" y="1428"/>
                  </a:lnTo>
                  <a:lnTo>
                    <a:pt x="2024" y="1460"/>
                  </a:lnTo>
                  <a:lnTo>
                    <a:pt x="1996" y="1484"/>
                  </a:lnTo>
                  <a:lnTo>
                    <a:pt x="1956" y="1508"/>
                  </a:lnTo>
                  <a:lnTo>
                    <a:pt x="1912" y="1516"/>
                  </a:lnTo>
                  <a:lnTo>
                    <a:pt x="1896" y="1496"/>
                  </a:lnTo>
                  <a:lnTo>
                    <a:pt x="1884" y="1468"/>
                  </a:lnTo>
                  <a:lnTo>
                    <a:pt x="1872" y="1444"/>
                  </a:lnTo>
                  <a:lnTo>
                    <a:pt x="1852" y="1388"/>
                  </a:lnTo>
                  <a:lnTo>
                    <a:pt x="1820" y="1344"/>
                  </a:lnTo>
                  <a:lnTo>
                    <a:pt x="1792" y="1320"/>
                  </a:lnTo>
                  <a:lnTo>
                    <a:pt x="1744" y="1304"/>
                  </a:lnTo>
                  <a:lnTo>
                    <a:pt x="1732" y="1344"/>
                  </a:lnTo>
                  <a:lnTo>
                    <a:pt x="1748" y="1372"/>
                  </a:lnTo>
                  <a:lnTo>
                    <a:pt x="1768" y="1404"/>
                  </a:lnTo>
                  <a:lnTo>
                    <a:pt x="1780" y="1428"/>
                  </a:lnTo>
                  <a:lnTo>
                    <a:pt x="1788" y="1468"/>
                  </a:lnTo>
                  <a:lnTo>
                    <a:pt x="1784" y="1504"/>
                  </a:lnTo>
                  <a:lnTo>
                    <a:pt x="1788" y="1528"/>
                  </a:lnTo>
                  <a:lnTo>
                    <a:pt x="1832" y="1564"/>
                  </a:lnTo>
                  <a:lnTo>
                    <a:pt x="1864" y="1576"/>
                  </a:lnTo>
                  <a:lnTo>
                    <a:pt x="1900" y="1600"/>
                  </a:lnTo>
                  <a:lnTo>
                    <a:pt x="1864" y="1632"/>
                  </a:lnTo>
                  <a:lnTo>
                    <a:pt x="1836" y="1632"/>
                  </a:lnTo>
                  <a:lnTo>
                    <a:pt x="1804" y="1636"/>
                  </a:lnTo>
                  <a:lnTo>
                    <a:pt x="1776" y="1636"/>
                  </a:lnTo>
                  <a:lnTo>
                    <a:pt x="1720" y="1636"/>
                  </a:lnTo>
                  <a:lnTo>
                    <a:pt x="1668" y="1656"/>
                  </a:lnTo>
                  <a:lnTo>
                    <a:pt x="1652" y="1680"/>
                  </a:lnTo>
                  <a:lnTo>
                    <a:pt x="1660" y="1712"/>
                  </a:lnTo>
                  <a:lnTo>
                    <a:pt x="1700" y="1736"/>
                  </a:lnTo>
                  <a:lnTo>
                    <a:pt x="1744" y="1744"/>
                  </a:lnTo>
                  <a:lnTo>
                    <a:pt x="1776" y="1724"/>
                  </a:lnTo>
                  <a:lnTo>
                    <a:pt x="1824" y="1700"/>
                  </a:lnTo>
                  <a:lnTo>
                    <a:pt x="1868" y="1696"/>
                  </a:lnTo>
                  <a:lnTo>
                    <a:pt x="1904" y="1708"/>
                  </a:lnTo>
                  <a:lnTo>
                    <a:pt x="1920" y="1740"/>
                  </a:lnTo>
                  <a:lnTo>
                    <a:pt x="1912" y="1784"/>
                  </a:lnTo>
                  <a:lnTo>
                    <a:pt x="1872" y="1804"/>
                  </a:lnTo>
                  <a:lnTo>
                    <a:pt x="1848" y="1804"/>
                  </a:lnTo>
                  <a:lnTo>
                    <a:pt x="1812" y="1792"/>
                  </a:lnTo>
                  <a:lnTo>
                    <a:pt x="1776" y="1800"/>
                  </a:lnTo>
                  <a:lnTo>
                    <a:pt x="1748" y="1840"/>
                  </a:lnTo>
                  <a:lnTo>
                    <a:pt x="1748" y="1868"/>
                  </a:lnTo>
                  <a:lnTo>
                    <a:pt x="1764" y="1896"/>
                  </a:lnTo>
                  <a:lnTo>
                    <a:pt x="1804" y="1916"/>
                  </a:lnTo>
                  <a:lnTo>
                    <a:pt x="1840" y="1912"/>
                  </a:lnTo>
                  <a:lnTo>
                    <a:pt x="1880" y="1888"/>
                  </a:lnTo>
                  <a:lnTo>
                    <a:pt x="1908" y="1880"/>
                  </a:lnTo>
                  <a:lnTo>
                    <a:pt x="1928" y="1896"/>
                  </a:lnTo>
                  <a:lnTo>
                    <a:pt x="1928" y="1928"/>
                  </a:lnTo>
                  <a:lnTo>
                    <a:pt x="1916" y="1956"/>
                  </a:lnTo>
                  <a:lnTo>
                    <a:pt x="1924" y="1980"/>
                  </a:lnTo>
                  <a:lnTo>
                    <a:pt x="1952" y="1988"/>
                  </a:lnTo>
                  <a:lnTo>
                    <a:pt x="1980" y="2016"/>
                  </a:lnTo>
                  <a:lnTo>
                    <a:pt x="2000" y="2032"/>
                  </a:lnTo>
                  <a:lnTo>
                    <a:pt x="2060" y="2052"/>
                  </a:lnTo>
                  <a:lnTo>
                    <a:pt x="2080" y="2072"/>
                  </a:lnTo>
                  <a:lnTo>
                    <a:pt x="2048" y="2104"/>
                  </a:lnTo>
                  <a:lnTo>
                    <a:pt x="2008" y="2104"/>
                  </a:lnTo>
                  <a:lnTo>
                    <a:pt x="1952" y="2092"/>
                  </a:lnTo>
                  <a:lnTo>
                    <a:pt x="1936" y="2064"/>
                  </a:lnTo>
                  <a:lnTo>
                    <a:pt x="1912" y="2040"/>
                  </a:lnTo>
                  <a:lnTo>
                    <a:pt x="1892" y="2008"/>
                  </a:lnTo>
                  <a:lnTo>
                    <a:pt x="1872" y="1988"/>
                  </a:lnTo>
                  <a:lnTo>
                    <a:pt x="1836" y="1980"/>
                  </a:lnTo>
                  <a:lnTo>
                    <a:pt x="1800" y="1980"/>
                  </a:lnTo>
                  <a:lnTo>
                    <a:pt x="1744" y="1960"/>
                  </a:lnTo>
                  <a:lnTo>
                    <a:pt x="1720" y="1940"/>
                  </a:lnTo>
                  <a:lnTo>
                    <a:pt x="1660" y="1936"/>
                  </a:lnTo>
                  <a:lnTo>
                    <a:pt x="1612" y="1944"/>
                  </a:lnTo>
                  <a:lnTo>
                    <a:pt x="1556" y="1964"/>
                  </a:lnTo>
                  <a:lnTo>
                    <a:pt x="1528" y="1980"/>
                  </a:lnTo>
                  <a:lnTo>
                    <a:pt x="1528" y="2008"/>
                  </a:lnTo>
                  <a:lnTo>
                    <a:pt x="1560" y="2028"/>
                  </a:lnTo>
                  <a:lnTo>
                    <a:pt x="1592" y="2016"/>
                  </a:lnTo>
                  <a:lnTo>
                    <a:pt x="1624" y="2000"/>
                  </a:lnTo>
                  <a:lnTo>
                    <a:pt x="1660" y="1996"/>
                  </a:lnTo>
                  <a:lnTo>
                    <a:pt x="1688" y="2012"/>
                  </a:lnTo>
                  <a:lnTo>
                    <a:pt x="1696" y="2048"/>
                  </a:lnTo>
                  <a:lnTo>
                    <a:pt x="1712" y="2072"/>
                  </a:lnTo>
                  <a:lnTo>
                    <a:pt x="1748" y="2092"/>
                  </a:lnTo>
                  <a:lnTo>
                    <a:pt x="1796" y="2072"/>
                  </a:lnTo>
                  <a:lnTo>
                    <a:pt x="1832" y="2072"/>
                  </a:lnTo>
                  <a:lnTo>
                    <a:pt x="1864" y="2120"/>
                  </a:lnTo>
                  <a:lnTo>
                    <a:pt x="1880" y="2156"/>
                  </a:lnTo>
                  <a:lnTo>
                    <a:pt x="1912" y="2184"/>
                  </a:lnTo>
                  <a:lnTo>
                    <a:pt x="1960" y="2204"/>
                  </a:lnTo>
                  <a:lnTo>
                    <a:pt x="1996" y="2204"/>
                  </a:lnTo>
                  <a:lnTo>
                    <a:pt x="2040" y="2204"/>
                  </a:lnTo>
                  <a:lnTo>
                    <a:pt x="2076" y="2192"/>
                  </a:lnTo>
                  <a:lnTo>
                    <a:pt x="2120" y="2168"/>
                  </a:lnTo>
                  <a:lnTo>
                    <a:pt x="2160" y="2192"/>
                  </a:lnTo>
                  <a:lnTo>
                    <a:pt x="2176" y="2248"/>
                  </a:lnTo>
                  <a:lnTo>
                    <a:pt x="2184" y="2292"/>
                  </a:lnTo>
                  <a:lnTo>
                    <a:pt x="2164" y="2328"/>
                  </a:lnTo>
                  <a:lnTo>
                    <a:pt x="2108" y="2388"/>
                  </a:lnTo>
                  <a:lnTo>
                    <a:pt x="2064" y="2388"/>
                  </a:lnTo>
                  <a:lnTo>
                    <a:pt x="2024" y="2340"/>
                  </a:lnTo>
                  <a:lnTo>
                    <a:pt x="1976" y="2304"/>
                  </a:lnTo>
                  <a:lnTo>
                    <a:pt x="1936" y="2284"/>
                  </a:lnTo>
                  <a:lnTo>
                    <a:pt x="1896" y="2252"/>
                  </a:lnTo>
                  <a:lnTo>
                    <a:pt x="1864" y="2196"/>
                  </a:lnTo>
                  <a:lnTo>
                    <a:pt x="1824" y="2164"/>
                  </a:lnTo>
                  <a:lnTo>
                    <a:pt x="1788" y="2164"/>
                  </a:lnTo>
                  <a:lnTo>
                    <a:pt x="1788" y="2212"/>
                  </a:lnTo>
                  <a:lnTo>
                    <a:pt x="1812" y="2280"/>
                  </a:lnTo>
                  <a:lnTo>
                    <a:pt x="1832" y="2316"/>
                  </a:lnTo>
                  <a:lnTo>
                    <a:pt x="1840" y="2380"/>
                  </a:lnTo>
                  <a:lnTo>
                    <a:pt x="1812" y="2400"/>
                  </a:lnTo>
                  <a:lnTo>
                    <a:pt x="1784" y="2408"/>
                  </a:lnTo>
                  <a:lnTo>
                    <a:pt x="1728" y="2408"/>
                  </a:lnTo>
                  <a:lnTo>
                    <a:pt x="1668" y="2376"/>
                  </a:lnTo>
                  <a:lnTo>
                    <a:pt x="1628" y="2340"/>
                  </a:lnTo>
                  <a:lnTo>
                    <a:pt x="1576" y="2308"/>
                  </a:lnTo>
                  <a:lnTo>
                    <a:pt x="1532" y="2304"/>
                  </a:lnTo>
                  <a:lnTo>
                    <a:pt x="1484" y="2300"/>
                  </a:lnTo>
                  <a:cubicBezTo>
                    <a:pt x="1470" y="2286"/>
                    <a:pt x="1460" y="2268"/>
                    <a:pt x="1440" y="2288"/>
                  </a:cubicBezTo>
                  <a:lnTo>
                    <a:pt x="1416" y="2324"/>
                  </a:lnTo>
                  <a:lnTo>
                    <a:pt x="1376" y="2304"/>
                  </a:lnTo>
                  <a:lnTo>
                    <a:pt x="1352" y="2276"/>
                  </a:lnTo>
                  <a:lnTo>
                    <a:pt x="1320" y="2260"/>
                  </a:lnTo>
                  <a:lnTo>
                    <a:pt x="1284" y="2260"/>
                  </a:lnTo>
                  <a:lnTo>
                    <a:pt x="1256" y="2268"/>
                  </a:lnTo>
                  <a:lnTo>
                    <a:pt x="1256" y="2296"/>
                  </a:lnTo>
                  <a:lnTo>
                    <a:pt x="1276" y="2324"/>
                  </a:lnTo>
                  <a:lnTo>
                    <a:pt x="1316" y="2360"/>
                  </a:lnTo>
                  <a:lnTo>
                    <a:pt x="1368" y="2392"/>
                  </a:lnTo>
                  <a:lnTo>
                    <a:pt x="1432" y="2412"/>
                  </a:lnTo>
                  <a:lnTo>
                    <a:pt x="1484" y="2420"/>
                  </a:lnTo>
                  <a:lnTo>
                    <a:pt x="1548" y="2424"/>
                  </a:lnTo>
                  <a:lnTo>
                    <a:pt x="1624" y="2444"/>
                  </a:lnTo>
                  <a:lnTo>
                    <a:pt x="1708" y="2492"/>
                  </a:lnTo>
                  <a:lnTo>
                    <a:pt x="1744" y="2536"/>
                  </a:lnTo>
                  <a:lnTo>
                    <a:pt x="1760" y="2596"/>
                  </a:lnTo>
                  <a:lnTo>
                    <a:pt x="1716" y="2608"/>
                  </a:lnTo>
                  <a:lnTo>
                    <a:pt x="1672" y="2568"/>
                  </a:lnTo>
                  <a:lnTo>
                    <a:pt x="1644" y="2544"/>
                  </a:lnTo>
                  <a:lnTo>
                    <a:pt x="1596" y="2516"/>
                  </a:lnTo>
                  <a:lnTo>
                    <a:pt x="1540" y="2500"/>
                  </a:lnTo>
                  <a:lnTo>
                    <a:pt x="1512" y="2528"/>
                  </a:lnTo>
                  <a:lnTo>
                    <a:pt x="1496" y="2560"/>
                  </a:lnTo>
                  <a:lnTo>
                    <a:pt x="1456" y="2580"/>
                  </a:lnTo>
                  <a:lnTo>
                    <a:pt x="1432" y="2604"/>
                  </a:lnTo>
                  <a:lnTo>
                    <a:pt x="1363" y="2639"/>
                  </a:lnTo>
                  <a:lnTo>
                    <a:pt x="1324" y="2605"/>
                  </a:lnTo>
                  <a:lnTo>
                    <a:pt x="1282" y="2594"/>
                  </a:lnTo>
                  <a:lnTo>
                    <a:pt x="1246" y="2543"/>
                  </a:lnTo>
                  <a:lnTo>
                    <a:pt x="1220" y="2508"/>
                  </a:lnTo>
                  <a:lnTo>
                    <a:pt x="1187" y="2494"/>
                  </a:lnTo>
                  <a:lnTo>
                    <a:pt x="1148" y="2483"/>
                  </a:lnTo>
                  <a:lnTo>
                    <a:pt x="1096" y="2480"/>
                  </a:lnTo>
                  <a:lnTo>
                    <a:pt x="1048" y="2476"/>
                  </a:lnTo>
                  <a:lnTo>
                    <a:pt x="1000" y="2448"/>
                  </a:lnTo>
                  <a:lnTo>
                    <a:pt x="965" y="2443"/>
                  </a:lnTo>
                  <a:lnTo>
                    <a:pt x="907" y="2432"/>
                  </a:lnTo>
                  <a:lnTo>
                    <a:pt x="844" y="2434"/>
                  </a:lnTo>
                  <a:lnTo>
                    <a:pt x="782" y="2407"/>
                  </a:lnTo>
                  <a:lnTo>
                    <a:pt x="701" y="2366"/>
                  </a:lnTo>
                  <a:lnTo>
                    <a:pt x="664" y="2345"/>
                  </a:lnTo>
                  <a:lnTo>
                    <a:pt x="589" y="2303"/>
                  </a:lnTo>
                  <a:lnTo>
                    <a:pt x="551" y="2276"/>
                  </a:lnTo>
                  <a:lnTo>
                    <a:pt x="530" y="2227"/>
                  </a:lnTo>
                  <a:lnTo>
                    <a:pt x="497" y="2188"/>
                  </a:lnTo>
                  <a:lnTo>
                    <a:pt x="482" y="2159"/>
                  </a:lnTo>
                  <a:lnTo>
                    <a:pt x="460" y="2132"/>
                  </a:lnTo>
                  <a:lnTo>
                    <a:pt x="440" y="2132"/>
                  </a:lnTo>
                  <a:lnTo>
                    <a:pt x="412" y="2146"/>
                  </a:lnTo>
                  <a:lnTo>
                    <a:pt x="388" y="2108"/>
                  </a:lnTo>
                  <a:lnTo>
                    <a:pt x="379" y="2074"/>
                  </a:lnTo>
                  <a:lnTo>
                    <a:pt x="328" y="2060"/>
                  </a:lnTo>
                  <a:lnTo>
                    <a:pt x="269" y="2069"/>
                  </a:lnTo>
                  <a:lnTo>
                    <a:pt x="208" y="2080"/>
                  </a:lnTo>
                  <a:lnTo>
                    <a:pt x="152" y="2095"/>
                  </a:lnTo>
                  <a:lnTo>
                    <a:pt x="95" y="2096"/>
                  </a:lnTo>
                  <a:lnTo>
                    <a:pt x="47" y="2105"/>
                  </a:lnTo>
                  <a:lnTo>
                    <a:pt x="0" y="211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727440" y="1270080"/>
              <a:ext cx="2692440" cy="774720"/>
            </a:xfrm>
            <a:custGeom>
              <a:avLst/>
              <a:gdLst/>
              <a:ahLst/>
              <a:rect l="l" t="t" r="r" b="b"/>
              <a:pathLst>
                <a:path w="1696" h="488">
                  <a:moveTo>
                    <a:pt x="0" y="112"/>
                  </a:moveTo>
                  <a:lnTo>
                    <a:pt x="28" y="160"/>
                  </a:lnTo>
                  <a:lnTo>
                    <a:pt x="88" y="196"/>
                  </a:lnTo>
                  <a:lnTo>
                    <a:pt x="128" y="224"/>
                  </a:lnTo>
                  <a:lnTo>
                    <a:pt x="180" y="236"/>
                  </a:lnTo>
                  <a:lnTo>
                    <a:pt x="232" y="224"/>
                  </a:lnTo>
                  <a:lnTo>
                    <a:pt x="260" y="204"/>
                  </a:lnTo>
                  <a:lnTo>
                    <a:pt x="296" y="200"/>
                  </a:lnTo>
                  <a:lnTo>
                    <a:pt x="308" y="224"/>
                  </a:lnTo>
                  <a:lnTo>
                    <a:pt x="292" y="252"/>
                  </a:lnTo>
                  <a:lnTo>
                    <a:pt x="324" y="272"/>
                  </a:lnTo>
                  <a:lnTo>
                    <a:pt x="376" y="292"/>
                  </a:lnTo>
                  <a:lnTo>
                    <a:pt x="400" y="304"/>
                  </a:lnTo>
                  <a:lnTo>
                    <a:pt x="456" y="324"/>
                  </a:lnTo>
                  <a:lnTo>
                    <a:pt x="492" y="356"/>
                  </a:lnTo>
                  <a:lnTo>
                    <a:pt x="532" y="372"/>
                  </a:lnTo>
                  <a:lnTo>
                    <a:pt x="564" y="380"/>
                  </a:lnTo>
                  <a:lnTo>
                    <a:pt x="596" y="380"/>
                  </a:lnTo>
                  <a:cubicBezTo>
                    <a:pt x="616" y="377"/>
                    <a:pt x="640" y="374"/>
                    <a:pt x="640" y="348"/>
                  </a:cubicBezTo>
                  <a:lnTo>
                    <a:pt x="644" y="324"/>
                  </a:lnTo>
                  <a:lnTo>
                    <a:pt x="624" y="292"/>
                  </a:lnTo>
                  <a:lnTo>
                    <a:pt x="588" y="276"/>
                  </a:lnTo>
                  <a:lnTo>
                    <a:pt x="600" y="232"/>
                  </a:lnTo>
                  <a:lnTo>
                    <a:pt x="632" y="212"/>
                  </a:lnTo>
                  <a:lnTo>
                    <a:pt x="636" y="188"/>
                  </a:lnTo>
                  <a:lnTo>
                    <a:pt x="636" y="160"/>
                  </a:lnTo>
                  <a:lnTo>
                    <a:pt x="676" y="148"/>
                  </a:lnTo>
                  <a:lnTo>
                    <a:pt x="712" y="164"/>
                  </a:lnTo>
                  <a:lnTo>
                    <a:pt x="724" y="196"/>
                  </a:lnTo>
                  <a:lnTo>
                    <a:pt x="728" y="232"/>
                  </a:lnTo>
                  <a:lnTo>
                    <a:pt x="720" y="276"/>
                  </a:lnTo>
                  <a:lnTo>
                    <a:pt x="724" y="304"/>
                  </a:lnTo>
                  <a:lnTo>
                    <a:pt x="776" y="332"/>
                  </a:lnTo>
                  <a:lnTo>
                    <a:pt x="828" y="332"/>
                  </a:lnTo>
                  <a:lnTo>
                    <a:pt x="868" y="312"/>
                  </a:lnTo>
                  <a:lnTo>
                    <a:pt x="916" y="296"/>
                  </a:lnTo>
                  <a:lnTo>
                    <a:pt x="940" y="296"/>
                  </a:lnTo>
                  <a:lnTo>
                    <a:pt x="972" y="316"/>
                  </a:lnTo>
                  <a:lnTo>
                    <a:pt x="1000" y="324"/>
                  </a:lnTo>
                  <a:lnTo>
                    <a:pt x="1036" y="340"/>
                  </a:lnTo>
                  <a:lnTo>
                    <a:pt x="1084" y="340"/>
                  </a:lnTo>
                  <a:lnTo>
                    <a:pt x="1112" y="340"/>
                  </a:lnTo>
                  <a:lnTo>
                    <a:pt x="1132" y="308"/>
                  </a:lnTo>
                  <a:lnTo>
                    <a:pt x="1116" y="276"/>
                  </a:lnTo>
                  <a:lnTo>
                    <a:pt x="1116" y="252"/>
                  </a:lnTo>
                  <a:lnTo>
                    <a:pt x="1128" y="228"/>
                  </a:lnTo>
                  <a:lnTo>
                    <a:pt x="1156" y="220"/>
                  </a:lnTo>
                  <a:lnTo>
                    <a:pt x="1204" y="240"/>
                  </a:lnTo>
                  <a:lnTo>
                    <a:pt x="1220" y="264"/>
                  </a:lnTo>
                  <a:lnTo>
                    <a:pt x="1236" y="288"/>
                  </a:lnTo>
                  <a:lnTo>
                    <a:pt x="1272" y="300"/>
                  </a:lnTo>
                  <a:lnTo>
                    <a:pt x="1308" y="312"/>
                  </a:lnTo>
                  <a:lnTo>
                    <a:pt x="1332" y="328"/>
                  </a:lnTo>
                  <a:lnTo>
                    <a:pt x="1308" y="360"/>
                  </a:lnTo>
                  <a:lnTo>
                    <a:pt x="1304" y="384"/>
                  </a:lnTo>
                  <a:lnTo>
                    <a:pt x="1344" y="408"/>
                  </a:lnTo>
                  <a:lnTo>
                    <a:pt x="1388" y="400"/>
                  </a:lnTo>
                  <a:lnTo>
                    <a:pt x="1420" y="392"/>
                  </a:lnTo>
                  <a:lnTo>
                    <a:pt x="1444" y="376"/>
                  </a:lnTo>
                  <a:lnTo>
                    <a:pt x="1484" y="360"/>
                  </a:lnTo>
                  <a:lnTo>
                    <a:pt x="1524" y="396"/>
                  </a:lnTo>
                  <a:lnTo>
                    <a:pt x="1556" y="420"/>
                  </a:lnTo>
                  <a:lnTo>
                    <a:pt x="1560" y="448"/>
                  </a:lnTo>
                  <a:lnTo>
                    <a:pt x="1604" y="476"/>
                  </a:lnTo>
                  <a:lnTo>
                    <a:pt x="1652" y="488"/>
                  </a:lnTo>
                  <a:lnTo>
                    <a:pt x="1688" y="476"/>
                  </a:lnTo>
                  <a:lnTo>
                    <a:pt x="1696" y="448"/>
                  </a:lnTo>
                  <a:lnTo>
                    <a:pt x="1676" y="384"/>
                  </a:lnTo>
                  <a:lnTo>
                    <a:pt x="1652" y="364"/>
                  </a:lnTo>
                  <a:lnTo>
                    <a:pt x="1620" y="332"/>
                  </a:lnTo>
                  <a:lnTo>
                    <a:pt x="1612" y="308"/>
                  </a:lnTo>
                  <a:lnTo>
                    <a:pt x="1584" y="268"/>
                  </a:lnTo>
                  <a:lnTo>
                    <a:pt x="1564" y="224"/>
                  </a:lnTo>
                  <a:lnTo>
                    <a:pt x="1564" y="188"/>
                  </a:lnTo>
                  <a:lnTo>
                    <a:pt x="1516" y="152"/>
                  </a:lnTo>
                  <a:lnTo>
                    <a:pt x="1484" y="136"/>
                  </a:lnTo>
                  <a:lnTo>
                    <a:pt x="1432" y="124"/>
                  </a:lnTo>
                  <a:lnTo>
                    <a:pt x="1401" y="124"/>
                  </a:lnTo>
                  <a:lnTo>
                    <a:pt x="1372" y="165"/>
                  </a:lnTo>
                  <a:lnTo>
                    <a:pt x="1330" y="156"/>
                  </a:lnTo>
                  <a:lnTo>
                    <a:pt x="1244" y="140"/>
                  </a:lnTo>
                  <a:lnTo>
                    <a:pt x="1188" y="124"/>
                  </a:lnTo>
                  <a:lnTo>
                    <a:pt x="1117" y="103"/>
                  </a:lnTo>
                  <a:lnTo>
                    <a:pt x="1032" y="56"/>
                  </a:lnTo>
                  <a:lnTo>
                    <a:pt x="967" y="72"/>
                  </a:lnTo>
                  <a:lnTo>
                    <a:pt x="900" y="85"/>
                  </a:lnTo>
                  <a:lnTo>
                    <a:pt x="894" y="148"/>
                  </a:lnTo>
                  <a:lnTo>
                    <a:pt x="856" y="176"/>
                  </a:lnTo>
                  <a:lnTo>
                    <a:pt x="801" y="178"/>
                  </a:lnTo>
                  <a:lnTo>
                    <a:pt x="744" y="140"/>
                  </a:lnTo>
                  <a:lnTo>
                    <a:pt x="700" y="100"/>
                  </a:lnTo>
                  <a:lnTo>
                    <a:pt x="642" y="82"/>
                  </a:lnTo>
                  <a:lnTo>
                    <a:pt x="549" y="81"/>
                  </a:lnTo>
                  <a:lnTo>
                    <a:pt x="465" y="84"/>
                  </a:lnTo>
                  <a:lnTo>
                    <a:pt x="390" y="100"/>
                  </a:lnTo>
                  <a:lnTo>
                    <a:pt x="318" y="94"/>
                  </a:lnTo>
                  <a:lnTo>
                    <a:pt x="259" y="81"/>
                  </a:lnTo>
                  <a:lnTo>
                    <a:pt x="223" y="43"/>
                  </a:lnTo>
                  <a:lnTo>
                    <a:pt x="208" y="0"/>
                  </a:lnTo>
                  <a:lnTo>
                    <a:pt x="168" y="9"/>
                  </a:lnTo>
                  <a:lnTo>
                    <a:pt x="117" y="37"/>
                  </a:lnTo>
                  <a:lnTo>
                    <a:pt x="49" y="64"/>
                  </a:lnTo>
                  <a:lnTo>
                    <a:pt x="0" y="11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651640" y="3848040"/>
              <a:ext cx="21564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73760" y="3029040"/>
              <a:ext cx="514440" cy="717480"/>
            </a:xfrm>
            <a:custGeom>
              <a:avLst/>
              <a:gdLst/>
              <a:ahLst/>
              <a:rect l="l" t="t" r="r" b="b"/>
              <a:pathLst>
                <a:path w="324" h="452">
                  <a:moveTo>
                    <a:pt x="4" y="400"/>
                  </a:moveTo>
                  <a:lnTo>
                    <a:pt x="0" y="364"/>
                  </a:lnTo>
                  <a:lnTo>
                    <a:pt x="16" y="332"/>
                  </a:lnTo>
                  <a:lnTo>
                    <a:pt x="52" y="312"/>
                  </a:lnTo>
                  <a:cubicBezTo>
                    <a:pt x="56" y="295"/>
                    <a:pt x="56" y="301"/>
                    <a:pt x="56" y="292"/>
                  </a:cubicBezTo>
                  <a:lnTo>
                    <a:pt x="56" y="268"/>
                  </a:lnTo>
                  <a:cubicBezTo>
                    <a:pt x="59" y="254"/>
                    <a:pt x="62" y="246"/>
                    <a:pt x="72" y="236"/>
                  </a:cubicBezTo>
                  <a:lnTo>
                    <a:pt x="92" y="216"/>
                  </a:lnTo>
                  <a:lnTo>
                    <a:pt x="104" y="180"/>
                  </a:lnTo>
                  <a:lnTo>
                    <a:pt x="104" y="144"/>
                  </a:lnTo>
                  <a:lnTo>
                    <a:pt x="108" y="100"/>
                  </a:lnTo>
                  <a:lnTo>
                    <a:pt x="136" y="76"/>
                  </a:lnTo>
                  <a:lnTo>
                    <a:pt x="156" y="56"/>
                  </a:lnTo>
                  <a:lnTo>
                    <a:pt x="172" y="32"/>
                  </a:lnTo>
                  <a:lnTo>
                    <a:pt x="204" y="8"/>
                  </a:lnTo>
                  <a:lnTo>
                    <a:pt x="232" y="4"/>
                  </a:lnTo>
                  <a:lnTo>
                    <a:pt x="264" y="12"/>
                  </a:lnTo>
                  <a:lnTo>
                    <a:pt x="292" y="0"/>
                  </a:lnTo>
                  <a:lnTo>
                    <a:pt x="302" y="7"/>
                  </a:lnTo>
                  <a:lnTo>
                    <a:pt x="320" y="22"/>
                  </a:lnTo>
                  <a:lnTo>
                    <a:pt x="322" y="37"/>
                  </a:lnTo>
                  <a:lnTo>
                    <a:pt x="324" y="52"/>
                  </a:lnTo>
                  <a:lnTo>
                    <a:pt x="296" y="80"/>
                  </a:lnTo>
                  <a:lnTo>
                    <a:pt x="268" y="100"/>
                  </a:lnTo>
                  <a:lnTo>
                    <a:pt x="244" y="108"/>
                  </a:lnTo>
                  <a:lnTo>
                    <a:pt x="232" y="132"/>
                  </a:lnTo>
                  <a:lnTo>
                    <a:pt x="224" y="164"/>
                  </a:lnTo>
                  <a:lnTo>
                    <a:pt x="196" y="172"/>
                  </a:lnTo>
                  <a:lnTo>
                    <a:pt x="176" y="200"/>
                  </a:lnTo>
                  <a:lnTo>
                    <a:pt x="172" y="228"/>
                  </a:lnTo>
                  <a:lnTo>
                    <a:pt x="156" y="248"/>
                  </a:lnTo>
                  <a:lnTo>
                    <a:pt x="124" y="268"/>
                  </a:lnTo>
                  <a:lnTo>
                    <a:pt x="100" y="316"/>
                  </a:lnTo>
                  <a:lnTo>
                    <a:pt x="100" y="340"/>
                  </a:lnTo>
                  <a:lnTo>
                    <a:pt x="100" y="364"/>
                  </a:lnTo>
                  <a:lnTo>
                    <a:pt x="100" y="388"/>
                  </a:lnTo>
                  <a:lnTo>
                    <a:pt x="100" y="428"/>
                  </a:lnTo>
                  <a:lnTo>
                    <a:pt x="60" y="452"/>
                  </a:lnTo>
                  <a:lnTo>
                    <a:pt x="24" y="444"/>
                  </a:lnTo>
                  <a:lnTo>
                    <a:pt x="4" y="4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51" y="7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51" y="7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797280" y="1271520"/>
              <a:ext cx="927000" cy="239760"/>
            </a:xfrm>
            <a:custGeom>
              <a:avLst/>
              <a:gdLst/>
              <a:ahLst/>
              <a:rect l="l" t="t" r="r" b="b"/>
              <a:pathLst>
                <a:path w="584" h="151">
                  <a:moveTo>
                    <a:pt x="0" y="83"/>
                  </a:moveTo>
                  <a:lnTo>
                    <a:pt x="12" y="103"/>
                  </a:lnTo>
                  <a:lnTo>
                    <a:pt x="36" y="123"/>
                  </a:lnTo>
                  <a:lnTo>
                    <a:pt x="80" y="143"/>
                  </a:lnTo>
                  <a:lnTo>
                    <a:pt x="128" y="127"/>
                  </a:lnTo>
                  <a:lnTo>
                    <a:pt x="156" y="123"/>
                  </a:lnTo>
                  <a:lnTo>
                    <a:pt x="196" y="131"/>
                  </a:lnTo>
                  <a:lnTo>
                    <a:pt x="260" y="151"/>
                  </a:lnTo>
                  <a:lnTo>
                    <a:pt x="300" y="151"/>
                  </a:lnTo>
                  <a:lnTo>
                    <a:pt x="340" y="139"/>
                  </a:lnTo>
                  <a:lnTo>
                    <a:pt x="396" y="123"/>
                  </a:lnTo>
                  <a:lnTo>
                    <a:pt x="428" y="119"/>
                  </a:lnTo>
                  <a:lnTo>
                    <a:pt x="496" y="119"/>
                  </a:lnTo>
                  <a:lnTo>
                    <a:pt x="560" y="115"/>
                  </a:lnTo>
                  <a:lnTo>
                    <a:pt x="584" y="99"/>
                  </a:lnTo>
                  <a:lnTo>
                    <a:pt x="571" y="80"/>
                  </a:lnTo>
                  <a:lnTo>
                    <a:pt x="512" y="77"/>
                  </a:lnTo>
                  <a:lnTo>
                    <a:pt x="470" y="77"/>
                  </a:lnTo>
                  <a:lnTo>
                    <a:pt x="434" y="83"/>
                  </a:lnTo>
                  <a:lnTo>
                    <a:pt x="388" y="89"/>
                  </a:lnTo>
                  <a:lnTo>
                    <a:pt x="353" y="99"/>
                  </a:lnTo>
                  <a:lnTo>
                    <a:pt x="319" y="99"/>
                  </a:lnTo>
                  <a:lnTo>
                    <a:pt x="292" y="95"/>
                  </a:lnTo>
                  <a:lnTo>
                    <a:pt x="252" y="95"/>
                  </a:lnTo>
                  <a:lnTo>
                    <a:pt x="220" y="83"/>
                  </a:lnTo>
                  <a:lnTo>
                    <a:pt x="188" y="54"/>
                  </a:lnTo>
                  <a:lnTo>
                    <a:pt x="166" y="8"/>
                  </a:lnTo>
                  <a:lnTo>
                    <a:pt x="143" y="0"/>
                  </a:lnTo>
                  <a:lnTo>
                    <a:pt x="115" y="9"/>
                  </a:lnTo>
                  <a:lnTo>
                    <a:pt x="68" y="35"/>
                  </a:lnTo>
                  <a:lnTo>
                    <a:pt x="44" y="47"/>
                  </a:lnTo>
                  <a:lnTo>
                    <a:pt x="16" y="55"/>
                  </a:lnTo>
                  <a:lnTo>
                    <a:pt x="0" y="8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648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65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66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67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84" name=""/>
          <p:cNvGrpSpPr/>
          <p:nvPr/>
        </p:nvGrpSpPr>
        <p:grpSpPr>
          <a:xfrm>
            <a:off x="268560" y="-19800"/>
            <a:ext cx="1067040" cy="1860480"/>
            <a:chOff x="268560" y="-19800"/>
            <a:chExt cx="1067040" cy="1860480"/>
          </a:xfrm>
        </p:grpSpPr>
        <p:sp>
          <p:nvSpPr>
            <p:cNvPr id="1685" name=""/>
            <p:cNvSpPr/>
            <p:nvPr/>
          </p:nvSpPr>
          <p:spPr>
            <a:xfrm flipH="1">
              <a:off x="707040" y="465840"/>
              <a:ext cx="154080" cy="10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0360" y="855720"/>
              <a:ext cx="348840" cy="5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494400">
              <a:off x="290520" y="6714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494400">
              <a:off x="996480" y="769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494400">
              <a:off x="690840" y="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494400">
              <a:off x="528120" y="1482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0" y="476280"/>
            <a:ext cx="8248680" cy="6381720"/>
            <a:chOff x="0" y="476280"/>
            <a:chExt cx="8248680" cy="6381720"/>
          </a:xfrm>
        </p:grpSpPr>
        <p:grpSp>
          <p:nvGrpSpPr>
            <p:cNvPr id="1692" name=""/>
            <p:cNvGrpSpPr/>
            <p:nvPr/>
          </p:nvGrpSpPr>
          <p:grpSpPr>
            <a:xfrm>
              <a:off x="476280" y="476280"/>
              <a:ext cx="7772400" cy="6222960"/>
              <a:chOff x="476280" y="476280"/>
              <a:chExt cx="7772400" cy="62229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76280" y="476280"/>
                <a:ext cx="6351480" cy="5519880"/>
              </a:xfrm>
              <a:custGeom>
                <a:avLst/>
                <a:gdLst/>
                <a:ahLst/>
                <a:rect l="l" t="t" r="r" b="b"/>
                <a:pathLst>
                  <a:path w="4001" h="3477">
                    <a:moveTo>
                      <a:pt x="114" y="3477"/>
                    </a:moveTo>
                    <a:lnTo>
                      <a:pt x="120" y="2438"/>
                    </a:lnTo>
                    <a:lnTo>
                      <a:pt x="84" y="2353"/>
                    </a:lnTo>
                    <a:lnTo>
                      <a:pt x="134" y="2304"/>
                    </a:lnTo>
                    <a:lnTo>
                      <a:pt x="147" y="2046"/>
                    </a:lnTo>
                    <a:lnTo>
                      <a:pt x="114" y="1998"/>
                    </a:lnTo>
                    <a:lnTo>
                      <a:pt x="127" y="1958"/>
                    </a:lnTo>
                    <a:lnTo>
                      <a:pt x="134" y="1880"/>
                    </a:lnTo>
                    <a:lnTo>
                      <a:pt x="120" y="1704"/>
                    </a:lnTo>
                    <a:lnTo>
                      <a:pt x="169" y="1640"/>
                    </a:lnTo>
                    <a:lnTo>
                      <a:pt x="148" y="1598"/>
                    </a:lnTo>
                    <a:lnTo>
                      <a:pt x="126" y="1550"/>
                    </a:lnTo>
                    <a:lnTo>
                      <a:pt x="110" y="1482"/>
                    </a:lnTo>
                    <a:lnTo>
                      <a:pt x="69" y="1440"/>
                    </a:lnTo>
                    <a:lnTo>
                      <a:pt x="48" y="1395"/>
                    </a:lnTo>
                    <a:lnTo>
                      <a:pt x="27" y="1344"/>
                    </a:lnTo>
                    <a:lnTo>
                      <a:pt x="0" y="1278"/>
                    </a:lnTo>
                    <a:lnTo>
                      <a:pt x="21" y="1174"/>
                    </a:lnTo>
                    <a:lnTo>
                      <a:pt x="35" y="1104"/>
                    </a:lnTo>
                    <a:lnTo>
                      <a:pt x="87" y="1074"/>
                    </a:lnTo>
                    <a:lnTo>
                      <a:pt x="123" y="1080"/>
                    </a:lnTo>
                    <a:lnTo>
                      <a:pt x="161" y="1097"/>
                    </a:lnTo>
                    <a:lnTo>
                      <a:pt x="203" y="1128"/>
                    </a:lnTo>
                    <a:lnTo>
                      <a:pt x="263" y="1122"/>
                    </a:lnTo>
                    <a:lnTo>
                      <a:pt x="321" y="1155"/>
                    </a:lnTo>
                    <a:lnTo>
                      <a:pt x="362" y="1157"/>
                    </a:lnTo>
                    <a:lnTo>
                      <a:pt x="430" y="1118"/>
                    </a:lnTo>
                    <a:lnTo>
                      <a:pt x="465" y="1040"/>
                    </a:lnTo>
                    <a:lnTo>
                      <a:pt x="508" y="998"/>
                    </a:lnTo>
                    <a:lnTo>
                      <a:pt x="550" y="962"/>
                    </a:lnTo>
                    <a:lnTo>
                      <a:pt x="571" y="906"/>
                    </a:lnTo>
                    <a:lnTo>
                      <a:pt x="592" y="871"/>
                    </a:lnTo>
                    <a:lnTo>
                      <a:pt x="621" y="842"/>
                    </a:lnTo>
                    <a:lnTo>
                      <a:pt x="670" y="807"/>
                    </a:lnTo>
                    <a:lnTo>
                      <a:pt x="713" y="800"/>
                    </a:lnTo>
                    <a:lnTo>
                      <a:pt x="759" y="809"/>
                    </a:lnTo>
                    <a:lnTo>
                      <a:pt x="825" y="821"/>
                    </a:lnTo>
                    <a:lnTo>
                      <a:pt x="858" y="771"/>
                    </a:lnTo>
                    <a:lnTo>
                      <a:pt x="880" y="778"/>
                    </a:lnTo>
                    <a:lnTo>
                      <a:pt x="896" y="814"/>
                    </a:lnTo>
                    <a:lnTo>
                      <a:pt x="931" y="786"/>
                    </a:lnTo>
                    <a:lnTo>
                      <a:pt x="951" y="782"/>
                    </a:lnTo>
                    <a:lnTo>
                      <a:pt x="974" y="776"/>
                    </a:lnTo>
                    <a:lnTo>
                      <a:pt x="981" y="821"/>
                    </a:lnTo>
                    <a:lnTo>
                      <a:pt x="1024" y="802"/>
                    </a:lnTo>
                    <a:lnTo>
                      <a:pt x="1058" y="821"/>
                    </a:lnTo>
                    <a:lnTo>
                      <a:pt x="1129" y="828"/>
                    </a:lnTo>
                    <a:lnTo>
                      <a:pt x="1168" y="826"/>
                    </a:lnTo>
                    <a:lnTo>
                      <a:pt x="1194" y="864"/>
                    </a:lnTo>
                    <a:lnTo>
                      <a:pt x="1215" y="840"/>
                    </a:lnTo>
                    <a:lnTo>
                      <a:pt x="1228" y="794"/>
                    </a:lnTo>
                    <a:lnTo>
                      <a:pt x="1256" y="802"/>
                    </a:lnTo>
                    <a:lnTo>
                      <a:pt x="1257" y="843"/>
                    </a:lnTo>
                    <a:lnTo>
                      <a:pt x="1247" y="891"/>
                    </a:lnTo>
                    <a:lnTo>
                      <a:pt x="1272" y="899"/>
                    </a:lnTo>
                    <a:lnTo>
                      <a:pt x="1288" y="870"/>
                    </a:lnTo>
                    <a:lnTo>
                      <a:pt x="1312" y="866"/>
                    </a:lnTo>
                    <a:lnTo>
                      <a:pt x="1338" y="894"/>
                    </a:lnTo>
                    <a:lnTo>
                      <a:pt x="1371" y="903"/>
                    </a:lnTo>
                    <a:lnTo>
                      <a:pt x="1397" y="913"/>
                    </a:lnTo>
                    <a:lnTo>
                      <a:pt x="1408" y="882"/>
                    </a:lnTo>
                    <a:lnTo>
                      <a:pt x="1395" y="843"/>
                    </a:lnTo>
                    <a:lnTo>
                      <a:pt x="1359" y="810"/>
                    </a:lnTo>
                    <a:lnTo>
                      <a:pt x="1314" y="783"/>
                    </a:lnTo>
                    <a:lnTo>
                      <a:pt x="1298" y="730"/>
                    </a:lnTo>
                    <a:lnTo>
                      <a:pt x="1312" y="680"/>
                    </a:lnTo>
                    <a:lnTo>
                      <a:pt x="1362" y="631"/>
                    </a:lnTo>
                    <a:lnTo>
                      <a:pt x="1422" y="622"/>
                    </a:lnTo>
                    <a:lnTo>
                      <a:pt x="1454" y="666"/>
                    </a:lnTo>
                    <a:lnTo>
                      <a:pt x="1545" y="687"/>
                    </a:lnTo>
                    <a:lnTo>
                      <a:pt x="1595" y="708"/>
                    </a:lnTo>
                    <a:lnTo>
                      <a:pt x="1630" y="737"/>
                    </a:lnTo>
                    <a:lnTo>
                      <a:pt x="1672" y="730"/>
                    </a:lnTo>
                    <a:lnTo>
                      <a:pt x="1715" y="687"/>
                    </a:lnTo>
                    <a:lnTo>
                      <a:pt x="1771" y="673"/>
                    </a:lnTo>
                    <a:lnTo>
                      <a:pt x="1814" y="673"/>
                    </a:lnTo>
                    <a:lnTo>
                      <a:pt x="1862" y="689"/>
                    </a:lnTo>
                    <a:lnTo>
                      <a:pt x="1893" y="746"/>
                    </a:lnTo>
                    <a:lnTo>
                      <a:pt x="1935" y="767"/>
                    </a:lnTo>
                    <a:lnTo>
                      <a:pt x="1964" y="737"/>
                    </a:lnTo>
                    <a:lnTo>
                      <a:pt x="1997" y="694"/>
                    </a:lnTo>
                    <a:lnTo>
                      <a:pt x="2018" y="659"/>
                    </a:lnTo>
                    <a:lnTo>
                      <a:pt x="2047" y="617"/>
                    </a:lnTo>
                    <a:lnTo>
                      <a:pt x="2096" y="567"/>
                    </a:lnTo>
                    <a:lnTo>
                      <a:pt x="2152" y="546"/>
                    </a:lnTo>
                    <a:lnTo>
                      <a:pt x="2205" y="510"/>
                    </a:lnTo>
                    <a:lnTo>
                      <a:pt x="2258" y="504"/>
                    </a:lnTo>
                    <a:cubicBezTo>
                      <a:pt x="2258" y="520"/>
                      <a:pt x="2268" y="536"/>
                      <a:pt x="2277" y="551"/>
                    </a:cubicBezTo>
                    <a:lnTo>
                      <a:pt x="2316" y="588"/>
                    </a:lnTo>
                    <a:lnTo>
                      <a:pt x="2385" y="602"/>
                    </a:lnTo>
                    <a:lnTo>
                      <a:pt x="2435" y="602"/>
                    </a:lnTo>
                    <a:lnTo>
                      <a:pt x="2491" y="588"/>
                    </a:lnTo>
                    <a:lnTo>
                      <a:pt x="2569" y="581"/>
                    </a:lnTo>
                    <a:lnTo>
                      <a:pt x="2634" y="582"/>
                    </a:lnTo>
                    <a:lnTo>
                      <a:pt x="2688" y="585"/>
                    </a:lnTo>
                    <a:lnTo>
                      <a:pt x="2756" y="605"/>
                    </a:lnTo>
                    <a:lnTo>
                      <a:pt x="2802" y="652"/>
                    </a:lnTo>
                    <a:lnTo>
                      <a:pt x="2851" y="680"/>
                    </a:lnTo>
                    <a:lnTo>
                      <a:pt x="2908" y="680"/>
                    </a:lnTo>
                    <a:lnTo>
                      <a:pt x="2946" y="654"/>
                    </a:lnTo>
                    <a:lnTo>
                      <a:pt x="2950" y="581"/>
                    </a:lnTo>
                    <a:lnTo>
                      <a:pt x="3033" y="576"/>
                    </a:lnTo>
                    <a:lnTo>
                      <a:pt x="3077" y="560"/>
                    </a:lnTo>
                    <a:lnTo>
                      <a:pt x="3141" y="595"/>
                    </a:lnTo>
                    <a:lnTo>
                      <a:pt x="3219" y="621"/>
                    </a:lnTo>
                    <a:lnTo>
                      <a:pt x="3289" y="638"/>
                    </a:lnTo>
                    <a:lnTo>
                      <a:pt x="3375" y="660"/>
                    </a:lnTo>
                    <a:lnTo>
                      <a:pt x="3423" y="666"/>
                    </a:lnTo>
                    <a:lnTo>
                      <a:pt x="3459" y="618"/>
                    </a:lnTo>
                    <a:lnTo>
                      <a:pt x="3495" y="588"/>
                    </a:lnTo>
                    <a:lnTo>
                      <a:pt x="3536" y="560"/>
                    </a:lnTo>
                    <a:lnTo>
                      <a:pt x="3592" y="560"/>
                    </a:lnTo>
                    <a:lnTo>
                      <a:pt x="3645" y="522"/>
                    </a:lnTo>
                    <a:lnTo>
                      <a:pt x="3720" y="480"/>
                    </a:lnTo>
                    <a:lnTo>
                      <a:pt x="3771" y="414"/>
                    </a:lnTo>
                    <a:lnTo>
                      <a:pt x="3798" y="360"/>
                    </a:lnTo>
                    <a:lnTo>
                      <a:pt x="3819" y="315"/>
                    </a:lnTo>
                    <a:lnTo>
                      <a:pt x="3843" y="276"/>
                    </a:lnTo>
                    <a:lnTo>
                      <a:pt x="3873" y="249"/>
                    </a:lnTo>
                    <a:lnTo>
                      <a:pt x="3906" y="213"/>
                    </a:lnTo>
                    <a:lnTo>
                      <a:pt x="3939" y="192"/>
                    </a:lnTo>
                    <a:lnTo>
                      <a:pt x="3972" y="99"/>
                    </a:lnTo>
                    <a:lnTo>
                      <a:pt x="4001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7640" y="5654520"/>
                <a:ext cx="7601040" cy="1044720"/>
              </a:xfrm>
              <a:custGeom>
                <a:avLst/>
                <a:gdLst/>
                <a:ahLst/>
                <a:rect l="l" t="t" r="r" b="b"/>
                <a:pathLst>
                  <a:path w="4788" h="658">
                    <a:moveTo>
                      <a:pt x="0" y="203"/>
                    </a:moveTo>
                    <a:cubicBezTo>
                      <a:pt x="11" y="212"/>
                      <a:pt x="45" y="242"/>
                      <a:pt x="65" y="256"/>
                    </a:cubicBezTo>
                    <a:cubicBezTo>
                      <a:pt x="85" y="270"/>
                      <a:pt x="104" y="283"/>
                      <a:pt x="122" y="289"/>
                    </a:cubicBezTo>
                    <a:cubicBezTo>
                      <a:pt x="140" y="295"/>
                      <a:pt x="161" y="291"/>
                      <a:pt x="176" y="292"/>
                    </a:cubicBezTo>
                    <a:cubicBezTo>
                      <a:pt x="191" y="293"/>
                      <a:pt x="202" y="293"/>
                      <a:pt x="215" y="296"/>
                    </a:cubicBezTo>
                    <a:cubicBezTo>
                      <a:pt x="228" y="299"/>
                      <a:pt x="239" y="310"/>
                      <a:pt x="255" y="311"/>
                    </a:cubicBezTo>
                    <a:cubicBezTo>
                      <a:pt x="271" y="312"/>
                      <a:pt x="285" y="312"/>
                      <a:pt x="309" y="305"/>
                    </a:cubicBezTo>
                    <a:cubicBezTo>
                      <a:pt x="333" y="298"/>
                      <a:pt x="378" y="282"/>
                      <a:pt x="401" y="271"/>
                    </a:cubicBezTo>
                    <a:cubicBezTo>
                      <a:pt x="424" y="260"/>
                      <a:pt x="436" y="238"/>
                      <a:pt x="450" y="236"/>
                    </a:cubicBezTo>
                    <a:cubicBezTo>
                      <a:pt x="464" y="234"/>
                      <a:pt x="474" y="256"/>
                      <a:pt x="486" y="257"/>
                    </a:cubicBezTo>
                    <a:cubicBezTo>
                      <a:pt x="498" y="258"/>
                      <a:pt x="508" y="250"/>
                      <a:pt x="522" y="242"/>
                    </a:cubicBezTo>
                    <a:cubicBezTo>
                      <a:pt x="536" y="234"/>
                      <a:pt x="550" y="217"/>
                      <a:pt x="570" y="207"/>
                    </a:cubicBezTo>
                    <a:cubicBezTo>
                      <a:pt x="590" y="197"/>
                      <a:pt x="620" y="184"/>
                      <a:pt x="641" y="179"/>
                    </a:cubicBezTo>
                    <a:cubicBezTo>
                      <a:pt x="662" y="174"/>
                      <a:pt x="675" y="178"/>
                      <a:pt x="697" y="179"/>
                    </a:cubicBezTo>
                    <a:cubicBezTo>
                      <a:pt x="719" y="180"/>
                      <a:pt x="751" y="184"/>
                      <a:pt x="776" y="185"/>
                    </a:cubicBezTo>
                    <a:cubicBezTo>
                      <a:pt x="801" y="186"/>
                      <a:pt x="826" y="188"/>
                      <a:pt x="849" y="188"/>
                    </a:cubicBezTo>
                    <a:cubicBezTo>
                      <a:pt x="872" y="188"/>
                      <a:pt x="891" y="186"/>
                      <a:pt x="914" y="187"/>
                    </a:cubicBezTo>
                    <a:cubicBezTo>
                      <a:pt x="937" y="188"/>
                      <a:pt x="965" y="191"/>
                      <a:pt x="989" y="191"/>
                    </a:cubicBezTo>
                    <a:cubicBezTo>
                      <a:pt x="1013" y="191"/>
                      <a:pt x="1036" y="190"/>
                      <a:pt x="1061" y="190"/>
                    </a:cubicBezTo>
                    <a:cubicBezTo>
                      <a:pt x="1086" y="190"/>
                      <a:pt x="1125" y="198"/>
                      <a:pt x="1142" y="193"/>
                    </a:cubicBezTo>
                    <a:cubicBezTo>
                      <a:pt x="1159" y="188"/>
                      <a:pt x="1151" y="167"/>
                      <a:pt x="1163" y="158"/>
                    </a:cubicBezTo>
                    <a:cubicBezTo>
                      <a:pt x="1175" y="149"/>
                      <a:pt x="1198" y="140"/>
                      <a:pt x="1215" y="136"/>
                    </a:cubicBezTo>
                    <a:cubicBezTo>
                      <a:pt x="1232" y="132"/>
                      <a:pt x="1250" y="130"/>
                      <a:pt x="1268" y="131"/>
                    </a:cubicBezTo>
                    <a:cubicBezTo>
                      <a:pt x="1286" y="132"/>
                      <a:pt x="1307" y="144"/>
                      <a:pt x="1323" y="143"/>
                    </a:cubicBezTo>
                    <a:cubicBezTo>
                      <a:pt x="1339" y="142"/>
                      <a:pt x="1352" y="127"/>
                      <a:pt x="1364" y="128"/>
                    </a:cubicBezTo>
                    <a:cubicBezTo>
                      <a:pt x="1376" y="129"/>
                      <a:pt x="1384" y="141"/>
                      <a:pt x="1396" y="151"/>
                    </a:cubicBezTo>
                    <a:cubicBezTo>
                      <a:pt x="1408" y="161"/>
                      <a:pt x="1425" y="177"/>
                      <a:pt x="1438" y="186"/>
                    </a:cubicBezTo>
                    <a:cubicBezTo>
                      <a:pt x="1451" y="195"/>
                      <a:pt x="1459" y="201"/>
                      <a:pt x="1474" y="207"/>
                    </a:cubicBezTo>
                    <a:cubicBezTo>
                      <a:pt x="1489" y="213"/>
                      <a:pt x="1517" y="227"/>
                      <a:pt x="1530" y="222"/>
                    </a:cubicBezTo>
                    <a:cubicBezTo>
                      <a:pt x="1543" y="217"/>
                      <a:pt x="1544" y="191"/>
                      <a:pt x="1551" y="179"/>
                    </a:cubicBezTo>
                    <a:cubicBezTo>
                      <a:pt x="1558" y="167"/>
                      <a:pt x="1568" y="160"/>
                      <a:pt x="1575" y="151"/>
                    </a:cubicBezTo>
                    <a:cubicBezTo>
                      <a:pt x="1582" y="142"/>
                      <a:pt x="1584" y="131"/>
                      <a:pt x="1593" y="125"/>
                    </a:cubicBezTo>
                    <a:cubicBezTo>
                      <a:pt x="1602" y="119"/>
                      <a:pt x="1615" y="121"/>
                      <a:pt x="1629" y="116"/>
                    </a:cubicBezTo>
                    <a:cubicBezTo>
                      <a:pt x="1643" y="111"/>
                      <a:pt x="1657" y="100"/>
                      <a:pt x="1678" y="94"/>
                    </a:cubicBezTo>
                    <a:cubicBezTo>
                      <a:pt x="1699" y="88"/>
                      <a:pt x="1735" y="85"/>
                      <a:pt x="1756" y="80"/>
                    </a:cubicBezTo>
                    <a:cubicBezTo>
                      <a:pt x="1777" y="75"/>
                      <a:pt x="1778" y="73"/>
                      <a:pt x="1806" y="66"/>
                    </a:cubicBezTo>
                    <a:cubicBezTo>
                      <a:pt x="1834" y="59"/>
                      <a:pt x="1894" y="44"/>
                      <a:pt x="1926" y="38"/>
                    </a:cubicBezTo>
                    <a:cubicBezTo>
                      <a:pt x="1958" y="32"/>
                      <a:pt x="1977" y="34"/>
                      <a:pt x="1996" y="31"/>
                    </a:cubicBezTo>
                    <a:cubicBezTo>
                      <a:pt x="2015" y="28"/>
                      <a:pt x="2023" y="21"/>
                      <a:pt x="2038" y="17"/>
                    </a:cubicBezTo>
                    <a:cubicBezTo>
                      <a:pt x="2053" y="13"/>
                      <a:pt x="2070" y="12"/>
                      <a:pt x="2088" y="10"/>
                    </a:cubicBezTo>
                    <a:cubicBezTo>
                      <a:pt x="2106" y="8"/>
                      <a:pt x="2124" y="3"/>
                      <a:pt x="2144" y="3"/>
                    </a:cubicBezTo>
                    <a:cubicBezTo>
                      <a:pt x="2164" y="3"/>
                      <a:pt x="2193" y="0"/>
                      <a:pt x="2208" y="10"/>
                    </a:cubicBezTo>
                    <a:cubicBezTo>
                      <a:pt x="2223" y="20"/>
                      <a:pt x="2227" y="51"/>
                      <a:pt x="2235" y="64"/>
                    </a:cubicBezTo>
                    <a:cubicBezTo>
                      <a:pt x="2243" y="77"/>
                      <a:pt x="2246" y="86"/>
                      <a:pt x="2257" y="87"/>
                    </a:cubicBezTo>
                    <a:cubicBezTo>
                      <a:pt x="2268" y="88"/>
                      <a:pt x="2287" y="66"/>
                      <a:pt x="2300" y="73"/>
                    </a:cubicBezTo>
                    <a:cubicBezTo>
                      <a:pt x="2313" y="80"/>
                      <a:pt x="2323" y="113"/>
                      <a:pt x="2335" y="130"/>
                    </a:cubicBezTo>
                    <a:cubicBezTo>
                      <a:pt x="2347" y="147"/>
                      <a:pt x="2360" y="157"/>
                      <a:pt x="2370" y="172"/>
                    </a:cubicBezTo>
                    <a:cubicBezTo>
                      <a:pt x="2380" y="187"/>
                      <a:pt x="2378" y="204"/>
                      <a:pt x="2398" y="222"/>
                    </a:cubicBezTo>
                    <a:cubicBezTo>
                      <a:pt x="2418" y="240"/>
                      <a:pt x="2468" y="264"/>
                      <a:pt x="2490" y="278"/>
                    </a:cubicBezTo>
                    <a:cubicBezTo>
                      <a:pt x="2512" y="292"/>
                      <a:pt x="2519" y="299"/>
                      <a:pt x="2533" y="306"/>
                    </a:cubicBezTo>
                    <a:cubicBezTo>
                      <a:pt x="2547" y="313"/>
                      <a:pt x="2560" y="313"/>
                      <a:pt x="2575" y="320"/>
                    </a:cubicBezTo>
                    <a:cubicBezTo>
                      <a:pt x="2590" y="327"/>
                      <a:pt x="2605" y="341"/>
                      <a:pt x="2624" y="349"/>
                    </a:cubicBezTo>
                    <a:cubicBezTo>
                      <a:pt x="2643" y="357"/>
                      <a:pt x="2668" y="366"/>
                      <a:pt x="2688" y="370"/>
                    </a:cubicBezTo>
                    <a:cubicBezTo>
                      <a:pt x="2708" y="374"/>
                      <a:pt x="2728" y="369"/>
                      <a:pt x="2744" y="370"/>
                    </a:cubicBezTo>
                    <a:cubicBezTo>
                      <a:pt x="2760" y="371"/>
                      <a:pt x="2772" y="373"/>
                      <a:pt x="2787" y="377"/>
                    </a:cubicBezTo>
                    <a:cubicBezTo>
                      <a:pt x="2802" y="381"/>
                      <a:pt x="2821" y="385"/>
                      <a:pt x="2836" y="391"/>
                    </a:cubicBezTo>
                    <a:cubicBezTo>
                      <a:pt x="2851" y="397"/>
                      <a:pt x="2863" y="407"/>
                      <a:pt x="2878" y="412"/>
                    </a:cubicBezTo>
                    <a:cubicBezTo>
                      <a:pt x="2893" y="417"/>
                      <a:pt x="2909" y="423"/>
                      <a:pt x="2928" y="424"/>
                    </a:cubicBezTo>
                    <a:cubicBezTo>
                      <a:pt x="2947" y="425"/>
                      <a:pt x="2980" y="418"/>
                      <a:pt x="2991" y="419"/>
                    </a:cubicBezTo>
                    <a:cubicBezTo>
                      <a:pt x="3002" y="420"/>
                      <a:pt x="2985" y="422"/>
                      <a:pt x="2997" y="428"/>
                    </a:cubicBezTo>
                    <a:cubicBezTo>
                      <a:pt x="3009" y="434"/>
                      <a:pt x="3042" y="437"/>
                      <a:pt x="3062" y="454"/>
                    </a:cubicBezTo>
                    <a:cubicBezTo>
                      <a:pt x="3082" y="471"/>
                      <a:pt x="3102" y="517"/>
                      <a:pt x="3118" y="532"/>
                    </a:cubicBezTo>
                    <a:cubicBezTo>
                      <a:pt x="3134" y="547"/>
                      <a:pt x="3144" y="536"/>
                      <a:pt x="3161" y="546"/>
                    </a:cubicBezTo>
                    <a:cubicBezTo>
                      <a:pt x="3178" y="556"/>
                      <a:pt x="3199" y="576"/>
                      <a:pt x="3217" y="589"/>
                    </a:cubicBezTo>
                    <a:cubicBezTo>
                      <a:pt x="3235" y="602"/>
                      <a:pt x="3248" y="619"/>
                      <a:pt x="3267" y="626"/>
                    </a:cubicBezTo>
                    <a:cubicBezTo>
                      <a:pt x="3286" y="633"/>
                      <a:pt x="3308" y="631"/>
                      <a:pt x="3330" y="631"/>
                    </a:cubicBezTo>
                    <a:cubicBezTo>
                      <a:pt x="3352" y="631"/>
                      <a:pt x="3380" y="624"/>
                      <a:pt x="3399" y="628"/>
                    </a:cubicBezTo>
                    <a:cubicBezTo>
                      <a:pt x="3418" y="632"/>
                      <a:pt x="3428" y="654"/>
                      <a:pt x="3444" y="656"/>
                    </a:cubicBezTo>
                    <a:cubicBezTo>
                      <a:pt x="3460" y="658"/>
                      <a:pt x="3475" y="644"/>
                      <a:pt x="3493" y="638"/>
                    </a:cubicBezTo>
                    <a:cubicBezTo>
                      <a:pt x="3511" y="632"/>
                      <a:pt x="3534" y="622"/>
                      <a:pt x="3556" y="617"/>
                    </a:cubicBezTo>
                    <a:cubicBezTo>
                      <a:pt x="3578" y="612"/>
                      <a:pt x="3606" y="613"/>
                      <a:pt x="3627" y="610"/>
                    </a:cubicBezTo>
                    <a:cubicBezTo>
                      <a:pt x="3648" y="607"/>
                      <a:pt x="3665" y="602"/>
                      <a:pt x="3683" y="596"/>
                    </a:cubicBezTo>
                    <a:cubicBezTo>
                      <a:pt x="3701" y="590"/>
                      <a:pt x="3718" y="580"/>
                      <a:pt x="3733" y="574"/>
                    </a:cubicBezTo>
                    <a:cubicBezTo>
                      <a:pt x="3748" y="568"/>
                      <a:pt x="3764" y="561"/>
                      <a:pt x="3777" y="560"/>
                    </a:cubicBezTo>
                    <a:cubicBezTo>
                      <a:pt x="3790" y="559"/>
                      <a:pt x="3795" y="568"/>
                      <a:pt x="3813" y="566"/>
                    </a:cubicBezTo>
                    <a:cubicBezTo>
                      <a:pt x="3831" y="564"/>
                      <a:pt x="3869" y="553"/>
                      <a:pt x="3888" y="545"/>
                    </a:cubicBezTo>
                    <a:cubicBezTo>
                      <a:pt x="3907" y="537"/>
                      <a:pt x="3916" y="524"/>
                      <a:pt x="3930" y="515"/>
                    </a:cubicBezTo>
                    <a:cubicBezTo>
                      <a:pt x="3944" y="506"/>
                      <a:pt x="3955" y="499"/>
                      <a:pt x="3973" y="490"/>
                    </a:cubicBezTo>
                    <a:cubicBezTo>
                      <a:pt x="3991" y="481"/>
                      <a:pt x="4023" y="466"/>
                      <a:pt x="4040" y="460"/>
                    </a:cubicBezTo>
                    <a:cubicBezTo>
                      <a:pt x="4057" y="454"/>
                      <a:pt x="4060" y="454"/>
                      <a:pt x="4078" y="454"/>
                    </a:cubicBezTo>
                    <a:cubicBezTo>
                      <a:pt x="4096" y="454"/>
                      <a:pt x="4134" y="466"/>
                      <a:pt x="4149" y="462"/>
                    </a:cubicBezTo>
                    <a:cubicBezTo>
                      <a:pt x="4164" y="458"/>
                      <a:pt x="4157" y="435"/>
                      <a:pt x="4167" y="427"/>
                    </a:cubicBezTo>
                    <a:cubicBezTo>
                      <a:pt x="4177" y="419"/>
                      <a:pt x="4201" y="429"/>
                      <a:pt x="4209" y="416"/>
                    </a:cubicBezTo>
                    <a:cubicBezTo>
                      <a:pt x="4217" y="403"/>
                      <a:pt x="4212" y="367"/>
                      <a:pt x="4213" y="349"/>
                    </a:cubicBezTo>
                    <a:cubicBezTo>
                      <a:pt x="4214" y="331"/>
                      <a:pt x="4209" y="319"/>
                      <a:pt x="4213" y="306"/>
                    </a:cubicBezTo>
                    <a:cubicBezTo>
                      <a:pt x="4217" y="293"/>
                      <a:pt x="4226" y="279"/>
                      <a:pt x="4236" y="272"/>
                    </a:cubicBezTo>
                    <a:cubicBezTo>
                      <a:pt x="4246" y="265"/>
                      <a:pt x="4260" y="270"/>
                      <a:pt x="4272" y="266"/>
                    </a:cubicBezTo>
                    <a:cubicBezTo>
                      <a:pt x="4284" y="262"/>
                      <a:pt x="4296" y="256"/>
                      <a:pt x="4311" y="250"/>
                    </a:cubicBezTo>
                    <a:cubicBezTo>
                      <a:pt x="4326" y="244"/>
                      <a:pt x="4346" y="231"/>
                      <a:pt x="4361" y="229"/>
                    </a:cubicBezTo>
                    <a:cubicBezTo>
                      <a:pt x="4376" y="227"/>
                      <a:pt x="4386" y="232"/>
                      <a:pt x="4404" y="236"/>
                    </a:cubicBezTo>
                    <a:cubicBezTo>
                      <a:pt x="4422" y="240"/>
                      <a:pt x="4448" y="248"/>
                      <a:pt x="4467" y="250"/>
                    </a:cubicBezTo>
                    <a:cubicBezTo>
                      <a:pt x="4486" y="252"/>
                      <a:pt x="4501" y="250"/>
                      <a:pt x="4516" y="250"/>
                    </a:cubicBezTo>
                    <a:cubicBezTo>
                      <a:pt x="4531" y="250"/>
                      <a:pt x="4545" y="249"/>
                      <a:pt x="4560" y="251"/>
                    </a:cubicBezTo>
                    <a:cubicBezTo>
                      <a:pt x="4575" y="253"/>
                      <a:pt x="4594" y="257"/>
                      <a:pt x="4605" y="263"/>
                    </a:cubicBezTo>
                    <a:cubicBezTo>
                      <a:pt x="4616" y="269"/>
                      <a:pt x="4625" y="273"/>
                      <a:pt x="4629" y="285"/>
                    </a:cubicBezTo>
                    <a:cubicBezTo>
                      <a:pt x="4633" y="297"/>
                      <a:pt x="4628" y="312"/>
                      <a:pt x="4629" y="334"/>
                    </a:cubicBezTo>
                    <a:cubicBezTo>
                      <a:pt x="4630" y="356"/>
                      <a:pt x="4624" y="388"/>
                      <a:pt x="4635" y="416"/>
                    </a:cubicBezTo>
                    <a:cubicBezTo>
                      <a:pt x="4646" y="444"/>
                      <a:pt x="4670" y="468"/>
                      <a:pt x="4695" y="503"/>
                    </a:cubicBezTo>
                    <a:cubicBezTo>
                      <a:pt x="4720" y="538"/>
                      <a:pt x="4769" y="603"/>
                      <a:pt x="4788" y="629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flipH="1">
              <a:off x="0" y="2486160"/>
              <a:ext cx="457200" cy="12384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164200" y="6350040"/>
              <a:ext cx="85680" cy="50796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wing the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78600" cy="32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esentation contains Binni scenario maps for the CoAX 2002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ps are built up as separate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the Slideshow and then use the buttons on the right (which become 'hotlinks') to see the different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version uses the real Red Sea coas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7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7823520" y="6515280"/>
            <a:ext cx="1081440" cy="246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d Slides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070320"/>
            <a:ext cx="420372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S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9320" y="39600"/>
            <a:ext cx="9045360" cy="6140520"/>
            <a:chOff x="49320" y="39600"/>
            <a:chExt cx="9045360" cy="6140520"/>
          </a:xfrm>
        </p:grpSpPr>
        <p:pic>
          <p:nvPicPr>
            <p:cNvPr id="141" name="BINNI_Map" descr=""/>
            <p:cNvPicPr/>
            <p:nvPr/>
          </p:nvPicPr>
          <p:blipFill>
            <a:blip r:embed="rId2"/>
            <a:stretch/>
          </p:blipFill>
          <p:spPr>
            <a:xfrm>
              <a:off x="63360" y="39600"/>
              <a:ext cx="9031320" cy="614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49320" y="595440"/>
              <a:ext cx="6441840" cy="5277960"/>
              <a:chOff x="49320" y="595440"/>
              <a:chExt cx="6441840" cy="5277960"/>
            </a:xfrm>
          </p:grpSpPr>
          <p:sp>
            <p:nvSpPr>
              <p:cNvPr id="143" name=""/>
              <p:cNvSpPr/>
              <p:nvPr/>
            </p:nvSpPr>
            <p:spPr>
              <a:xfrm>
                <a:off x="120600" y="614520"/>
                <a:ext cx="6370560" cy="5194080"/>
              </a:xfrm>
              <a:custGeom>
                <a:avLst/>
                <a:gdLst/>
                <a:ahLst/>
                <a:rect l="l" t="t" r="r" b="b"/>
                <a:pathLst>
                  <a:path w="4013" h="3272">
                    <a:moveTo>
                      <a:pt x="517" y="3240"/>
                    </a:moveTo>
                    <a:lnTo>
                      <a:pt x="318" y="2486"/>
                    </a:lnTo>
                    <a:lnTo>
                      <a:pt x="278" y="2436"/>
                    </a:lnTo>
                    <a:lnTo>
                      <a:pt x="302" y="2393"/>
                    </a:lnTo>
                    <a:lnTo>
                      <a:pt x="263" y="2215"/>
                    </a:lnTo>
                    <a:lnTo>
                      <a:pt x="234" y="2191"/>
                    </a:lnTo>
                    <a:lnTo>
                      <a:pt x="232" y="2133"/>
                    </a:lnTo>
                    <a:lnTo>
                      <a:pt x="204" y="2044"/>
                    </a:lnTo>
                    <a:lnTo>
                      <a:pt x="177" y="1964"/>
                    </a:lnTo>
                    <a:lnTo>
                      <a:pt x="196" y="1918"/>
                    </a:lnTo>
                    <a:lnTo>
                      <a:pt x="145" y="1862"/>
                    </a:lnTo>
                    <a:lnTo>
                      <a:pt x="125" y="1822"/>
                    </a:lnTo>
                    <a:lnTo>
                      <a:pt x="87" y="1800"/>
                    </a:lnTo>
                    <a:lnTo>
                      <a:pt x="7" y="1700"/>
                    </a:lnTo>
                    <a:lnTo>
                      <a:pt x="0" y="1561"/>
                    </a:lnTo>
                    <a:lnTo>
                      <a:pt x="29" y="1536"/>
                    </a:lnTo>
                    <a:lnTo>
                      <a:pt x="77" y="1541"/>
                    </a:lnTo>
                    <a:lnTo>
                      <a:pt x="121" y="1553"/>
                    </a:lnTo>
                    <a:lnTo>
                      <a:pt x="164" y="1541"/>
                    </a:lnTo>
                    <a:lnTo>
                      <a:pt x="208" y="1552"/>
                    </a:lnTo>
                    <a:lnTo>
                      <a:pt x="238" y="1544"/>
                    </a:lnTo>
                    <a:lnTo>
                      <a:pt x="271" y="1516"/>
                    </a:lnTo>
                    <a:lnTo>
                      <a:pt x="283" y="1471"/>
                    </a:lnTo>
                    <a:lnTo>
                      <a:pt x="300" y="1435"/>
                    </a:lnTo>
                    <a:lnTo>
                      <a:pt x="315" y="1385"/>
                    </a:lnTo>
                    <a:lnTo>
                      <a:pt x="339" y="1341"/>
                    </a:lnTo>
                    <a:lnTo>
                      <a:pt x="349" y="1274"/>
                    </a:lnTo>
                    <a:lnTo>
                      <a:pt x="375" y="1245"/>
                    </a:lnTo>
                    <a:lnTo>
                      <a:pt x="407" y="1218"/>
                    </a:lnTo>
                    <a:lnTo>
                      <a:pt x="433" y="1215"/>
                    </a:lnTo>
                    <a:lnTo>
                      <a:pt x="475" y="1217"/>
                    </a:lnTo>
                    <a:lnTo>
                      <a:pt x="510" y="1208"/>
                    </a:lnTo>
                    <a:lnTo>
                      <a:pt x="516" y="1165"/>
                    </a:lnTo>
                    <a:lnTo>
                      <a:pt x="553" y="1183"/>
                    </a:lnTo>
                    <a:lnTo>
                      <a:pt x="596" y="1153"/>
                    </a:lnTo>
                    <a:lnTo>
                      <a:pt x="619" y="1169"/>
                    </a:lnTo>
                    <a:lnTo>
                      <a:pt x="647" y="1154"/>
                    </a:lnTo>
                    <a:lnTo>
                      <a:pt x="685" y="1161"/>
                    </a:lnTo>
                    <a:lnTo>
                      <a:pt x="711" y="1154"/>
                    </a:lnTo>
                    <a:lnTo>
                      <a:pt x="736" y="1147"/>
                    </a:lnTo>
                    <a:lnTo>
                      <a:pt x="789" y="1156"/>
                    </a:lnTo>
                    <a:lnTo>
                      <a:pt x="790" y="1110"/>
                    </a:lnTo>
                    <a:lnTo>
                      <a:pt x="822" y="1138"/>
                    </a:lnTo>
                    <a:lnTo>
                      <a:pt x="827" y="1177"/>
                    </a:lnTo>
                    <a:lnTo>
                      <a:pt x="849" y="1154"/>
                    </a:lnTo>
                    <a:lnTo>
                      <a:pt x="882" y="1158"/>
                    </a:lnTo>
                    <a:lnTo>
                      <a:pt x="937" y="1157"/>
                    </a:lnTo>
                    <a:lnTo>
                      <a:pt x="910" y="1109"/>
                    </a:lnTo>
                    <a:lnTo>
                      <a:pt x="875" y="1096"/>
                    </a:lnTo>
                    <a:lnTo>
                      <a:pt x="843" y="1082"/>
                    </a:lnTo>
                    <a:lnTo>
                      <a:pt x="824" y="1046"/>
                    </a:lnTo>
                    <a:lnTo>
                      <a:pt x="828" y="1012"/>
                    </a:lnTo>
                    <a:lnTo>
                      <a:pt x="845" y="985"/>
                    </a:lnTo>
                    <a:lnTo>
                      <a:pt x="886" y="955"/>
                    </a:lnTo>
                    <a:lnTo>
                      <a:pt x="929" y="976"/>
                    </a:lnTo>
                    <a:lnTo>
                      <a:pt x="974" y="973"/>
                    </a:lnTo>
                    <a:lnTo>
                      <a:pt x="1017" y="980"/>
                    </a:lnTo>
                    <a:lnTo>
                      <a:pt x="1051" y="984"/>
                    </a:lnTo>
                    <a:lnTo>
                      <a:pt x="1080" y="990"/>
                    </a:lnTo>
                    <a:lnTo>
                      <a:pt x="1115" y="935"/>
                    </a:lnTo>
                    <a:lnTo>
                      <a:pt x="1159" y="910"/>
                    </a:lnTo>
                    <a:lnTo>
                      <a:pt x="1211" y="913"/>
                    </a:lnTo>
                    <a:lnTo>
                      <a:pt x="1235" y="939"/>
                    </a:lnTo>
                    <a:lnTo>
                      <a:pt x="1281" y="954"/>
                    </a:lnTo>
                    <a:lnTo>
                      <a:pt x="1309" y="905"/>
                    </a:lnTo>
                    <a:lnTo>
                      <a:pt x="1321" y="879"/>
                    </a:lnTo>
                    <a:lnTo>
                      <a:pt x="1348" y="812"/>
                    </a:lnTo>
                    <a:lnTo>
                      <a:pt x="1367" y="780"/>
                    </a:lnTo>
                    <a:lnTo>
                      <a:pt x="1390" y="764"/>
                    </a:lnTo>
                    <a:lnTo>
                      <a:pt x="1411" y="740"/>
                    </a:lnTo>
                    <a:lnTo>
                      <a:pt x="1437" y="714"/>
                    </a:lnTo>
                    <a:lnTo>
                      <a:pt x="1461" y="700"/>
                    </a:lnTo>
                    <a:lnTo>
                      <a:pt x="1483" y="734"/>
                    </a:lnTo>
                    <a:lnTo>
                      <a:pt x="1514" y="749"/>
                    </a:lnTo>
                    <a:lnTo>
                      <a:pt x="1561" y="750"/>
                    </a:lnTo>
                    <a:lnTo>
                      <a:pt x="1641" y="724"/>
                    </a:lnTo>
                    <a:lnTo>
                      <a:pt x="1695" y="701"/>
                    </a:lnTo>
                    <a:lnTo>
                      <a:pt x="1771" y="680"/>
                    </a:lnTo>
                    <a:lnTo>
                      <a:pt x="1839" y="675"/>
                    </a:lnTo>
                    <a:lnTo>
                      <a:pt x="1881" y="696"/>
                    </a:lnTo>
                    <a:lnTo>
                      <a:pt x="1913" y="710"/>
                    </a:lnTo>
                    <a:lnTo>
                      <a:pt x="1948" y="706"/>
                    </a:lnTo>
                    <a:lnTo>
                      <a:pt x="1974" y="684"/>
                    </a:lnTo>
                    <a:lnTo>
                      <a:pt x="1974" y="648"/>
                    </a:lnTo>
                    <a:lnTo>
                      <a:pt x="1975" y="620"/>
                    </a:lnTo>
                    <a:lnTo>
                      <a:pt x="2033" y="595"/>
                    </a:lnTo>
                    <a:lnTo>
                      <a:pt x="2085" y="586"/>
                    </a:lnTo>
                    <a:lnTo>
                      <a:pt x="2131" y="600"/>
                    </a:lnTo>
                    <a:lnTo>
                      <a:pt x="2197" y="592"/>
                    </a:lnTo>
                    <a:lnTo>
                      <a:pt x="2263" y="597"/>
                    </a:lnTo>
                    <a:lnTo>
                      <a:pt x="2320" y="587"/>
                    </a:lnTo>
                    <a:lnTo>
                      <a:pt x="2334" y="537"/>
                    </a:lnTo>
                    <a:lnTo>
                      <a:pt x="2366" y="505"/>
                    </a:lnTo>
                    <a:lnTo>
                      <a:pt x="2408" y="489"/>
                    </a:lnTo>
                    <a:lnTo>
                      <a:pt x="2432" y="478"/>
                    </a:lnTo>
                    <a:lnTo>
                      <a:pt x="2443" y="448"/>
                    </a:lnTo>
                    <a:lnTo>
                      <a:pt x="2492" y="407"/>
                    </a:lnTo>
                    <a:lnTo>
                      <a:pt x="2505" y="357"/>
                    </a:lnTo>
                    <a:lnTo>
                      <a:pt x="2522" y="316"/>
                    </a:lnTo>
                    <a:lnTo>
                      <a:pt x="2530" y="277"/>
                    </a:lnTo>
                    <a:lnTo>
                      <a:pt x="2527" y="251"/>
                    </a:lnTo>
                    <a:lnTo>
                      <a:pt x="2548" y="208"/>
                    </a:lnTo>
                    <a:lnTo>
                      <a:pt x="2574" y="169"/>
                    </a:lnTo>
                    <a:lnTo>
                      <a:pt x="2597" y="153"/>
                    </a:lnTo>
                    <a:lnTo>
                      <a:pt x="2594" y="105"/>
                    </a:lnTo>
                    <a:lnTo>
                      <a:pt x="2597" y="0"/>
                    </a:lnTo>
                    <a:lnTo>
                      <a:pt x="2663" y="60"/>
                    </a:lnTo>
                    <a:lnTo>
                      <a:pt x="2711" y="102"/>
                    </a:lnTo>
                    <a:lnTo>
                      <a:pt x="2699" y="129"/>
                    </a:lnTo>
                    <a:lnTo>
                      <a:pt x="2672" y="114"/>
                    </a:lnTo>
                    <a:lnTo>
                      <a:pt x="2654" y="84"/>
                    </a:lnTo>
                    <a:lnTo>
                      <a:pt x="2624" y="66"/>
                    </a:lnTo>
                    <a:lnTo>
                      <a:pt x="2627" y="126"/>
                    </a:lnTo>
                    <a:lnTo>
                      <a:pt x="2645" y="159"/>
                    </a:lnTo>
                    <a:lnTo>
                      <a:pt x="2657" y="222"/>
                    </a:lnTo>
                    <a:lnTo>
                      <a:pt x="2681" y="276"/>
                    </a:lnTo>
                    <a:lnTo>
                      <a:pt x="2699" y="324"/>
                    </a:lnTo>
                    <a:lnTo>
                      <a:pt x="2711" y="381"/>
                    </a:lnTo>
                    <a:lnTo>
                      <a:pt x="2705" y="453"/>
                    </a:lnTo>
                    <a:lnTo>
                      <a:pt x="2717" y="504"/>
                    </a:lnTo>
                    <a:lnTo>
                      <a:pt x="2726" y="546"/>
                    </a:lnTo>
                    <a:lnTo>
                      <a:pt x="2717" y="585"/>
                    </a:lnTo>
                    <a:lnTo>
                      <a:pt x="2762" y="639"/>
                    </a:lnTo>
                    <a:lnTo>
                      <a:pt x="2765" y="699"/>
                    </a:lnTo>
                    <a:lnTo>
                      <a:pt x="2765" y="750"/>
                    </a:lnTo>
                    <a:lnTo>
                      <a:pt x="2795" y="774"/>
                    </a:lnTo>
                    <a:lnTo>
                      <a:pt x="2789" y="816"/>
                    </a:lnTo>
                    <a:lnTo>
                      <a:pt x="2807" y="870"/>
                    </a:lnTo>
                    <a:lnTo>
                      <a:pt x="2819" y="930"/>
                    </a:lnTo>
                    <a:lnTo>
                      <a:pt x="2846" y="984"/>
                    </a:lnTo>
                    <a:lnTo>
                      <a:pt x="2876" y="1053"/>
                    </a:lnTo>
                    <a:lnTo>
                      <a:pt x="2909" y="1107"/>
                    </a:lnTo>
                    <a:lnTo>
                      <a:pt x="2972" y="1095"/>
                    </a:lnTo>
                    <a:lnTo>
                      <a:pt x="2990" y="1074"/>
                    </a:lnTo>
                    <a:lnTo>
                      <a:pt x="3011" y="1083"/>
                    </a:lnTo>
                    <a:lnTo>
                      <a:pt x="2993" y="1107"/>
                    </a:lnTo>
                    <a:lnTo>
                      <a:pt x="3011" y="1125"/>
                    </a:lnTo>
                    <a:lnTo>
                      <a:pt x="3062" y="1146"/>
                    </a:lnTo>
                    <a:lnTo>
                      <a:pt x="3104" y="1158"/>
                    </a:lnTo>
                    <a:lnTo>
                      <a:pt x="3134" y="1200"/>
                    </a:lnTo>
                    <a:lnTo>
                      <a:pt x="3167" y="1221"/>
                    </a:lnTo>
                    <a:lnTo>
                      <a:pt x="3161" y="1242"/>
                    </a:lnTo>
                    <a:lnTo>
                      <a:pt x="3176" y="1284"/>
                    </a:lnTo>
                    <a:lnTo>
                      <a:pt x="3215" y="1293"/>
                    </a:lnTo>
                    <a:lnTo>
                      <a:pt x="3245" y="1266"/>
                    </a:lnTo>
                    <a:lnTo>
                      <a:pt x="3245" y="1308"/>
                    </a:lnTo>
                    <a:lnTo>
                      <a:pt x="3275" y="1314"/>
                    </a:lnTo>
                    <a:lnTo>
                      <a:pt x="3293" y="1299"/>
                    </a:lnTo>
                    <a:lnTo>
                      <a:pt x="3308" y="1326"/>
                    </a:lnTo>
                    <a:lnTo>
                      <a:pt x="3332" y="1347"/>
                    </a:lnTo>
                    <a:lnTo>
                      <a:pt x="3368" y="1335"/>
                    </a:lnTo>
                    <a:lnTo>
                      <a:pt x="3410" y="1392"/>
                    </a:lnTo>
                    <a:lnTo>
                      <a:pt x="3455" y="1476"/>
                    </a:lnTo>
                    <a:lnTo>
                      <a:pt x="3500" y="1518"/>
                    </a:lnTo>
                    <a:lnTo>
                      <a:pt x="3533" y="1569"/>
                    </a:lnTo>
                    <a:lnTo>
                      <a:pt x="3566" y="1617"/>
                    </a:lnTo>
                    <a:lnTo>
                      <a:pt x="3578" y="1656"/>
                    </a:lnTo>
                    <a:lnTo>
                      <a:pt x="3605" y="1719"/>
                    </a:lnTo>
                    <a:lnTo>
                      <a:pt x="3632" y="1779"/>
                    </a:lnTo>
                    <a:lnTo>
                      <a:pt x="3650" y="1839"/>
                    </a:lnTo>
                    <a:lnTo>
                      <a:pt x="3668" y="1875"/>
                    </a:lnTo>
                    <a:lnTo>
                      <a:pt x="3680" y="1902"/>
                    </a:lnTo>
                    <a:lnTo>
                      <a:pt x="3698" y="1953"/>
                    </a:lnTo>
                    <a:lnTo>
                      <a:pt x="3713" y="2007"/>
                    </a:lnTo>
                    <a:lnTo>
                      <a:pt x="3734" y="2055"/>
                    </a:lnTo>
                    <a:lnTo>
                      <a:pt x="3743" y="2112"/>
                    </a:lnTo>
                    <a:lnTo>
                      <a:pt x="3752" y="2160"/>
                    </a:lnTo>
                    <a:lnTo>
                      <a:pt x="3773" y="2199"/>
                    </a:lnTo>
                    <a:lnTo>
                      <a:pt x="3779" y="2229"/>
                    </a:lnTo>
                    <a:lnTo>
                      <a:pt x="3797" y="2259"/>
                    </a:lnTo>
                    <a:lnTo>
                      <a:pt x="3806" y="2286"/>
                    </a:lnTo>
                    <a:lnTo>
                      <a:pt x="3866" y="2316"/>
                    </a:lnTo>
                    <a:lnTo>
                      <a:pt x="3878" y="2361"/>
                    </a:lnTo>
                    <a:lnTo>
                      <a:pt x="3914" y="2418"/>
                    </a:lnTo>
                    <a:lnTo>
                      <a:pt x="3953" y="2445"/>
                    </a:lnTo>
                    <a:lnTo>
                      <a:pt x="3983" y="2502"/>
                    </a:lnTo>
                    <a:lnTo>
                      <a:pt x="4013" y="2547"/>
                    </a:lnTo>
                    <a:lnTo>
                      <a:pt x="4004" y="2592"/>
                    </a:lnTo>
                    <a:lnTo>
                      <a:pt x="3926" y="2532"/>
                    </a:lnTo>
                    <a:lnTo>
                      <a:pt x="3889" y="2503"/>
                    </a:lnTo>
                    <a:lnTo>
                      <a:pt x="3852" y="2464"/>
                    </a:lnTo>
                    <a:lnTo>
                      <a:pt x="3834" y="2403"/>
                    </a:lnTo>
                    <a:lnTo>
                      <a:pt x="3816" y="2371"/>
                    </a:lnTo>
                    <a:lnTo>
                      <a:pt x="3786" y="2361"/>
                    </a:lnTo>
                    <a:lnTo>
                      <a:pt x="3750" y="2380"/>
                    </a:lnTo>
                    <a:lnTo>
                      <a:pt x="3721" y="2392"/>
                    </a:lnTo>
                    <a:lnTo>
                      <a:pt x="3679" y="2390"/>
                    </a:lnTo>
                    <a:lnTo>
                      <a:pt x="3633" y="2393"/>
                    </a:lnTo>
                    <a:lnTo>
                      <a:pt x="3600" y="2420"/>
                    </a:lnTo>
                    <a:lnTo>
                      <a:pt x="3546" y="2448"/>
                    </a:lnTo>
                    <a:lnTo>
                      <a:pt x="3532" y="2493"/>
                    </a:lnTo>
                    <a:lnTo>
                      <a:pt x="3551" y="2530"/>
                    </a:lnTo>
                    <a:lnTo>
                      <a:pt x="3555" y="2561"/>
                    </a:lnTo>
                    <a:lnTo>
                      <a:pt x="3519" y="2580"/>
                    </a:lnTo>
                    <a:lnTo>
                      <a:pt x="3515" y="2613"/>
                    </a:lnTo>
                    <a:lnTo>
                      <a:pt x="3469" y="2618"/>
                    </a:lnTo>
                    <a:lnTo>
                      <a:pt x="3432" y="2630"/>
                    </a:lnTo>
                    <a:lnTo>
                      <a:pt x="3407" y="2656"/>
                    </a:lnTo>
                    <a:lnTo>
                      <a:pt x="3379" y="2691"/>
                    </a:lnTo>
                    <a:lnTo>
                      <a:pt x="3320" y="2725"/>
                    </a:lnTo>
                    <a:lnTo>
                      <a:pt x="3272" y="2752"/>
                    </a:lnTo>
                    <a:lnTo>
                      <a:pt x="3211" y="2796"/>
                    </a:lnTo>
                    <a:lnTo>
                      <a:pt x="3157" y="2820"/>
                    </a:lnTo>
                    <a:lnTo>
                      <a:pt x="3124" y="2833"/>
                    </a:lnTo>
                    <a:lnTo>
                      <a:pt x="3084" y="2871"/>
                    </a:lnTo>
                    <a:lnTo>
                      <a:pt x="3052" y="2878"/>
                    </a:lnTo>
                    <a:lnTo>
                      <a:pt x="3023" y="2869"/>
                    </a:lnTo>
                    <a:lnTo>
                      <a:pt x="2991" y="2883"/>
                    </a:lnTo>
                    <a:lnTo>
                      <a:pt x="2921" y="2897"/>
                    </a:lnTo>
                    <a:lnTo>
                      <a:pt x="2871" y="2878"/>
                    </a:lnTo>
                    <a:lnTo>
                      <a:pt x="2839" y="2864"/>
                    </a:lnTo>
                    <a:lnTo>
                      <a:pt x="2805" y="2860"/>
                    </a:lnTo>
                    <a:lnTo>
                      <a:pt x="2754" y="2823"/>
                    </a:lnTo>
                    <a:lnTo>
                      <a:pt x="2717" y="2806"/>
                    </a:lnTo>
                    <a:lnTo>
                      <a:pt x="2677" y="2811"/>
                    </a:lnTo>
                    <a:lnTo>
                      <a:pt x="2626" y="2825"/>
                    </a:lnTo>
                    <a:lnTo>
                      <a:pt x="2574" y="2821"/>
                    </a:lnTo>
                    <a:lnTo>
                      <a:pt x="2528" y="2820"/>
                    </a:lnTo>
                    <a:lnTo>
                      <a:pt x="2461" y="2836"/>
                    </a:lnTo>
                    <a:lnTo>
                      <a:pt x="2404" y="2821"/>
                    </a:lnTo>
                    <a:lnTo>
                      <a:pt x="2343" y="2811"/>
                    </a:lnTo>
                    <a:lnTo>
                      <a:pt x="2269" y="2793"/>
                    </a:lnTo>
                    <a:lnTo>
                      <a:pt x="2232" y="2776"/>
                    </a:lnTo>
                    <a:lnTo>
                      <a:pt x="2196" y="2745"/>
                    </a:lnTo>
                    <a:lnTo>
                      <a:pt x="2162" y="2722"/>
                    </a:lnTo>
                    <a:lnTo>
                      <a:pt x="2128" y="2694"/>
                    </a:lnTo>
                    <a:lnTo>
                      <a:pt x="2100" y="2710"/>
                    </a:lnTo>
                    <a:lnTo>
                      <a:pt x="2069" y="2683"/>
                    </a:lnTo>
                    <a:lnTo>
                      <a:pt x="2040" y="2662"/>
                    </a:lnTo>
                    <a:lnTo>
                      <a:pt x="1981" y="2679"/>
                    </a:lnTo>
                    <a:lnTo>
                      <a:pt x="1924" y="2707"/>
                    </a:lnTo>
                    <a:lnTo>
                      <a:pt x="1866" y="2746"/>
                    </a:lnTo>
                    <a:lnTo>
                      <a:pt x="1770" y="2781"/>
                    </a:lnTo>
                    <a:lnTo>
                      <a:pt x="1723" y="2808"/>
                    </a:lnTo>
                    <a:lnTo>
                      <a:pt x="1687" y="2831"/>
                    </a:lnTo>
                    <a:lnTo>
                      <a:pt x="1645" y="2861"/>
                    </a:lnTo>
                    <a:lnTo>
                      <a:pt x="1608" y="2930"/>
                    </a:lnTo>
                    <a:lnTo>
                      <a:pt x="1597" y="2956"/>
                    </a:lnTo>
                    <a:lnTo>
                      <a:pt x="1535" y="2946"/>
                    </a:lnTo>
                    <a:lnTo>
                      <a:pt x="1490" y="2917"/>
                    </a:lnTo>
                    <a:lnTo>
                      <a:pt x="1452" y="2931"/>
                    </a:lnTo>
                    <a:lnTo>
                      <a:pt x="1398" y="2932"/>
                    </a:lnTo>
                    <a:lnTo>
                      <a:pt x="1346" y="2960"/>
                    </a:lnTo>
                    <a:lnTo>
                      <a:pt x="1321" y="3004"/>
                    </a:lnTo>
                    <a:lnTo>
                      <a:pt x="1267" y="3023"/>
                    </a:lnTo>
                    <a:lnTo>
                      <a:pt x="1172" y="3048"/>
                    </a:lnTo>
                    <a:lnTo>
                      <a:pt x="1129" y="3056"/>
                    </a:lnTo>
                    <a:lnTo>
                      <a:pt x="1037" y="3073"/>
                    </a:lnTo>
                    <a:lnTo>
                      <a:pt x="972" y="3089"/>
                    </a:lnTo>
                    <a:lnTo>
                      <a:pt x="910" y="3133"/>
                    </a:lnTo>
                    <a:lnTo>
                      <a:pt x="886" y="3176"/>
                    </a:lnTo>
                    <a:lnTo>
                      <a:pt x="842" y="3169"/>
                    </a:lnTo>
                    <a:lnTo>
                      <a:pt x="802" y="3215"/>
                    </a:lnTo>
                    <a:lnTo>
                      <a:pt x="743" y="3261"/>
                    </a:lnTo>
                    <a:lnTo>
                      <a:pt x="688" y="3262"/>
                    </a:lnTo>
                    <a:lnTo>
                      <a:pt x="624" y="3272"/>
                    </a:lnTo>
                    <a:lnTo>
                      <a:pt x="573" y="3257"/>
                    </a:lnTo>
                    <a:lnTo>
                      <a:pt x="517" y="32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692800">
                <a:off x="663480" y="3755520"/>
                <a:ext cx="2563920" cy="1814760"/>
              </a:xfrm>
              <a:custGeom>
                <a:avLst/>
                <a:gdLst/>
                <a:ahLst/>
                <a:rect l="l" t="t" r="r" b="b"/>
                <a:pathLst>
                  <a:path w="2188" h="1548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2" y="1428"/>
                    </a:lnTo>
                    <a:lnTo>
                      <a:pt x="1456" y="1408"/>
                    </a:lnTo>
                    <a:lnTo>
                      <a:pt x="1436" y="1392"/>
                    </a:lnTo>
                    <a:lnTo>
                      <a:pt x="1408" y="1364"/>
                    </a:lnTo>
                    <a:lnTo>
                      <a:pt x="1384" y="1348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196" y="1376"/>
                    </a:lnTo>
                    <a:lnTo>
                      <a:pt x="1176" y="1404"/>
                    </a:lnTo>
                    <a:lnTo>
                      <a:pt x="1156" y="1424"/>
                    </a:lnTo>
                    <a:lnTo>
                      <a:pt x="1100" y="1428"/>
                    </a:lnTo>
                    <a:lnTo>
                      <a:pt x="1076" y="1428"/>
                    </a:lnTo>
                    <a:lnTo>
                      <a:pt x="1048" y="1432"/>
                    </a:lnTo>
                    <a:lnTo>
                      <a:pt x="1024" y="1436"/>
                    </a:lnTo>
                    <a:lnTo>
                      <a:pt x="976" y="1432"/>
                    </a:lnTo>
                    <a:lnTo>
                      <a:pt x="952" y="1420"/>
                    </a:lnTo>
                    <a:lnTo>
                      <a:pt x="928" y="1412"/>
                    </a:lnTo>
                    <a:lnTo>
                      <a:pt x="904" y="1424"/>
                    </a:lnTo>
                    <a:lnTo>
                      <a:pt x="864" y="1436"/>
                    </a:lnTo>
                    <a:lnTo>
                      <a:pt x="832" y="1420"/>
                    </a:lnTo>
                    <a:lnTo>
                      <a:pt x="808" y="1416"/>
                    </a:lnTo>
                    <a:lnTo>
                      <a:pt x="784" y="1408"/>
                    </a:lnTo>
                    <a:lnTo>
                      <a:pt x="716" y="1396"/>
                    </a:lnTo>
                    <a:lnTo>
                      <a:pt x="692" y="1396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lnTo>
                      <a:pt x="560" y="1488"/>
                    </a:lnTo>
                    <a:cubicBezTo>
                      <a:pt x="551" y="1488"/>
                      <a:pt x="541" y="1488"/>
                      <a:pt x="532" y="1488"/>
                    </a:cubicBezTo>
                    <a:lnTo>
                      <a:pt x="508" y="1480"/>
                    </a:lnTo>
                    <a:lnTo>
                      <a:pt x="476" y="1460"/>
                    </a:lnTo>
                    <a:lnTo>
                      <a:pt x="412" y="1500"/>
                    </a:lnTo>
                    <a:lnTo>
                      <a:pt x="380" y="1524"/>
                    </a:lnTo>
                    <a:lnTo>
                      <a:pt x="356" y="1548"/>
                    </a:lnTo>
                    <a:lnTo>
                      <a:pt x="304" y="1548"/>
                    </a:lnTo>
                    <a:lnTo>
                      <a:pt x="252" y="1536"/>
                    </a:lnTo>
                    <a:lnTo>
                      <a:pt x="212" y="1532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4" y="1468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692800">
                <a:off x="180720" y="2873160"/>
                <a:ext cx="820800" cy="1118880"/>
              </a:xfrm>
              <a:custGeom>
                <a:avLst/>
                <a:gdLst/>
                <a:ahLst/>
                <a:rect l="l" t="t" r="r" b="b"/>
                <a:pathLst>
                  <a:path w="700" h="956">
                    <a:moveTo>
                      <a:pt x="140" y="940"/>
                    </a:moveTo>
                    <a:lnTo>
                      <a:pt x="176" y="956"/>
                    </a:lnTo>
                    <a:lnTo>
                      <a:pt x="236" y="952"/>
                    </a:lnTo>
                    <a:lnTo>
                      <a:pt x="264" y="932"/>
                    </a:lnTo>
                    <a:lnTo>
                      <a:pt x="300" y="944"/>
                    </a:lnTo>
                    <a:lnTo>
                      <a:pt x="340" y="956"/>
                    </a:lnTo>
                    <a:lnTo>
                      <a:pt x="376" y="956"/>
                    </a:lnTo>
                    <a:lnTo>
                      <a:pt x="396" y="924"/>
                    </a:lnTo>
                    <a:lnTo>
                      <a:pt x="372" y="888"/>
                    </a:lnTo>
                    <a:lnTo>
                      <a:pt x="376" y="852"/>
                    </a:lnTo>
                    <a:lnTo>
                      <a:pt x="412" y="844"/>
                    </a:lnTo>
                    <a:lnTo>
                      <a:pt x="432" y="860"/>
                    </a:lnTo>
                    <a:lnTo>
                      <a:pt x="476" y="888"/>
                    </a:lnTo>
                    <a:lnTo>
                      <a:pt x="524" y="884"/>
                    </a:lnTo>
                    <a:lnTo>
                      <a:pt x="544" y="872"/>
                    </a:lnTo>
                    <a:lnTo>
                      <a:pt x="556" y="856"/>
                    </a:lnTo>
                    <a:lnTo>
                      <a:pt x="544" y="832"/>
                    </a:lnTo>
                    <a:lnTo>
                      <a:pt x="544" y="780"/>
                    </a:lnTo>
                    <a:lnTo>
                      <a:pt x="548" y="752"/>
                    </a:lnTo>
                    <a:lnTo>
                      <a:pt x="576" y="744"/>
                    </a:lnTo>
                    <a:lnTo>
                      <a:pt x="632" y="716"/>
                    </a:lnTo>
                    <a:lnTo>
                      <a:pt x="668" y="704"/>
                    </a:lnTo>
                    <a:lnTo>
                      <a:pt x="696" y="664"/>
                    </a:lnTo>
                    <a:lnTo>
                      <a:pt x="700" y="636"/>
                    </a:lnTo>
                    <a:lnTo>
                      <a:pt x="684" y="616"/>
                    </a:lnTo>
                    <a:lnTo>
                      <a:pt x="656" y="612"/>
                    </a:lnTo>
                    <a:lnTo>
                      <a:pt x="632" y="592"/>
                    </a:lnTo>
                    <a:lnTo>
                      <a:pt x="632" y="560"/>
                    </a:lnTo>
                    <a:lnTo>
                      <a:pt x="652" y="532"/>
                    </a:lnTo>
                    <a:lnTo>
                      <a:pt x="684" y="508"/>
                    </a:lnTo>
                    <a:lnTo>
                      <a:pt x="676" y="480"/>
                    </a:lnTo>
                    <a:lnTo>
                      <a:pt x="660" y="460"/>
                    </a:lnTo>
                    <a:lnTo>
                      <a:pt x="656" y="420"/>
                    </a:lnTo>
                    <a:lnTo>
                      <a:pt x="652" y="388"/>
                    </a:lnTo>
                    <a:lnTo>
                      <a:pt x="644" y="348"/>
                    </a:lnTo>
                    <a:lnTo>
                      <a:pt x="620" y="308"/>
                    </a:lnTo>
                    <a:lnTo>
                      <a:pt x="612" y="272"/>
                    </a:lnTo>
                    <a:lnTo>
                      <a:pt x="564" y="208"/>
                    </a:lnTo>
                    <a:lnTo>
                      <a:pt x="580" y="144"/>
                    </a:lnTo>
                    <a:lnTo>
                      <a:pt x="580" y="96"/>
                    </a:lnTo>
                    <a:lnTo>
                      <a:pt x="612" y="56"/>
                    </a:lnTo>
                    <a:lnTo>
                      <a:pt x="620" y="20"/>
                    </a:lnTo>
                    <a:lnTo>
                      <a:pt x="588" y="0"/>
                    </a:lnTo>
                    <a:lnTo>
                      <a:pt x="552" y="20"/>
                    </a:lnTo>
                    <a:lnTo>
                      <a:pt x="516" y="20"/>
                    </a:lnTo>
                    <a:lnTo>
                      <a:pt x="492" y="4"/>
                    </a:lnTo>
                    <a:lnTo>
                      <a:pt x="464" y="28"/>
                    </a:lnTo>
                    <a:lnTo>
                      <a:pt x="436" y="104"/>
                    </a:lnTo>
                    <a:lnTo>
                      <a:pt x="368" y="152"/>
                    </a:lnTo>
                    <a:lnTo>
                      <a:pt x="320" y="152"/>
                    </a:lnTo>
                    <a:lnTo>
                      <a:pt x="288" y="124"/>
                    </a:lnTo>
                    <a:lnTo>
                      <a:pt x="212" y="112"/>
                    </a:lnTo>
                    <a:lnTo>
                      <a:pt x="156" y="88"/>
                    </a:lnTo>
                    <a:lnTo>
                      <a:pt x="112" y="68"/>
                    </a:lnTo>
                    <a:lnTo>
                      <a:pt x="44" y="80"/>
                    </a:lnTo>
                    <a:lnTo>
                      <a:pt x="32" y="140"/>
                    </a:lnTo>
                    <a:lnTo>
                      <a:pt x="0" y="272"/>
                    </a:lnTo>
                    <a:lnTo>
                      <a:pt x="72" y="432"/>
                    </a:lnTo>
                    <a:lnTo>
                      <a:pt x="116" y="484"/>
                    </a:lnTo>
                    <a:lnTo>
                      <a:pt x="120" y="536"/>
                    </a:lnTo>
                    <a:lnTo>
                      <a:pt x="176" y="624"/>
                    </a:lnTo>
                    <a:lnTo>
                      <a:pt x="144" y="684"/>
                    </a:lnTo>
                    <a:lnTo>
                      <a:pt x="140" y="94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89440" y="2063880"/>
                <a:ext cx="2525400" cy="3127320"/>
              </a:xfrm>
              <a:custGeom>
                <a:avLst/>
                <a:gdLst/>
                <a:ahLst/>
                <a:rect l="l" t="t" r="r" b="b"/>
                <a:pathLst>
                  <a:path w="1591" h="1970">
                    <a:moveTo>
                      <a:pt x="0" y="1853"/>
                    </a:moveTo>
                    <a:lnTo>
                      <a:pt x="28" y="1809"/>
                    </a:lnTo>
                    <a:lnTo>
                      <a:pt x="46" y="1783"/>
                    </a:lnTo>
                    <a:lnTo>
                      <a:pt x="72" y="1764"/>
                    </a:lnTo>
                    <a:lnTo>
                      <a:pt x="98" y="1775"/>
                    </a:lnTo>
                    <a:lnTo>
                      <a:pt x="122" y="1747"/>
                    </a:lnTo>
                    <a:lnTo>
                      <a:pt x="151" y="1721"/>
                    </a:lnTo>
                    <a:lnTo>
                      <a:pt x="169" y="1694"/>
                    </a:lnTo>
                    <a:lnTo>
                      <a:pt x="169" y="1671"/>
                    </a:lnTo>
                    <a:lnTo>
                      <a:pt x="174" y="1647"/>
                    </a:lnTo>
                    <a:lnTo>
                      <a:pt x="176" y="1622"/>
                    </a:lnTo>
                    <a:lnTo>
                      <a:pt x="196" y="1604"/>
                    </a:lnTo>
                    <a:lnTo>
                      <a:pt x="219" y="1590"/>
                    </a:lnTo>
                    <a:lnTo>
                      <a:pt x="241" y="1578"/>
                    </a:lnTo>
                    <a:lnTo>
                      <a:pt x="259" y="1585"/>
                    </a:lnTo>
                    <a:lnTo>
                      <a:pt x="263" y="1614"/>
                    </a:lnTo>
                    <a:lnTo>
                      <a:pt x="288" y="1638"/>
                    </a:lnTo>
                    <a:lnTo>
                      <a:pt x="302" y="1622"/>
                    </a:lnTo>
                    <a:lnTo>
                      <a:pt x="296" y="1590"/>
                    </a:lnTo>
                    <a:lnTo>
                      <a:pt x="289" y="1565"/>
                    </a:lnTo>
                    <a:lnTo>
                      <a:pt x="281" y="1545"/>
                    </a:lnTo>
                    <a:lnTo>
                      <a:pt x="321" y="1522"/>
                    </a:lnTo>
                    <a:lnTo>
                      <a:pt x="347" y="1530"/>
                    </a:lnTo>
                    <a:lnTo>
                      <a:pt x="373" y="1523"/>
                    </a:lnTo>
                    <a:lnTo>
                      <a:pt x="384" y="1505"/>
                    </a:lnTo>
                    <a:lnTo>
                      <a:pt x="416" y="1499"/>
                    </a:lnTo>
                    <a:lnTo>
                      <a:pt x="429" y="1514"/>
                    </a:lnTo>
                    <a:lnTo>
                      <a:pt x="451" y="1527"/>
                    </a:lnTo>
                    <a:lnTo>
                      <a:pt x="489" y="1523"/>
                    </a:lnTo>
                    <a:lnTo>
                      <a:pt x="520" y="1532"/>
                    </a:lnTo>
                    <a:lnTo>
                      <a:pt x="545" y="1550"/>
                    </a:lnTo>
                    <a:lnTo>
                      <a:pt x="573" y="1561"/>
                    </a:lnTo>
                    <a:lnTo>
                      <a:pt x="583" y="1534"/>
                    </a:lnTo>
                    <a:lnTo>
                      <a:pt x="581" y="1513"/>
                    </a:lnTo>
                    <a:lnTo>
                      <a:pt x="582" y="1495"/>
                    </a:lnTo>
                    <a:lnTo>
                      <a:pt x="564" y="1481"/>
                    </a:lnTo>
                    <a:lnTo>
                      <a:pt x="544" y="1486"/>
                    </a:lnTo>
                    <a:lnTo>
                      <a:pt x="526" y="1491"/>
                    </a:lnTo>
                    <a:lnTo>
                      <a:pt x="510" y="1477"/>
                    </a:lnTo>
                    <a:lnTo>
                      <a:pt x="491" y="1473"/>
                    </a:lnTo>
                    <a:lnTo>
                      <a:pt x="461" y="1475"/>
                    </a:lnTo>
                    <a:lnTo>
                      <a:pt x="437" y="1464"/>
                    </a:lnTo>
                    <a:lnTo>
                      <a:pt x="414" y="1460"/>
                    </a:lnTo>
                    <a:lnTo>
                      <a:pt x="367" y="1464"/>
                    </a:lnTo>
                    <a:lnTo>
                      <a:pt x="327" y="1456"/>
                    </a:lnTo>
                    <a:lnTo>
                      <a:pt x="314" y="1442"/>
                    </a:lnTo>
                    <a:lnTo>
                      <a:pt x="298" y="1418"/>
                    </a:lnTo>
                    <a:lnTo>
                      <a:pt x="275" y="1409"/>
                    </a:lnTo>
                    <a:lnTo>
                      <a:pt x="263" y="1388"/>
                    </a:lnTo>
                    <a:lnTo>
                      <a:pt x="282" y="1377"/>
                    </a:lnTo>
                    <a:lnTo>
                      <a:pt x="272" y="1352"/>
                    </a:lnTo>
                    <a:lnTo>
                      <a:pt x="256" y="1337"/>
                    </a:lnTo>
                    <a:lnTo>
                      <a:pt x="230" y="1321"/>
                    </a:lnTo>
                    <a:lnTo>
                      <a:pt x="209" y="1301"/>
                    </a:lnTo>
                    <a:lnTo>
                      <a:pt x="196" y="1284"/>
                    </a:lnTo>
                    <a:lnTo>
                      <a:pt x="190" y="1264"/>
                    </a:lnTo>
                    <a:lnTo>
                      <a:pt x="165" y="1240"/>
                    </a:lnTo>
                    <a:lnTo>
                      <a:pt x="147" y="1230"/>
                    </a:lnTo>
                    <a:lnTo>
                      <a:pt x="131" y="1206"/>
                    </a:lnTo>
                    <a:lnTo>
                      <a:pt x="132" y="1184"/>
                    </a:lnTo>
                    <a:lnTo>
                      <a:pt x="134" y="1157"/>
                    </a:lnTo>
                    <a:lnTo>
                      <a:pt x="125" y="1138"/>
                    </a:lnTo>
                    <a:lnTo>
                      <a:pt x="128" y="1115"/>
                    </a:lnTo>
                    <a:lnTo>
                      <a:pt x="114" y="1095"/>
                    </a:lnTo>
                    <a:lnTo>
                      <a:pt x="101" y="1071"/>
                    </a:lnTo>
                    <a:lnTo>
                      <a:pt x="131" y="1045"/>
                    </a:lnTo>
                    <a:lnTo>
                      <a:pt x="153" y="1026"/>
                    </a:lnTo>
                    <a:lnTo>
                      <a:pt x="160" y="994"/>
                    </a:lnTo>
                    <a:lnTo>
                      <a:pt x="184" y="984"/>
                    </a:lnTo>
                    <a:lnTo>
                      <a:pt x="215" y="1007"/>
                    </a:lnTo>
                    <a:lnTo>
                      <a:pt x="223" y="1035"/>
                    </a:lnTo>
                    <a:lnTo>
                      <a:pt x="232" y="1057"/>
                    </a:lnTo>
                    <a:lnTo>
                      <a:pt x="231" y="1087"/>
                    </a:lnTo>
                    <a:lnTo>
                      <a:pt x="240" y="1122"/>
                    </a:lnTo>
                    <a:lnTo>
                      <a:pt x="263" y="1138"/>
                    </a:lnTo>
                    <a:lnTo>
                      <a:pt x="279" y="1151"/>
                    </a:lnTo>
                    <a:lnTo>
                      <a:pt x="291" y="1172"/>
                    </a:lnTo>
                    <a:lnTo>
                      <a:pt x="324" y="1170"/>
                    </a:lnTo>
                    <a:lnTo>
                      <a:pt x="335" y="1188"/>
                    </a:lnTo>
                    <a:lnTo>
                      <a:pt x="351" y="1169"/>
                    </a:lnTo>
                    <a:lnTo>
                      <a:pt x="337" y="1151"/>
                    </a:lnTo>
                    <a:lnTo>
                      <a:pt x="322" y="1130"/>
                    </a:lnTo>
                    <a:lnTo>
                      <a:pt x="319" y="1107"/>
                    </a:lnTo>
                    <a:lnTo>
                      <a:pt x="338" y="1089"/>
                    </a:lnTo>
                    <a:lnTo>
                      <a:pt x="353" y="1076"/>
                    </a:lnTo>
                    <a:lnTo>
                      <a:pt x="373" y="1068"/>
                    </a:lnTo>
                    <a:lnTo>
                      <a:pt x="404" y="1072"/>
                    </a:lnTo>
                    <a:lnTo>
                      <a:pt x="412" y="1091"/>
                    </a:lnTo>
                    <a:lnTo>
                      <a:pt x="444" y="1106"/>
                    </a:lnTo>
                    <a:lnTo>
                      <a:pt x="469" y="1118"/>
                    </a:lnTo>
                    <a:lnTo>
                      <a:pt x="499" y="1116"/>
                    </a:lnTo>
                    <a:lnTo>
                      <a:pt x="501" y="1079"/>
                    </a:lnTo>
                    <a:lnTo>
                      <a:pt x="492" y="1048"/>
                    </a:lnTo>
                    <a:lnTo>
                      <a:pt x="478" y="1018"/>
                    </a:lnTo>
                    <a:lnTo>
                      <a:pt x="460" y="998"/>
                    </a:lnTo>
                    <a:lnTo>
                      <a:pt x="454" y="975"/>
                    </a:lnTo>
                    <a:lnTo>
                      <a:pt x="434" y="944"/>
                    </a:lnTo>
                    <a:lnTo>
                      <a:pt x="415" y="898"/>
                    </a:lnTo>
                    <a:lnTo>
                      <a:pt x="404" y="879"/>
                    </a:lnTo>
                    <a:lnTo>
                      <a:pt x="389" y="855"/>
                    </a:lnTo>
                    <a:lnTo>
                      <a:pt x="377" y="825"/>
                    </a:lnTo>
                    <a:lnTo>
                      <a:pt x="396" y="817"/>
                    </a:lnTo>
                    <a:lnTo>
                      <a:pt x="413" y="834"/>
                    </a:lnTo>
                    <a:lnTo>
                      <a:pt x="428" y="857"/>
                    </a:lnTo>
                    <a:lnTo>
                      <a:pt x="457" y="871"/>
                    </a:lnTo>
                    <a:lnTo>
                      <a:pt x="483" y="879"/>
                    </a:lnTo>
                    <a:lnTo>
                      <a:pt x="503" y="861"/>
                    </a:lnTo>
                    <a:lnTo>
                      <a:pt x="511" y="834"/>
                    </a:lnTo>
                    <a:lnTo>
                      <a:pt x="517" y="803"/>
                    </a:lnTo>
                    <a:lnTo>
                      <a:pt x="525" y="773"/>
                    </a:lnTo>
                    <a:lnTo>
                      <a:pt x="520" y="753"/>
                    </a:lnTo>
                    <a:lnTo>
                      <a:pt x="505" y="735"/>
                    </a:lnTo>
                    <a:lnTo>
                      <a:pt x="503" y="714"/>
                    </a:lnTo>
                    <a:lnTo>
                      <a:pt x="542" y="698"/>
                    </a:lnTo>
                    <a:lnTo>
                      <a:pt x="550" y="675"/>
                    </a:lnTo>
                    <a:lnTo>
                      <a:pt x="533" y="636"/>
                    </a:lnTo>
                    <a:lnTo>
                      <a:pt x="519" y="603"/>
                    </a:lnTo>
                    <a:lnTo>
                      <a:pt x="486" y="594"/>
                    </a:lnTo>
                    <a:lnTo>
                      <a:pt x="466" y="590"/>
                    </a:lnTo>
                    <a:lnTo>
                      <a:pt x="428" y="561"/>
                    </a:lnTo>
                    <a:lnTo>
                      <a:pt x="409" y="535"/>
                    </a:lnTo>
                    <a:lnTo>
                      <a:pt x="422" y="501"/>
                    </a:lnTo>
                    <a:lnTo>
                      <a:pt x="431" y="483"/>
                    </a:lnTo>
                    <a:lnTo>
                      <a:pt x="417" y="460"/>
                    </a:lnTo>
                    <a:lnTo>
                      <a:pt x="382" y="435"/>
                    </a:lnTo>
                    <a:lnTo>
                      <a:pt x="358" y="415"/>
                    </a:lnTo>
                    <a:lnTo>
                      <a:pt x="325" y="380"/>
                    </a:lnTo>
                    <a:lnTo>
                      <a:pt x="319" y="349"/>
                    </a:lnTo>
                    <a:lnTo>
                      <a:pt x="321" y="302"/>
                    </a:lnTo>
                    <a:lnTo>
                      <a:pt x="337" y="292"/>
                    </a:lnTo>
                    <a:lnTo>
                      <a:pt x="363" y="296"/>
                    </a:lnTo>
                    <a:lnTo>
                      <a:pt x="384" y="309"/>
                    </a:lnTo>
                    <a:lnTo>
                      <a:pt x="393" y="332"/>
                    </a:lnTo>
                    <a:lnTo>
                      <a:pt x="402" y="366"/>
                    </a:lnTo>
                    <a:lnTo>
                      <a:pt x="417" y="386"/>
                    </a:lnTo>
                    <a:lnTo>
                      <a:pt x="447" y="381"/>
                    </a:lnTo>
                    <a:lnTo>
                      <a:pt x="463" y="362"/>
                    </a:lnTo>
                    <a:lnTo>
                      <a:pt x="496" y="359"/>
                    </a:lnTo>
                    <a:lnTo>
                      <a:pt x="515" y="372"/>
                    </a:lnTo>
                    <a:lnTo>
                      <a:pt x="545" y="382"/>
                    </a:lnTo>
                    <a:lnTo>
                      <a:pt x="578" y="401"/>
                    </a:lnTo>
                    <a:lnTo>
                      <a:pt x="592" y="430"/>
                    </a:lnTo>
                    <a:lnTo>
                      <a:pt x="601" y="465"/>
                    </a:lnTo>
                    <a:lnTo>
                      <a:pt x="598" y="499"/>
                    </a:lnTo>
                    <a:lnTo>
                      <a:pt x="588" y="542"/>
                    </a:lnTo>
                    <a:lnTo>
                      <a:pt x="590" y="572"/>
                    </a:lnTo>
                    <a:lnTo>
                      <a:pt x="593" y="608"/>
                    </a:lnTo>
                    <a:lnTo>
                      <a:pt x="596" y="631"/>
                    </a:lnTo>
                    <a:lnTo>
                      <a:pt x="597" y="662"/>
                    </a:lnTo>
                    <a:lnTo>
                      <a:pt x="594" y="687"/>
                    </a:lnTo>
                    <a:lnTo>
                      <a:pt x="587" y="720"/>
                    </a:lnTo>
                    <a:lnTo>
                      <a:pt x="563" y="763"/>
                    </a:lnTo>
                    <a:lnTo>
                      <a:pt x="556" y="808"/>
                    </a:lnTo>
                    <a:lnTo>
                      <a:pt x="556" y="832"/>
                    </a:lnTo>
                    <a:lnTo>
                      <a:pt x="554" y="869"/>
                    </a:lnTo>
                    <a:lnTo>
                      <a:pt x="554" y="893"/>
                    </a:lnTo>
                    <a:lnTo>
                      <a:pt x="543" y="927"/>
                    </a:lnTo>
                    <a:lnTo>
                      <a:pt x="535" y="966"/>
                    </a:lnTo>
                    <a:lnTo>
                      <a:pt x="561" y="977"/>
                    </a:lnTo>
                    <a:lnTo>
                      <a:pt x="602" y="966"/>
                    </a:lnTo>
                    <a:lnTo>
                      <a:pt x="604" y="938"/>
                    </a:lnTo>
                    <a:lnTo>
                      <a:pt x="609" y="903"/>
                    </a:lnTo>
                    <a:lnTo>
                      <a:pt x="629" y="873"/>
                    </a:lnTo>
                    <a:lnTo>
                      <a:pt x="652" y="843"/>
                    </a:lnTo>
                    <a:lnTo>
                      <a:pt x="666" y="808"/>
                    </a:lnTo>
                    <a:lnTo>
                      <a:pt x="680" y="768"/>
                    </a:lnTo>
                    <a:lnTo>
                      <a:pt x="685" y="720"/>
                    </a:lnTo>
                    <a:lnTo>
                      <a:pt x="687" y="693"/>
                    </a:lnTo>
                    <a:lnTo>
                      <a:pt x="702" y="682"/>
                    </a:lnTo>
                    <a:lnTo>
                      <a:pt x="736" y="692"/>
                    </a:lnTo>
                    <a:lnTo>
                      <a:pt x="749" y="676"/>
                    </a:lnTo>
                    <a:lnTo>
                      <a:pt x="741" y="644"/>
                    </a:lnTo>
                    <a:lnTo>
                      <a:pt x="760" y="621"/>
                    </a:lnTo>
                    <a:lnTo>
                      <a:pt x="767" y="591"/>
                    </a:lnTo>
                    <a:lnTo>
                      <a:pt x="759" y="560"/>
                    </a:lnTo>
                    <a:lnTo>
                      <a:pt x="754" y="502"/>
                    </a:lnTo>
                    <a:lnTo>
                      <a:pt x="770" y="468"/>
                    </a:lnTo>
                    <a:lnTo>
                      <a:pt x="777" y="427"/>
                    </a:lnTo>
                    <a:lnTo>
                      <a:pt x="781" y="382"/>
                    </a:lnTo>
                    <a:lnTo>
                      <a:pt x="789" y="359"/>
                    </a:lnTo>
                    <a:lnTo>
                      <a:pt x="776" y="310"/>
                    </a:lnTo>
                    <a:lnTo>
                      <a:pt x="772" y="262"/>
                    </a:lnTo>
                    <a:lnTo>
                      <a:pt x="784" y="223"/>
                    </a:lnTo>
                    <a:lnTo>
                      <a:pt x="788" y="194"/>
                    </a:lnTo>
                    <a:lnTo>
                      <a:pt x="794" y="150"/>
                    </a:lnTo>
                    <a:lnTo>
                      <a:pt x="824" y="90"/>
                    </a:lnTo>
                    <a:lnTo>
                      <a:pt x="836" y="59"/>
                    </a:lnTo>
                    <a:lnTo>
                      <a:pt x="854" y="30"/>
                    </a:lnTo>
                    <a:lnTo>
                      <a:pt x="876" y="2"/>
                    </a:lnTo>
                    <a:lnTo>
                      <a:pt x="910" y="0"/>
                    </a:lnTo>
                    <a:lnTo>
                      <a:pt x="940" y="12"/>
                    </a:lnTo>
                    <a:lnTo>
                      <a:pt x="931" y="41"/>
                    </a:lnTo>
                    <a:lnTo>
                      <a:pt x="940" y="68"/>
                    </a:lnTo>
                    <a:lnTo>
                      <a:pt x="940" y="92"/>
                    </a:lnTo>
                    <a:lnTo>
                      <a:pt x="952" y="131"/>
                    </a:lnTo>
                    <a:lnTo>
                      <a:pt x="970" y="173"/>
                    </a:lnTo>
                    <a:lnTo>
                      <a:pt x="988" y="197"/>
                    </a:lnTo>
                    <a:lnTo>
                      <a:pt x="997" y="215"/>
                    </a:lnTo>
                    <a:lnTo>
                      <a:pt x="1018" y="236"/>
                    </a:lnTo>
                    <a:lnTo>
                      <a:pt x="1045" y="236"/>
                    </a:lnTo>
                    <a:lnTo>
                      <a:pt x="1063" y="251"/>
                    </a:lnTo>
                    <a:lnTo>
                      <a:pt x="1087" y="272"/>
                    </a:lnTo>
                    <a:lnTo>
                      <a:pt x="1090" y="302"/>
                    </a:lnTo>
                    <a:lnTo>
                      <a:pt x="1090" y="335"/>
                    </a:lnTo>
                    <a:lnTo>
                      <a:pt x="1077" y="349"/>
                    </a:lnTo>
                    <a:lnTo>
                      <a:pt x="1069" y="375"/>
                    </a:lnTo>
                    <a:lnTo>
                      <a:pt x="1038" y="377"/>
                    </a:lnTo>
                    <a:lnTo>
                      <a:pt x="1009" y="367"/>
                    </a:lnTo>
                    <a:lnTo>
                      <a:pt x="1014" y="399"/>
                    </a:lnTo>
                    <a:lnTo>
                      <a:pt x="1031" y="413"/>
                    </a:lnTo>
                    <a:lnTo>
                      <a:pt x="1071" y="429"/>
                    </a:lnTo>
                    <a:lnTo>
                      <a:pt x="1094" y="445"/>
                    </a:lnTo>
                    <a:lnTo>
                      <a:pt x="1125" y="461"/>
                    </a:lnTo>
                    <a:lnTo>
                      <a:pt x="1160" y="463"/>
                    </a:lnTo>
                    <a:lnTo>
                      <a:pt x="1191" y="495"/>
                    </a:lnTo>
                    <a:lnTo>
                      <a:pt x="1178" y="519"/>
                    </a:lnTo>
                    <a:lnTo>
                      <a:pt x="1152" y="536"/>
                    </a:lnTo>
                    <a:lnTo>
                      <a:pt x="1133" y="532"/>
                    </a:lnTo>
                    <a:lnTo>
                      <a:pt x="1093" y="522"/>
                    </a:lnTo>
                    <a:lnTo>
                      <a:pt x="1065" y="505"/>
                    </a:lnTo>
                    <a:lnTo>
                      <a:pt x="1036" y="503"/>
                    </a:lnTo>
                    <a:lnTo>
                      <a:pt x="1026" y="524"/>
                    </a:lnTo>
                    <a:lnTo>
                      <a:pt x="1036" y="550"/>
                    </a:lnTo>
                    <a:lnTo>
                      <a:pt x="1052" y="572"/>
                    </a:lnTo>
                    <a:cubicBezTo>
                      <a:pt x="1043" y="578"/>
                      <a:pt x="1047" y="577"/>
                      <a:pt x="1041" y="578"/>
                    </a:cubicBezTo>
                    <a:lnTo>
                      <a:pt x="1000" y="571"/>
                    </a:lnTo>
                    <a:cubicBezTo>
                      <a:pt x="970" y="582"/>
                      <a:pt x="974" y="572"/>
                      <a:pt x="970" y="588"/>
                    </a:cubicBezTo>
                    <a:lnTo>
                      <a:pt x="976" y="611"/>
                    </a:lnTo>
                    <a:lnTo>
                      <a:pt x="988" y="641"/>
                    </a:lnTo>
                    <a:lnTo>
                      <a:pt x="1006" y="661"/>
                    </a:lnTo>
                    <a:lnTo>
                      <a:pt x="1042" y="658"/>
                    </a:lnTo>
                    <a:lnTo>
                      <a:pt x="1068" y="654"/>
                    </a:lnTo>
                    <a:lnTo>
                      <a:pt x="1088" y="682"/>
                    </a:lnTo>
                    <a:lnTo>
                      <a:pt x="1068" y="700"/>
                    </a:lnTo>
                    <a:lnTo>
                      <a:pt x="1041" y="725"/>
                    </a:lnTo>
                    <a:lnTo>
                      <a:pt x="1012" y="733"/>
                    </a:lnTo>
                    <a:lnTo>
                      <a:pt x="976" y="743"/>
                    </a:lnTo>
                    <a:lnTo>
                      <a:pt x="956" y="772"/>
                    </a:lnTo>
                    <a:lnTo>
                      <a:pt x="980" y="794"/>
                    </a:lnTo>
                    <a:lnTo>
                      <a:pt x="1004" y="790"/>
                    </a:lnTo>
                    <a:lnTo>
                      <a:pt x="1052" y="777"/>
                    </a:lnTo>
                    <a:lnTo>
                      <a:pt x="1094" y="763"/>
                    </a:lnTo>
                    <a:lnTo>
                      <a:pt x="1126" y="742"/>
                    </a:lnTo>
                    <a:lnTo>
                      <a:pt x="1152" y="716"/>
                    </a:lnTo>
                    <a:lnTo>
                      <a:pt x="1189" y="706"/>
                    </a:lnTo>
                    <a:lnTo>
                      <a:pt x="1217" y="720"/>
                    </a:lnTo>
                    <a:lnTo>
                      <a:pt x="1238" y="740"/>
                    </a:lnTo>
                    <a:lnTo>
                      <a:pt x="1240" y="769"/>
                    </a:lnTo>
                    <a:lnTo>
                      <a:pt x="1215" y="794"/>
                    </a:lnTo>
                    <a:lnTo>
                      <a:pt x="1215" y="824"/>
                    </a:lnTo>
                    <a:lnTo>
                      <a:pt x="1229" y="845"/>
                    </a:lnTo>
                    <a:lnTo>
                      <a:pt x="1256" y="863"/>
                    </a:lnTo>
                    <a:lnTo>
                      <a:pt x="1283" y="870"/>
                    </a:lnTo>
                    <a:lnTo>
                      <a:pt x="1309" y="891"/>
                    </a:lnTo>
                    <a:lnTo>
                      <a:pt x="1334" y="916"/>
                    </a:lnTo>
                    <a:lnTo>
                      <a:pt x="1310" y="937"/>
                    </a:lnTo>
                    <a:lnTo>
                      <a:pt x="1284" y="920"/>
                    </a:lnTo>
                    <a:lnTo>
                      <a:pt x="1263" y="925"/>
                    </a:lnTo>
                    <a:lnTo>
                      <a:pt x="1259" y="944"/>
                    </a:lnTo>
                    <a:lnTo>
                      <a:pt x="1270" y="963"/>
                    </a:lnTo>
                    <a:lnTo>
                      <a:pt x="1305" y="978"/>
                    </a:lnTo>
                    <a:lnTo>
                      <a:pt x="1317" y="999"/>
                    </a:lnTo>
                    <a:lnTo>
                      <a:pt x="1302" y="1022"/>
                    </a:lnTo>
                    <a:lnTo>
                      <a:pt x="1278" y="1047"/>
                    </a:lnTo>
                    <a:lnTo>
                      <a:pt x="1248" y="1061"/>
                    </a:lnTo>
                    <a:lnTo>
                      <a:pt x="1233" y="1050"/>
                    </a:lnTo>
                    <a:lnTo>
                      <a:pt x="1218" y="1032"/>
                    </a:lnTo>
                    <a:lnTo>
                      <a:pt x="1206" y="1016"/>
                    </a:lnTo>
                    <a:lnTo>
                      <a:pt x="1181" y="981"/>
                    </a:lnTo>
                    <a:lnTo>
                      <a:pt x="1149" y="956"/>
                    </a:lnTo>
                    <a:lnTo>
                      <a:pt x="1125" y="944"/>
                    </a:lnTo>
                    <a:lnTo>
                      <a:pt x="1087" y="942"/>
                    </a:lnTo>
                    <a:lnTo>
                      <a:pt x="1087" y="973"/>
                    </a:lnTo>
                    <a:lnTo>
                      <a:pt x="1103" y="989"/>
                    </a:lnTo>
                    <a:lnTo>
                      <a:pt x="1124" y="1009"/>
                    </a:lnTo>
                    <a:lnTo>
                      <a:pt x="1138" y="1024"/>
                    </a:lnTo>
                    <a:lnTo>
                      <a:pt x="1151" y="1050"/>
                    </a:lnTo>
                    <a:lnTo>
                      <a:pt x="1155" y="1077"/>
                    </a:lnTo>
                    <a:lnTo>
                      <a:pt x="1162" y="1092"/>
                    </a:lnTo>
                    <a:lnTo>
                      <a:pt x="1200" y="1110"/>
                    </a:lnTo>
                    <a:lnTo>
                      <a:pt x="1226" y="1113"/>
                    </a:lnTo>
                    <a:lnTo>
                      <a:pt x="1256" y="1123"/>
                    </a:lnTo>
                    <a:lnTo>
                      <a:pt x="1236" y="1152"/>
                    </a:lnTo>
                    <a:lnTo>
                      <a:pt x="1216" y="1158"/>
                    </a:lnTo>
                    <a:lnTo>
                      <a:pt x="1194" y="1167"/>
                    </a:lnTo>
                    <a:lnTo>
                      <a:pt x="1175" y="1172"/>
                    </a:lnTo>
                    <a:lnTo>
                      <a:pt x="1134" y="1183"/>
                    </a:lnTo>
                    <a:lnTo>
                      <a:pt x="1101" y="1207"/>
                    </a:lnTo>
                    <a:lnTo>
                      <a:pt x="1094" y="1228"/>
                    </a:lnTo>
                    <a:lnTo>
                      <a:pt x="1106" y="1249"/>
                    </a:lnTo>
                    <a:lnTo>
                      <a:pt x="1140" y="1258"/>
                    </a:lnTo>
                    <a:lnTo>
                      <a:pt x="1172" y="1256"/>
                    </a:lnTo>
                    <a:lnTo>
                      <a:pt x="1191" y="1235"/>
                    </a:lnTo>
                    <a:lnTo>
                      <a:pt x="1221" y="1208"/>
                    </a:lnTo>
                    <a:lnTo>
                      <a:pt x="1252" y="1197"/>
                    </a:lnTo>
                    <a:lnTo>
                      <a:pt x="1279" y="1199"/>
                    </a:lnTo>
                    <a:lnTo>
                      <a:pt x="1297" y="1219"/>
                    </a:lnTo>
                    <a:lnTo>
                      <a:pt x="1299" y="1251"/>
                    </a:lnTo>
                    <a:lnTo>
                      <a:pt x="1275" y="1273"/>
                    </a:lnTo>
                    <a:lnTo>
                      <a:pt x="1258" y="1278"/>
                    </a:lnTo>
                    <a:lnTo>
                      <a:pt x="1230" y="1276"/>
                    </a:lnTo>
                    <a:lnTo>
                      <a:pt x="1206" y="1289"/>
                    </a:lnTo>
                    <a:lnTo>
                      <a:pt x="1194" y="1323"/>
                    </a:lnTo>
                    <a:lnTo>
                      <a:pt x="1199" y="1343"/>
                    </a:lnTo>
                    <a:lnTo>
                      <a:pt x="1216" y="1360"/>
                    </a:lnTo>
                    <a:lnTo>
                      <a:pt x="1248" y="1367"/>
                    </a:lnTo>
                    <a:lnTo>
                      <a:pt x="1273" y="1357"/>
                    </a:lnTo>
                    <a:lnTo>
                      <a:pt x="1296" y="1332"/>
                    </a:lnTo>
                    <a:lnTo>
                      <a:pt x="1315" y="1321"/>
                    </a:lnTo>
                    <a:lnTo>
                      <a:pt x="1333" y="1328"/>
                    </a:lnTo>
                    <a:lnTo>
                      <a:pt x="1339" y="1351"/>
                    </a:lnTo>
                    <a:lnTo>
                      <a:pt x="1336" y="1373"/>
                    </a:lnTo>
                    <a:lnTo>
                      <a:pt x="1346" y="1389"/>
                    </a:lnTo>
                    <a:lnTo>
                      <a:pt x="1368" y="1389"/>
                    </a:lnTo>
                    <a:lnTo>
                      <a:pt x="1393" y="1404"/>
                    </a:lnTo>
                    <a:lnTo>
                      <a:pt x="1410" y="1411"/>
                    </a:lnTo>
                    <a:lnTo>
                      <a:pt x="1456" y="1414"/>
                    </a:lnTo>
                    <a:lnTo>
                      <a:pt x="1475" y="1425"/>
                    </a:lnTo>
                    <a:lnTo>
                      <a:pt x="1458" y="1454"/>
                    </a:lnTo>
                    <a:lnTo>
                      <a:pt x="1430" y="1462"/>
                    </a:lnTo>
                    <a:lnTo>
                      <a:pt x="1388" y="1464"/>
                    </a:lnTo>
                    <a:lnTo>
                      <a:pt x="1371" y="1446"/>
                    </a:lnTo>
                    <a:lnTo>
                      <a:pt x="1349" y="1434"/>
                    </a:lnTo>
                    <a:lnTo>
                      <a:pt x="1328" y="1415"/>
                    </a:lnTo>
                    <a:lnTo>
                      <a:pt x="1311" y="1405"/>
                    </a:lnTo>
                    <a:lnTo>
                      <a:pt x="1283" y="1406"/>
                    </a:lnTo>
                    <a:lnTo>
                      <a:pt x="1257" y="1413"/>
                    </a:lnTo>
                    <a:lnTo>
                      <a:pt x="1214" y="1409"/>
                    </a:lnTo>
                    <a:lnTo>
                      <a:pt x="1192" y="1399"/>
                    </a:lnTo>
                    <a:lnTo>
                      <a:pt x="1149" y="1409"/>
                    </a:lnTo>
                    <a:lnTo>
                      <a:pt x="1117" y="1423"/>
                    </a:lnTo>
                    <a:lnTo>
                      <a:pt x="1080" y="1448"/>
                    </a:lnTo>
                    <a:lnTo>
                      <a:pt x="1064" y="1465"/>
                    </a:lnTo>
                    <a:lnTo>
                      <a:pt x="1070" y="1485"/>
                    </a:lnTo>
                    <a:lnTo>
                      <a:pt x="1095" y="1493"/>
                    </a:lnTo>
                    <a:lnTo>
                      <a:pt x="1117" y="1479"/>
                    </a:lnTo>
                    <a:lnTo>
                      <a:pt x="1137" y="1461"/>
                    </a:lnTo>
                    <a:lnTo>
                      <a:pt x="1161" y="1451"/>
                    </a:lnTo>
                    <a:lnTo>
                      <a:pt x="1184" y="1457"/>
                    </a:lnTo>
                    <a:lnTo>
                      <a:pt x="1197" y="1481"/>
                    </a:lnTo>
                    <a:lnTo>
                      <a:pt x="1212" y="1495"/>
                    </a:lnTo>
                    <a:lnTo>
                      <a:pt x="1242" y="1503"/>
                    </a:lnTo>
                    <a:lnTo>
                      <a:pt x="1272" y="1479"/>
                    </a:lnTo>
                    <a:lnTo>
                      <a:pt x="1298" y="1472"/>
                    </a:lnTo>
                    <a:lnTo>
                      <a:pt x="1330" y="1500"/>
                    </a:lnTo>
                    <a:lnTo>
                      <a:pt x="1348" y="1523"/>
                    </a:lnTo>
                    <a:lnTo>
                      <a:pt x="1377" y="1537"/>
                    </a:lnTo>
                    <a:lnTo>
                      <a:pt x="1415" y="1541"/>
                    </a:lnTo>
                    <a:lnTo>
                      <a:pt x="1440" y="1534"/>
                    </a:lnTo>
                    <a:lnTo>
                      <a:pt x="1472" y="1526"/>
                    </a:lnTo>
                    <a:lnTo>
                      <a:pt x="1495" y="1510"/>
                    </a:lnTo>
                    <a:lnTo>
                      <a:pt x="1522" y="1485"/>
                    </a:lnTo>
                    <a:lnTo>
                      <a:pt x="1555" y="1494"/>
                    </a:lnTo>
                    <a:lnTo>
                      <a:pt x="1577" y="1531"/>
                    </a:lnTo>
                    <a:lnTo>
                      <a:pt x="1591" y="1561"/>
                    </a:lnTo>
                    <a:lnTo>
                      <a:pt x="1584" y="1591"/>
                    </a:lnTo>
                    <a:lnTo>
                      <a:pt x="1556" y="1644"/>
                    </a:lnTo>
                    <a:lnTo>
                      <a:pt x="1524" y="1653"/>
                    </a:lnTo>
                    <a:lnTo>
                      <a:pt x="1487" y="1626"/>
                    </a:lnTo>
                    <a:lnTo>
                      <a:pt x="1445" y="1610"/>
                    </a:lnTo>
                    <a:lnTo>
                      <a:pt x="1413" y="1603"/>
                    </a:lnTo>
                    <a:lnTo>
                      <a:pt x="1378" y="1588"/>
                    </a:lnTo>
                    <a:lnTo>
                      <a:pt x="1345" y="1554"/>
                    </a:lnTo>
                    <a:lnTo>
                      <a:pt x="1310" y="1539"/>
                    </a:lnTo>
                    <a:lnTo>
                      <a:pt x="1285" y="1546"/>
                    </a:lnTo>
                    <a:lnTo>
                      <a:pt x="1294" y="1580"/>
                    </a:lnTo>
                    <a:lnTo>
                      <a:pt x="1324" y="1624"/>
                    </a:lnTo>
                    <a:lnTo>
                      <a:pt x="1345" y="1646"/>
                    </a:lnTo>
                    <a:lnTo>
                      <a:pt x="1363" y="1690"/>
                    </a:lnTo>
                    <a:lnTo>
                      <a:pt x="1347" y="1710"/>
                    </a:lnTo>
                    <a:lnTo>
                      <a:pt x="1329" y="1721"/>
                    </a:lnTo>
                    <a:lnTo>
                      <a:pt x="1288" y="1732"/>
                    </a:lnTo>
                    <a:lnTo>
                      <a:pt x="1240" y="1720"/>
                    </a:lnTo>
                    <a:lnTo>
                      <a:pt x="1204" y="1703"/>
                    </a:lnTo>
                    <a:lnTo>
                      <a:pt x="1161" y="1690"/>
                    </a:lnTo>
                    <a:lnTo>
                      <a:pt x="1129" y="1695"/>
                    </a:lnTo>
                    <a:lnTo>
                      <a:pt x="1094" y="1701"/>
                    </a:lnTo>
                    <a:cubicBezTo>
                      <a:pt x="1082" y="1694"/>
                      <a:pt x="1070" y="1684"/>
                      <a:pt x="1061" y="1701"/>
                    </a:cubicBezTo>
                    <a:lnTo>
                      <a:pt x="1050" y="1732"/>
                    </a:lnTo>
                    <a:lnTo>
                      <a:pt x="1018" y="1725"/>
                    </a:lnTo>
                    <a:lnTo>
                      <a:pt x="995" y="1709"/>
                    </a:lnTo>
                    <a:lnTo>
                      <a:pt x="969" y="1705"/>
                    </a:lnTo>
                    <a:lnTo>
                      <a:pt x="944" y="1712"/>
                    </a:lnTo>
                    <a:lnTo>
                      <a:pt x="926" y="1723"/>
                    </a:lnTo>
                    <a:lnTo>
                      <a:pt x="931" y="1742"/>
                    </a:lnTo>
                    <a:lnTo>
                      <a:pt x="951" y="1759"/>
                    </a:lnTo>
                    <a:lnTo>
                      <a:pt x="986" y="1776"/>
                    </a:lnTo>
                    <a:lnTo>
                      <a:pt x="1029" y="1789"/>
                    </a:lnTo>
                    <a:lnTo>
                      <a:pt x="1079" y="1791"/>
                    </a:lnTo>
                    <a:lnTo>
                      <a:pt x="1117" y="1787"/>
                    </a:lnTo>
                    <a:lnTo>
                      <a:pt x="1163" y="1778"/>
                    </a:lnTo>
                    <a:lnTo>
                      <a:pt x="1222" y="1777"/>
                    </a:lnTo>
                    <a:lnTo>
                      <a:pt x="1291" y="1795"/>
                    </a:lnTo>
                    <a:lnTo>
                      <a:pt x="1325" y="1819"/>
                    </a:lnTo>
                    <a:lnTo>
                      <a:pt x="1348" y="1860"/>
                    </a:lnTo>
                    <a:lnTo>
                      <a:pt x="1318" y="1876"/>
                    </a:lnTo>
                    <a:lnTo>
                      <a:pt x="1280" y="1856"/>
                    </a:lnTo>
                    <a:lnTo>
                      <a:pt x="1255" y="1844"/>
                    </a:lnTo>
                    <a:lnTo>
                      <a:pt x="1216" y="1834"/>
                    </a:lnTo>
                    <a:lnTo>
                      <a:pt x="1173" y="1833"/>
                    </a:lnTo>
                    <a:lnTo>
                      <a:pt x="1158" y="1858"/>
                    </a:lnTo>
                    <a:lnTo>
                      <a:pt x="1153" y="1884"/>
                    </a:lnTo>
                    <a:lnTo>
                      <a:pt x="1128" y="1907"/>
                    </a:lnTo>
                    <a:lnTo>
                      <a:pt x="1116" y="1928"/>
                    </a:lnTo>
                    <a:lnTo>
                      <a:pt x="1072" y="1970"/>
                    </a:lnTo>
                    <a:lnTo>
                      <a:pt x="1037" y="1955"/>
                    </a:lnTo>
                    <a:lnTo>
                      <a:pt x="1010" y="1945"/>
                    </a:lnTo>
                    <a:lnTo>
                      <a:pt x="970" y="1912"/>
                    </a:lnTo>
                    <a:lnTo>
                      <a:pt x="946" y="1901"/>
                    </a:lnTo>
                    <a:lnTo>
                      <a:pt x="915" y="1887"/>
                    </a:lnTo>
                    <a:lnTo>
                      <a:pt x="885" y="1890"/>
                    </a:lnTo>
                    <a:lnTo>
                      <a:pt x="844" y="1897"/>
                    </a:lnTo>
                    <a:lnTo>
                      <a:pt x="802" y="1909"/>
                    </a:lnTo>
                    <a:lnTo>
                      <a:pt x="778" y="1900"/>
                    </a:lnTo>
                    <a:lnTo>
                      <a:pt x="749" y="1896"/>
                    </a:lnTo>
                    <a:lnTo>
                      <a:pt x="705" y="1902"/>
                    </a:lnTo>
                    <a:lnTo>
                      <a:pt x="664" y="1922"/>
                    </a:lnTo>
                    <a:lnTo>
                      <a:pt x="622" y="1909"/>
                    </a:lnTo>
                    <a:lnTo>
                      <a:pt x="568" y="1895"/>
                    </a:lnTo>
                    <a:lnTo>
                      <a:pt x="517" y="1885"/>
                    </a:lnTo>
                    <a:lnTo>
                      <a:pt x="458" y="1870"/>
                    </a:lnTo>
                    <a:lnTo>
                      <a:pt x="432" y="1853"/>
                    </a:lnTo>
                    <a:lnTo>
                      <a:pt x="398" y="1828"/>
                    </a:lnTo>
                    <a:lnTo>
                      <a:pt x="373" y="1805"/>
                    </a:lnTo>
                    <a:lnTo>
                      <a:pt x="347" y="1778"/>
                    </a:lnTo>
                    <a:lnTo>
                      <a:pt x="318" y="1783"/>
                    </a:lnTo>
                    <a:lnTo>
                      <a:pt x="296" y="1795"/>
                    </a:lnTo>
                    <a:lnTo>
                      <a:pt x="276" y="1775"/>
                    </a:lnTo>
                    <a:lnTo>
                      <a:pt x="268" y="1747"/>
                    </a:lnTo>
                    <a:lnTo>
                      <a:pt x="223" y="1750"/>
                    </a:lnTo>
                    <a:lnTo>
                      <a:pt x="187" y="1772"/>
                    </a:lnTo>
                    <a:lnTo>
                      <a:pt x="143" y="1790"/>
                    </a:lnTo>
                    <a:lnTo>
                      <a:pt x="89" y="1808"/>
                    </a:lnTo>
                    <a:lnTo>
                      <a:pt x="67" y="1827"/>
                    </a:lnTo>
                    <a:lnTo>
                      <a:pt x="33" y="1841"/>
                    </a:lnTo>
                    <a:lnTo>
                      <a:pt x="0" y="185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692800">
                <a:off x="1217160" y="2491920"/>
                <a:ext cx="1176480" cy="71280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692800">
                <a:off x="2255760" y="1506600"/>
                <a:ext cx="1989360" cy="585720"/>
              </a:xfrm>
              <a:custGeom>
                <a:avLst/>
                <a:gdLst/>
                <a:ahLst/>
                <a:rect l="l" t="t" r="r" b="b"/>
                <a:pathLst>
                  <a:path w="1696" h="500">
                    <a:moveTo>
                      <a:pt x="0" y="124"/>
                    </a:moveTo>
                    <a:lnTo>
                      <a:pt x="28" y="172"/>
                    </a:lnTo>
                    <a:lnTo>
                      <a:pt x="88" y="208"/>
                    </a:lnTo>
                    <a:lnTo>
                      <a:pt x="128" y="236"/>
                    </a:lnTo>
                    <a:lnTo>
                      <a:pt x="180" y="248"/>
                    </a:lnTo>
                    <a:lnTo>
                      <a:pt x="232" y="236"/>
                    </a:lnTo>
                    <a:lnTo>
                      <a:pt x="260" y="216"/>
                    </a:lnTo>
                    <a:lnTo>
                      <a:pt x="296" y="212"/>
                    </a:lnTo>
                    <a:lnTo>
                      <a:pt x="308" y="236"/>
                    </a:lnTo>
                    <a:lnTo>
                      <a:pt x="292" y="264"/>
                    </a:lnTo>
                    <a:lnTo>
                      <a:pt x="324" y="284"/>
                    </a:lnTo>
                    <a:lnTo>
                      <a:pt x="376" y="304"/>
                    </a:lnTo>
                    <a:lnTo>
                      <a:pt x="400" y="316"/>
                    </a:lnTo>
                    <a:lnTo>
                      <a:pt x="456" y="336"/>
                    </a:lnTo>
                    <a:lnTo>
                      <a:pt x="492" y="368"/>
                    </a:lnTo>
                    <a:lnTo>
                      <a:pt x="532" y="384"/>
                    </a:lnTo>
                    <a:lnTo>
                      <a:pt x="564" y="392"/>
                    </a:lnTo>
                    <a:lnTo>
                      <a:pt x="596" y="392"/>
                    </a:lnTo>
                    <a:cubicBezTo>
                      <a:pt x="616" y="389"/>
                      <a:pt x="640" y="386"/>
                      <a:pt x="640" y="360"/>
                    </a:cubicBezTo>
                    <a:lnTo>
                      <a:pt x="644" y="336"/>
                    </a:lnTo>
                    <a:lnTo>
                      <a:pt x="624" y="304"/>
                    </a:lnTo>
                    <a:lnTo>
                      <a:pt x="588" y="288"/>
                    </a:lnTo>
                    <a:lnTo>
                      <a:pt x="600" y="244"/>
                    </a:lnTo>
                    <a:lnTo>
                      <a:pt x="632" y="224"/>
                    </a:lnTo>
                    <a:lnTo>
                      <a:pt x="636" y="200"/>
                    </a:lnTo>
                    <a:lnTo>
                      <a:pt x="636" y="172"/>
                    </a:lnTo>
                    <a:lnTo>
                      <a:pt x="676" y="160"/>
                    </a:lnTo>
                    <a:lnTo>
                      <a:pt x="712" y="176"/>
                    </a:lnTo>
                    <a:lnTo>
                      <a:pt x="724" y="208"/>
                    </a:lnTo>
                    <a:lnTo>
                      <a:pt x="728" y="244"/>
                    </a:lnTo>
                    <a:lnTo>
                      <a:pt x="720" y="288"/>
                    </a:lnTo>
                    <a:lnTo>
                      <a:pt x="724" y="316"/>
                    </a:lnTo>
                    <a:lnTo>
                      <a:pt x="776" y="344"/>
                    </a:lnTo>
                    <a:lnTo>
                      <a:pt x="828" y="344"/>
                    </a:lnTo>
                    <a:lnTo>
                      <a:pt x="868" y="324"/>
                    </a:lnTo>
                    <a:lnTo>
                      <a:pt x="916" y="308"/>
                    </a:lnTo>
                    <a:lnTo>
                      <a:pt x="940" y="308"/>
                    </a:lnTo>
                    <a:lnTo>
                      <a:pt x="972" y="328"/>
                    </a:lnTo>
                    <a:lnTo>
                      <a:pt x="1000" y="336"/>
                    </a:lnTo>
                    <a:lnTo>
                      <a:pt x="1036" y="352"/>
                    </a:lnTo>
                    <a:lnTo>
                      <a:pt x="1084" y="352"/>
                    </a:lnTo>
                    <a:lnTo>
                      <a:pt x="1112" y="352"/>
                    </a:lnTo>
                    <a:lnTo>
                      <a:pt x="1132" y="320"/>
                    </a:lnTo>
                    <a:lnTo>
                      <a:pt x="1116" y="288"/>
                    </a:lnTo>
                    <a:lnTo>
                      <a:pt x="1116" y="264"/>
                    </a:lnTo>
                    <a:lnTo>
                      <a:pt x="1128" y="240"/>
                    </a:lnTo>
                    <a:lnTo>
                      <a:pt x="1156" y="232"/>
                    </a:lnTo>
                    <a:lnTo>
                      <a:pt x="1204" y="252"/>
                    </a:lnTo>
                    <a:lnTo>
                      <a:pt x="1220" y="276"/>
                    </a:lnTo>
                    <a:lnTo>
                      <a:pt x="1236" y="300"/>
                    </a:lnTo>
                    <a:lnTo>
                      <a:pt x="1272" y="312"/>
                    </a:lnTo>
                    <a:lnTo>
                      <a:pt x="1308" y="324"/>
                    </a:lnTo>
                    <a:lnTo>
                      <a:pt x="1332" y="340"/>
                    </a:lnTo>
                    <a:lnTo>
                      <a:pt x="1308" y="372"/>
                    </a:lnTo>
                    <a:lnTo>
                      <a:pt x="1304" y="396"/>
                    </a:lnTo>
                    <a:lnTo>
                      <a:pt x="1344" y="420"/>
                    </a:lnTo>
                    <a:lnTo>
                      <a:pt x="1388" y="412"/>
                    </a:lnTo>
                    <a:lnTo>
                      <a:pt x="1420" y="404"/>
                    </a:lnTo>
                    <a:lnTo>
                      <a:pt x="1444" y="388"/>
                    </a:lnTo>
                    <a:lnTo>
                      <a:pt x="1484" y="372"/>
                    </a:lnTo>
                    <a:lnTo>
                      <a:pt x="1524" y="408"/>
                    </a:lnTo>
                    <a:lnTo>
                      <a:pt x="1556" y="432"/>
                    </a:lnTo>
                    <a:lnTo>
                      <a:pt x="1560" y="460"/>
                    </a:lnTo>
                    <a:lnTo>
                      <a:pt x="1604" y="488"/>
                    </a:lnTo>
                    <a:lnTo>
                      <a:pt x="1652" y="500"/>
                    </a:lnTo>
                    <a:lnTo>
                      <a:pt x="1688" y="488"/>
                    </a:lnTo>
                    <a:lnTo>
                      <a:pt x="1696" y="460"/>
                    </a:lnTo>
                    <a:lnTo>
                      <a:pt x="1676" y="396"/>
                    </a:lnTo>
                    <a:lnTo>
                      <a:pt x="1652" y="376"/>
                    </a:lnTo>
                    <a:lnTo>
                      <a:pt x="1620" y="344"/>
                    </a:lnTo>
                    <a:lnTo>
                      <a:pt x="1612" y="320"/>
                    </a:lnTo>
                    <a:lnTo>
                      <a:pt x="1584" y="280"/>
                    </a:lnTo>
                    <a:lnTo>
                      <a:pt x="1564" y="236"/>
                    </a:lnTo>
                    <a:lnTo>
                      <a:pt x="1564" y="200"/>
                    </a:lnTo>
                    <a:lnTo>
                      <a:pt x="1516" y="164"/>
                    </a:lnTo>
                    <a:lnTo>
                      <a:pt x="1484" y="148"/>
                    </a:lnTo>
                    <a:lnTo>
                      <a:pt x="1432" y="136"/>
                    </a:lnTo>
                    <a:lnTo>
                      <a:pt x="1384" y="116"/>
                    </a:lnTo>
                    <a:lnTo>
                      <a:pt x="1376" y="148"/>
                    </a:lnTo>
                    <a:lnTo>
                      <a:pt x="1328" y="156"/>
                    </a:lnTo>
                    <a:lnTo>
                      <a:pt x="1244" y="152"/>
                    </a:lnTo>
                    <a:lnTo>
                      <a:pt x="1184" y="124"/>
                    </a:lnTo>
                    <a:lnTo>
                      <a:pt x="1120" y="108"/>
                    </a:lnTo>
                    <a:lnTo>
                      <a:pt x="1032" y="68"/>
                    </a:lnTo>
                    <a:lnTo>
                      <a:pt x="984" y="64"/>
                    </a:lnTo>
                    <a:lnTo>
                      <a:pt x="912" y="88"/>
                    </a:lnTo>
                    <a:lnTo>
                      <a:pt x="888" y="132"/>
                    </a:lnTo>
                    <a:lnTo>
                      <a:pt x="856" y="188"/>
                    </a:lnTo>
                    <a:lnTo>
                      <a:pt x="800" y="176"/>
                    </a:lnTo>
                    <a:lnTo>
                      <a:pt x="744" y="152"/>
                    </a:lnTo>
                    <a:lnTo>
                      <a:pt x="700" y="112"/>
                    </a:lnTo>
                    <a:lnTo>
                      <a:pt x="640" y="76"/>
                    </a:lnTo>
                    <a:lnTo>
                      <a:pt x="544" y="84"/>
                    </a:lnTo>
                    <a:lnTo>
                      <a:pt x="460" y="84"/>
                    </a:lnTo>
                    <a:lnTo>
                      <a:pt x="388" y="104"/>
                    </a:lnTo>
                    <a:lnTo>
                      <a:pt x="316" y="104"/>
                    </a:lnTo>
                    <a:lnTo>
                      <a:pt x="256" y="92"/>
                    </a:lnTo>
                    <a:lnTo>
                      <a:pt x="208" y="60"/>
                    </a:lnTo>
                    <a:lnTo>
                      <a:pt x="208" y="12"/>
                    </a:lnTo>
                    <a:lnTo>
                      <a:pt x="160" y="0"/>
                    </a:lnTo>
                    <a:lnTo>
                      <a:pt x="112" y="44"/>
                    </a:lnTo>
                    <a:lnTo>
                      <a:pt x="60" y="76"/>
                    </a:lnTo>
                    <a:lnTo>
                      <a:pt x="0" y="1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92800">
                <a:off x="3551040" y="3970440"/>
                <a:ext cx="352440" cy="1872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92800">
                <a:off x="4435560" y="3901680"/>
                <a:ext cx="299880" cy="3412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92800">
                <a:off x="4719240" y="3255480"/>
                <a:ext cx="177840" cy="14148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92800">
                <a:off x="4120920" y="3222360"/>
                <a:ext cx="158760" cy="1411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692800">
                <a:off x="4154400" y="2521080"/>
                <a:ext cx="473040" cy="631800"/>
              </a:xfrm>
              <a:custGeom>
                <a:avLst/>
                <a:gdLst/>
                <a:ahLst/>
                <a:rect l="l" t="t" r="r" b="b"/>
                <a:pathLst>
                  <a:path w="404" h="540">
                    <a:moveTo>
                      <a:pt x="4" y="488"/>
                    </a:moveTo>
                    <a:lnTo>
                      <a:pt x="0" y="452"/>
                    </a:lnTo>
                    <a:lnTo>
                      <a:pt x="16" y="420"/>
                    </a:lnTo>
                    <a:lnTo>
                      <a:pt x="52" y="400"/>
                    </a:lnTo>
                    <a:cubicBezTo>
                      <a:pt x="56" y="383"/>
                      <a:pt x="56" y="389"/>
                      <a:pt x="56" y="380"/>
                    </a:cubicBezTo>
                    <a:lnTo>
                      <a:pt x="56" y="356"/>
                    </a:lnTo>
                    <a:cubicBezTo>
                      <a:pt x="59" y="342"/>
                      <a:pt x="62" y="334"/>
                      <a:pt x="72" y="324"/>
                    </a:cubicBezTo>
                    <a:lnTo>
                      <a:pt x="92" y="304"/>
                    </a:lnTo>
                    <a:lnTo>
                      <a:pt x="104" y="268"/>
                    </a:lnTo>
                    <a:lnTo>
                      <a:pt x="104" y="232"/>
                    </a:lnTo>
                    <a:lnTo>
                      <a:pt x="108" y="188"/>
                    </a:lnTo>
                    <a:lnTo>
                      <a:pt x="136" y="164"/>
                    </a:lnTo>
                    <a:lnTo>
                      <a:pt x="156" y="144"/>
                    </a:lnTo>
                    <a:lnTo>
                      <a:pt x="172" y="120"/>
                    </a:lnTo>
                    <a:lnTo>
                      <a:pt x="204" y="96"/>
                    </a:lnTo>
                    <a:lnTo>
                      <a:pt x="232" y="92"/>
                    </a:lnTo>
                    <a:lnTo>
                      <a:pt x="264" y="100"/>
                    </a:lnTo>
                    <a:lnTo>
                      <a:pt x="292" y="88"/>
                    </a:lnTo>
                    <a:lnTo>
                      <a:pt x="300" y="44"/>
                    </a:lnTo>
                    <a:lnTo>
                      <a:pt x="316" y="16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64" y="12"/>
                    </a:lnTo>
                    <a:lnTo>
                      <a:pt x="404" y="52"/>
                    </a:lnTo>
                    <a:lnTo>
                      <a:pt x="388" y="100"/>
                    </a:lnTo>
                    <a:lnTo>
                      <a:pt x="356" y="116"/>
                    </a:lnTo>
                    <a:lnTo>
                      <a:pt x="324" y="140"/>
                    </a:lnTo>
                    <a:lnTo>
                      <a:pt x="296" y="168"/>
                    </a:lnTo>
                    <a:lnTo>
                      <a:pt x="268" y="188"/>
                    </a:lnTo>
                    <a:lnTo>
                      <a:pt x="244" y="196"/>
                    </a:lnTo>
                    <a:lnTo>
                      <a:pt x="232" y="220"/>
                    </a:lnTo>
                    <a:lnTo>
                      <a:pt x="224" y="252"/>
                    </a:lnTo>
                    <a:lnTo>
                      <a:pt x="196" y="260"/>
                    </a:lnTo>
                    <a:lnTo>
                      <a:pt x="176" y="288"/>
                    </a:lnTo>
                    <a:lnTo>
                      <a:pt x="172" y="316"/>
                    </a:lnTo>
                    <a:lnTo>
                      <a:pt x="156" y="336"/>
                    </a:lnTo>
                    <a:lnTo>
                      <a:pt x="124" y="356"/>
                    </a:lnTo>
                    <a:lnTo>
                      <a:pt x="100" y="404"/>
                    </a:lnTo>
                    <a:lnTo>
                      <a:pt x="100" y="428"/>
                    </a:lnTo>
                    <a:lnTo>
                      <a:pt x="100" y="452"/>
                    </a:lnTo>
                    <a:lnTo>
                      <a:pt x="100" y="476"/>
                    </a:lnTo>
                    <a:lnTo>
                      <a:pt x="100" y="516"/>
                    </a:lnTo>
                    <a:lnTo>
                      <a:pt x="60" y="540"/>
                    </a:lnTo>
                    <a:lnTo>
                      <a:pt x="24" y="532"/>
                    </a:lnTo>
                    <a:lnTo>
                      <a:pt x="4" y="48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692800">
                <a:off x="3701520" y="1538280"/>
                <a:ext cx="211320" cy="209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40" y="0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692800">
                <a:off x="2276640" y="1663200"/>
                <a:ext cx="684000" cy="196920"/>
              </a:xfrm>
              <a:custGeom>
                <a:avLst/>
                <a:gdLst/>
                <a:ahLst/>
                <a:rect l="l" t="t" r="r" b="b"/>
                <a:pathLst>
                  <a:path w="584" h="168">
                    <a:moveTo>
                      <a:pt x="0" y="100"/>
                    </a:moveTo>
                    <a:lnTo>
                      <a:pt x="12" y="120"/>
                    </a:lnTo>
                    <a:lnTo>
                      <a:pt x="36" y="140"/>
                    </a:lnTo>
                    <a:lnTo>
                      <a:pt x="80" y="160"/>
                    </a:lnTo>
                    <a:lnTo>
                      <a:pt x="128" y="144"/>
                    </a:lnTo>
                    <a:lnTo>
                      <a:pt x="156" y="140"/>
                    </a:lnTo>
                    <a:lnTo>
                      <a:pt x="196" y="148"/>
                    </a:lnTo>
                    <a:lnTo>
                      <a:pt x="260" y="168"/>
                    </a:lnTo>
                    <a:lnTo>
                      <a:pt x="300" y="168"/>
                    </a:lnTo>
                    <a:lnTo>
                      <a:pt x="340" y="156"/>
                    </a:lnTo>
                    <a:lnTo>
                      <a:pt x="396" y="140"/>
                    </a:lnTo>
                    <a:lnTo>
                      <a:pt x="428" y="136"/>
                    </a:lnTo>
                    <a:lnTo>
                      <a:pt x="496" y="136"/>
                    </a:lnTo>
                    <a:lnTo>
                      <a:pt x="560" y="132"/>
                    </a:lnTo>
                    <a:lnTo>
                      <a:pt x="584" y="116"/>
                    </a:lnTo>
                    <a:lnTo>
                      <a:pt x="580" y="80"/>
                    </a:lnTo>
                    <a:lnTo>
                      <a:pt x="512" y="80"/>
                    </a:lnTo>
                    <a:lnTo>
                      <a:pt x="464" y="80"/>
                    </a:lnTo>
                    <a:lnTo>
                      <a:pt x="440" y="92"/>
                    </a:lnTo>
                    <a:lnTo>
                      <a:pt x="392" y="100"/>
                    </a:lnTo>
                    <a:lnTo>
                      <a:pt x="356" y="104"/>
                    </a:lnTo>
                    <a:lnTo>
                      <a:pt x="320" y="108"/>
                    </a:lnTo>
                    <a:lnTo>
                      <a:pt x="292" y="112"/>
                    </a:lnTo>
                    <a:lnTo>
                      <a:pt x="252" y="112"/>
                    </a:lnTo>
                    <a:lnTo>
                      <a:pt x="220" y="100"/>
                    </a:lnTo>
                    <a:lnTo>
                      <a:pt x="196" y="60"/>
                    </a:lnTo>
                    <a:lnTo>
                      <a:pt x="172" y="16"/>
                    </a:lnTo>
                    <a:lnTo>
                      <a:pt x="148" y="0"/>
                    </a:lnTo>
                    <a:lnTo>
                      <a:pt x="112" y="16"/>
                    </a:lnTo>
                    <a:lnTo>
                      <a:pt x="68" y="52"/>
                    </a:lnTo>
                    <a:lnTo>
                      <a:pt x="44" y="64"/>
                    </a:lnTo>
                    <a:lnTo>
                      <a:pt x="16" y="72"/>
                    </a:lnTo>
                    <a:lnTo>
                      <a:pt x="0" y="10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63040" y="30146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nn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320" y="595440"/>
                <a:ext cx="4130640" cy="5189400"/>
              </a:xfrm>
              <a:custGeom>
                <a:avLst/>
                <a:gdLst/>
                <a:ahLst/>
                <a:rect l="l" t="t" r="r" b="b"/>
                <a:pathLst>
                  <a:path w="2602" h="3269">
                    <a:moveTo>
                      <a:pt x="518" y="3269"/>
                    </a:moveTo>
                    <a:lnTo>
                      <a:pt x="317" y="2503"/>
                    </a:lnTo>
                    <a:lnTo>
                      <a:pt x="275" y="2449"/>
                    </a:lnTo>
                    <a:lnTo>
                      <a:pt x="301" y="2405"/>
                    </a:lnTo>
                    <a:lnTo>
                      <a:pt x="258" y="2227"/>
                    </a:lnTo>
                    <a:lnTo>
                      <a:pt x="230" y="2202"/>
                    </a:lnTo>
                    <a:lnTo>
                      <a:pt x="230" y="2159"/>
                    </a:lnTo>
                    <a:lnTo>
                      <a:pt x="220" y="2103"/>
                    </a:lnTo>
                    <a:lnTo>
                      <a:pt x="176" y="1980"/>
                    </a:lnTo>
                    <a:lnTo>
                      <a:pt x="198" y="1925"/>
                    </a:lnTo>
                    <a:lnTo>
                      <a:pt x="175" y="1899"/>
                    </a:lnTo>
                    <a:lnTo>
                      <a:pt x="142" y="1875"/>
                    </a:lnTo>
                    <a:lnTo>
                      <a:pt x="123" y="1831"/>
                    </a:lnTo>
                    <a:lnTo>
                      <a:pt x="85" y="1810"/>
                    </a:lnTo>
                    <a:lnTo>
                      <a:pt x="57" y="1779"/>
                    </a:lnTo>
                    <a:lnTo>
                      <a:pt x="30" y="1744"/>
                    </a:lnTo>
                    <a:lnTo>
                      <a:pt x="5" y="1712"/>
                    </a:lnTo>
                    <a:lnTo>
                      <a:pt x="3" y="1622"/>
                    </a:lnTo>
                    <a:lnTo>
                      <a:pt x="0" y="1569"/>
                    </a:lnTo>
                    <a:lnTo>
                      <a:pt x="21" y="1546"/>
                    </a:lnTo>
                    <a:lnTo>
                      <a:pt x="58" y="1543"/>
                    </a:lnTo>
                    <a:lnTo>
                      <a:pt x="87" y="1555"/>
                    </a:lnTo>
                    <a:lnTo>
                      <a:pt x="127" y="1561"/>
                    </a:lnTo>
                    <a:lnTo>
                      <a:pt x="179" y="1552"/>
                    </a:lnTo>
                    <a:lnTo>
                      <a:pt x="214" y="1565"/>
                    </a:lnTo>
                    <a:lnTo>
                      <a:pt x="255" y="1554"/>
                    </a:lnTo>
                    <a:lnTo>
                      <a:pt x="283" y="1502"/>
                    </a:lnTo>
                    <a:lnTo>
                      <a:pt x="293" y="1441"/>
                    </a:lnTo>
                    <a:lnTo>
                      <a:pt x="316" y="1402"/>
                    </a:lnTo>
                    <a:lnTo>
                      <a:pt x="339" y="1368"/>
                    </a:lnTo>
                    <a:lnTo>
                      <a:pt x="344" y="1324"/>
                    </a:lnTo>
                    <a:lnTo>
                      <a:pt x="352" y="1295"/>
                    </a:lnTo>
                    <a:lnTo>
                      <a:pt x="366" y="1269"/>
                    </a:lnTo>
                    <a:lnTo>
                      <a:pt x="395" y="1235"/>
                    </a:lnTo>
                    <a:lnTo>
                      <a:pt x="425" y="1227"/>
                    </a:lnTo>
                    <a:lnTo>
                      <a:pt x="462" y="1222"/>
                    </a:lnTo>
                    <a:lnTo>
                      <a:pt x="508" y="1215"/>
                    </a:lnTo>
                    <a:lnTo>
                      <a:pt x="520" y="1179"/>
                    </a:lnTo>
                    <a:lnTo>
                      <a:pt x="539" y="1173"/>
                    </a:lnTo>
                    <a:lnTo>
                      <a:pt x="557" y="1196"/>
                    </a:lnTo>
                    <a:lnTo>
                      <a:pt x="576" y="1169"/>
                    </a:lnTo>
                    <a:lnTo>
                      <a:pt x="599" y="1169"/>
                    </a:lnTo>
                    <a:lnTo>
                      <a:pt x="619" y="1185"/>
                    </a:lnTo>
                    <a:lnTo>
                      <a:pt x="646" y="1163"/>
                    </a:lnTo>
                    <a:lnTo>
                      <a:pt x="674" y="1170"/>
                    </a:lnTo>
                    <a:lnTo>
                      <a:pt x="726" y="1161"/>
                    </a:lnTo>
                    <a:lnTo>
                      <a:pt x="753" y="1153"/>
                    </a:lnTo>
                    <a:lnTo>
                      <a:pt x="782" y="1169"/>
                    </a:lnTo>
                    <a:lnTo>
                      <a:pt x="794" y="1153"/>
                    </a:lnTo>
                    <a:lnTo>
                      <a:pt x="790" y="1118"/>
                    </a:lnTo>
                    <a:lnTo>
                      <a:pt x="811" y="1118"/>
                    </a:lnTo>
                    <a:lnTo>
                      <a:pt x="819" y="1181"/>
                    </a:lnTo>
                    <a:lnTo>
                      <a:pt x="842" y="1187"/>
                    </a:lnTo>
                    <a:lnTo>
                      <a:pt x="848" y="1160"/>
                    </a:lnTo>
                    <a:lnTo>
                      <a:pt x="864" y="1153"/>
                    </a:lnTo>
                    <a:lnTo>
                      <a:pt x="879" y="1186"/>
                    </a:lnTo>
                    <a:lnTo>
                      <a:pt x="898" y="1168"/>
                    </a:lnTo>
                    <a:lnTo>
                      <a:pt x="933" y="1170"/>
                    </a:lnTo>
                    <a:lnTo>
                      <a:pt x="936" y="1146"/>
                    </a:lnTo>
                    <a:lnTo>
                      <a:pt x="918" y="1132"/>
                    </a:lnTo>
                    <a:lnTo>
                      <a:pt x="882" y="1119"/>
                    </a:lnTo>
                    <a:lnTo>
                      <a:pt x="849" y="1096"/>
                    </a:lnTo>
                    <a:lnTo>
                      <a:pt x="827" y="1059"/>
                    </a:lnTo>
                    <a:lnTo>
                      <a:pt x="828" y="1020"/>
                    </a:lnTo>
                    <a:lnTo>
                      <a:pt x="855" y="976"/>
                    </a:lnTo>
                    <a:lnTo>
                      <a:pt x="891" y="972"/>
                    </a:lnTo>
                    <a:lnTo>
                      <a:pt x="926" y="983"/>
                    </a:lnTo>
                    <a:lnTo>
                      <a:pt x="996" y="980"/>
                    </a:lnTo>
                    <a:lnTo>
                      <a:pt x="1035" y="985"/>
                    </a:lnTo>
                    <a:lnTo>
                      <a:pt x="1065" y="1000"/>
                    </a:lnTo>
                    <a:lnTo>
                      <a:pt x="1094" y="987"/>
                    </a:lnTo>
                    <a:lnTo>
                      <a:pt x="1116" y="948"/>
                    </a:lnTo>
                    <a:lnTo>
                      <a:pt x="1154" y="927"/>
                    </a:lnTo>
                    <a:lnTo>
                      <a:pt x="1184" y="919"/>
                    </a:lnTo>
                    <a:lnTo>
                      <a:pt x="1224" y="946"/>
                    </a:lnTo>
                    <a:lnTo>
                      <a:pt x="1241" y="974"/>
                    </a:lnTo>
                    <a:lnTo>
                      <a:pt x="1273" y="969"/>
                    </a:lnTo>
                    <a:lnTo>
                      <a:pt x="1293" y="944"/>
                    </a:lnTo>
                    <a:lnTo>
                      <a:pt x="1319" y="898"/>
                    </a:lnTo>
                    <a:lnTo>
                      <a:pt x="1327" y="869"/>
                    </a:lnTo>
                    <a:lnTo>
                      <a:pt x="1339" y="834"/>
                    </a:lnTo>
                    <a:lnTo>
                      <a:pt x="1365" y="788"/>
                    </a:lnTo>
                    <a:lnTo>
                      <a:pt x="1401" y="763"/>
                    </a:lnTo>
                    <a:lnTo>
                      <a:pt x="1432" y="718"/>
                    </a:lnTo>
                    <a:lnTo>
                      <a:pt x="1468" y="713"/>
                    </a:lnTo>
                    <a:cubicBezTo>
                      <a:pt x="1471" y="725"/>
                      <a:pt x="1475" y="736"/>
                      <a:pt x="1478" y="748"/>
                    </a:cubicBezTo>
                    <a:lnTo>
                      <a:pt x="1526" y="767"/>
                    </a:lnTo>
                    <a:lnTo>
                      <a:pt x="1578" y="758"/>
                    </a:lnTo>
                    <a:lnTo>
                      <a:pt x="1614" y="748"/>
                    </a:lnTo>
                    <a:lnTo>
                      <a:pt x="1651" y="728"/>
                    </a:lnTo>
                    <a:lnTo>
                      <a:pt x="1705" y="708"/>
                    </a:lnTo>
                    <a:lnTo>
                      <a:pt x="1748" y="691"/>
                    </a:lnTo>
                    <a:lnTo>
                      <a:pt x="1789" y="680"/>
                    </a:lnTo>
                    <a:lnTo>
                      <a:pt x="1823" y="687"/>
                    </a:lnTo>
                    <a:lnTo>
                      <a:pt x="1885" y="713"/>
                    </a:lnTo>
                    <a:lnTo>
                      <a:pt x="1925" y="724"/>
                    </a:lnTo>
                    <a:lnTo>
                      <a:pt x="1966" y="713"/>
                    </a:lnTo>
                    <a:lnTo>
                      <a:pt x="1974" y="684"/>
                    </a:lnTo>
                    <a:lnTo>
                      <a:pt x="1976" y="635"/>
                    </a:lnTo>
                    <a:lnTo>
                      <a:pt x="2028" y="604"/>
                    </a:lnTo>
                    <a:lnTo>
                      <a:pt x="2063" y="595"/>
                    </a:lnTo>
                    <a:lnTo>
                      <a:pt x="2115" y="608"/>
                    </a:lnTo>
                    <a:lnTo>
                      <a:pt x="2178" y="602"/>
                    </a:lnTo>
                    <a:lnTo>
                      <a:pt x="2229" y="610"/>
                    </a:lnTo>
                    <a:lnTo>
                      <a:pt x="2283" y="606"/>
                    </a:lnTo>
                    <a:lnTo>
                      <a:pt x="2326" y="589"/>
                    </a:lnTo>
                    <a:lnTo>
                      <a:pt x="2328" y="555"/>
                    </a:lnTo>
                    <a:lnTo>
                      <a:pt x="2347" y="529"/>
                    </a:lnTo>
                    <a:lnTo>
                      <a:pt x="2390" y="506"/>
                    </a:lnTo>
                    <a:lnTo>
                      <a:pt x="2430" y="496"/>
                    </a:lnTo>
                    <a:lnTo>
                      <a:pt x="2438" y="446"/>
                    </a:lnTo>
                    <a:lnTo>
                      <a:pt x="2481" y="423"/>
                    </a:lnTo>
                    <a:lnTo>
                      <a:pt x="2504" y="368"/>
                    </a:lnTo>
                    <a:lnTo>
                      <a:pt x="2518" y="321"/>
                    </a:lnTo>
                    <a:lnTo>
                      <a:pt x="2530" y="285"/>
                    </a:lnTo>
                    <a:lnTo>
                      <a:pt x="2520" y="251"/>
                    </a:lnTo>
                    <a:lnTo>
                      <a:pt x="2541" y="228"/>
                    </a:lnTo>
                    <a:lnTo>
                      <a:pt x="2565" y="195"/>
                    </a:lnTo>
                    <a:lnTo>
                      <a:pt x="2596" y="163"/>
                    </a:lnTo>
                    <a:lnTo>
                      <a:pt x="2590" y="98"/>
                    </a:lnTo>
                    <a:lnTo>
                      <a:pt x="2602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9080" y="4365720"/>
                <a:ext cx="5572080" cy="1427040"/>
              </a:xfrm>
              <a:custGeom>
                <a:avLst/>
                <a:gdLst/>
                <a:ahLst/>
                <a:rect l="l" t="t" r="r" b="b"/>
                <a:pathLst>
                  <a:path w="3510" h="899">
                    <a:moveTo>
                      <a:pt x="0" y="883"/>
                    </a:moveTo>
                    <a:cubicBezTo>
                      <a:pt x="12" y="883"/>
                      <a:pt x="53" y="881"/>
                      <a:pt x="73" y="883"/>
                    </a:cubicBezTo>
                    <a:cubicBezTo>
                      <a:pt x="93" y="885"/>
                      <a:pt x="102" y="896"/>
                      <a:pt x="120" y="897"/>
                    </a:cubicBezTo>
                    <a:cubicBezTo>
                      <a:pt x="137" y="899"/>
                      <a:pt x="162" y="893"/>
                      <a:pt x="178" y="892"/>
                    </a:cubicBezTo>
                    <a:cubicBezTo>
                      <a:pt x="195" y="891"/>
                      <a:pt x="206" y="893"/>
                      <a:pt x="221" y="891"/>
                    </a:cubicBezTo>
                    <a:cubicBezTo>
                      <a:pt x="236" y="888"/>
                      <a:pt x="250" y="890"/>
                      <a:pt x="267" y="879"/>
                    </a:cubicBezTo>
                    <a:cubicBezTo>
                      <a:pt x="283" y="869"/>
                      <a:pt x="304" y="842"/>
                      <a:pt x="318" y="828"/>
                    </a:cubicBezTo>
                    <a:cubicBezTo>
                      <a:pt x="331" y="813"/>
                      <a:pt x="336" y="797"/>
                      <a:pt x="346" y="793"/>
                    </a:cubicBezTo>
                    <a:cubicBezTo>
                      <a:pt x="355" y="789"/>
                      <a:pt x="365" y="802"/>
                      <a:pt x="375" y="801"/>
                    </a:cubicBezTo>
                    <a:cubicBezTo>
                      <a:pt x="387" y="801"/>
                      <a:pt x="402" y="800"/>
                      <a:pt x="410" y="792"/>
                    </a:cubicBezTo>
                    <a:cubicBezTo>
                      <a:pt x="419" y="783"/>
                      <a:pt x="415" y="762"/>
                      <a:pt x="426" y="750"/>
                    </a:cubicBezTo>
                    <a:cubicBezTo>
                      <a:pt x="437" y="737"/>
                      <a:pt x="457" y="724"/>
                      <a:pt x="471" y="716"/>
                    </a:cubicBezTo>
                    <a:cubicBezTo>
                      <a:pt x="485" y="708"/>
                      <a:pt x="495" y="709"/>
                      <a:pt x="511" y="705"/>
                    </a:cubicBezTo>
                    <a:cubicBezTo>
                      <a:pt x="527" y="702"/>
                      <a:pt x="548" y="697"/>
                      <a:pt x="568" y="695"/>
                    </a:cubicBezTo>
                    <a:cubicBezTo>
                      <a:pt x="588" y="694"/>
                      <a:pt x="613" y="699"/>
                      <a:pt x="627" y="696"/>
                    </a:cubicBezTo>
                    <a:cubicBezTo>
                      <a:pt x="643" y="692"/>
                      <a:pt x="645" y="680"/>
                      <a:pt x="659" y="676"/>
                    </a:cubicBezTo>
                    <a:cubicBezTo>
                      <a:pt x="675" y="672"/>
                      <a:pt x="701" y="674"/>
                      <a:pt x="718" y="671"/>
                    </a:cubicBezTo>
                    <a:cubicBezTo>
                      <a:pt x="735" y="668"/>
                      <a:pt x="745" y="665"/>
                      <a:pt x="764" y="659"/>
                    </a:cubicBezTo>
                    <a:cubicBezTo>
                      <a:pt x="781" y="652"/>
                      <a:pt x="818" y="639"/>
                      <a:pt x="831" y="629"/>
                    </a:cubicBezTo>
                    <a:cubicBezTo>
                      <a:pt x="843" y="620"/>
                      <a:pt x="832" y="609"/>
                      <a:pt x="839" y="600"/>
                    </a:cubicBezTo>
                    <a:cubicBezTo>
                      <a:pt x="846" y="592"/>
                      <a:pt x="857" y="583"/>
                      <a:pt x="871" y="576"/>
                    </a:cubicBezTo>
                    <a:cubicBezTo>
                      <a:pt x="884" y="569"/>
                      <a:pt x="908" y="564"/>
                      <a:pt x="921" y="563"/>
                    </a:cubicBezTo>
                    <a:cubicBezTo>
                      <a:pt x="933" y="561"/>
                      <a:pt x="941" y="575"/>
                      <a:pt x="950" y="570"/>
                    </a:cubicBezTo>
                    <a:cubicBezTo>
                      <a:pt x="958" y="567"/>
                      <a:pt x="965" y="540"/>
                      <a:pt x="973" y="538"/>
                    </a:cubicBezTo>
                    <a:cubicBezTo>
                      <a:pt x="983" y="534"/>
                      <a:pt x="993" y="545"/>
                      <a:pt x="1004" y="551"/>
                    </a:cubicBezTo>
                    <a:cubicBezTo>
                      <a:pt x="1015" y="556"/>
                      <a:pt x="1030" y="563"/>
                      <a:pt x="1040" y="568"/>
                    </a:cubicBezTo>
                    <a:cubicBezTo>
                      <a:pt x="1052" y="572"/>
                      <a:pt x="1059" y="574"/>
                      <a:pt x="1071" y="576"/>
                    </a:cubicBezTo>
                    <a:cubicBezTo>
                      <a:pt x="1082" y="577"/>
                      <a:pt x="1106" y="583"/>
                      <a:pt x="1113" y="576"/>
                    </a:cubicBezTo>
                    <a:cubicBezTo>
                      <a:pt x="1120" y="568"/>
                      <a:pt x="1108" y="541"/>
                      <a:pt x="1110" y="527"/>
                    </a:cubicBezTo>
                    <a:cubicBezTo>
                      <a:pt x="1114" y="514"/>
                      <a:pt x="1125" y="497"/>
                      <a:pt x="1133" y="489"/>
                    </a:cubicBezTo>
                    <a:cubicBezTo>
                      <a:pt x="1141" y="481"/>
                      <a:pt x="1153" y="486"/>
                      <a:pt x="1163" y="481"/>
                    </a:cubicBezTo>
                    <a:cubicBezTo>
                      <a:pt x="1173" y="476"/>
                      <a:pt x="1180" y="465"/>
                      <a:pt x="1193" y="456"/>
                    </a:cubicBezTo>
                    <a:cubicBezTo>
                      <a:pt x="1208" y="448"/>
                      <a:pt x="1232" y="439"/>
                      <a:pt x="1247" y="431"/>
                    </a:cubicBezTo>
                    <a:cubicBezTo>
                      <a:pt x="1260" y="423"/>
                      <a:pt x="1261" y="422"/>
                      <a:pt x="1280" y="412"/>
                    </a:cubicBezTo>
                    <a:cubicBezTo>
                      <a:pt x="1298" y="401"/>
                      <a:pt x="1338" y="378"/>
                      <a:pt x="1359" y="368"/>
                    </a:cubicBezTo>
                    <a:cubicBezTo>
                      <a:pt x="1382" y="358"/>
                      <a:pt x="1395" y="356"/>
                      <a:pt x="1408" y="350"/>
                    </a:cubicBezTo>
                    <a:cubicBezTo>
                      <a:pt x="1421" y="345"/>
                      <a:pt x="1426" y="337"/>
                      <a:pt x="1436" y="332"/>
                    </a:cubicBezTo>
                    <a:cubicBezTo>
                      <a:pt x="1445" y="327"/>
                      <a:pt x="1458" y="322"/>
                      <a:pt x="1470" y="317"/>
                    </a:cubicBezTo>
                    <a:cubicBezTo>
                      <a:pt x="1482" y="313"/>
                      <a:pt x="1495" y="305"/>
                      <a:pt x="1508" y="301"/>
                    </a:cubicBezTo>
                    <a:cubicBezTo>
                      <a:pt x="1523" y="297"/>
                      <a:pt x="1544" y="290"/>
                      <a:pt x="1556" y="294"/>
                    </a:cubicBezTo>
                    <a:cubicBezTo>
                      <a:pt x="1567" y="299"/>
                      <a:pt x="1568" y="324"/>
                      <a:pt x="1576" y="332"/>
                    </a:cubicBezTo>
                    <a:cubicBezTo>
                      <a:pt x="1584" y="339"/>
                      <a:pt x="1595" y="341"/>
                      <a:pt x="1605" y="339"/>
                    </a:cubicBezTo>
                    <a:cubicBezTo>
                      <a:pt x="1614" y="338"/>
                      <a:pt x="1623" y="319"/>
                      <a:pt x="1634" y="321"/>
                    </a:cubicBezTo>
                    <a:cubicBezTo>
                      <a:pt x="1644" y="324"/>
                      <a:pt x="1658" y="345"/>
                      <a:pt x="1669" y="355"/>
                    </a:cubicBezTo>
                    <a:cubicBezTo>
                      <a:pt x="1681" y="365"/>
                      <a:pt x="1692" y="370"/>
                      <a:pt x="1702" y="379"/>
                    </a:cubicBezTo>
                    <a:cubicBezTo>
                      <a:pt x="1713" y="387"/>
                      <a:pt x="1714" y="399"/>
                      <a:pt x="1732" y="409"/>
                    </a:cubicBezTo>
                    <a:cubicBezTo>
                      <a:pt x="1750" y="417"/>
                      <a:pt x="1790" y="425"/>
                      <a:pt x="1808" y="431"/>
                    </a:cubicBezTo>
                    <a:cubicBezTo>
                      <a:pt x="1826" y="436"/>
                      <a:pt x="1832" y="440"/>
                      <a:pt x="1844" y="442"/>
                    </a:cubicBezTo>
                    <a:cubicBezTo>
                      <a:pt x="1856" y="445"/>
                      <a:pt x="1864" y="442"/>
                      <a:pt x="1877" y="444"/>
                    </a:cubicBezTo>
                    <a:cubicBezTo>
                      <a:pt x="1889" y="446"/>
                      <a:pt x="1902" y="453"/>
                      <a:pt x="1917" y="455"/>
                    </a:cubicBezTo>
                    <a:cubicBezTo>
                      <a:pt x="1932" y="457"/>
                      <a:pt x="1952" y="459"/>
                      <a:pt x="1967" y="458"/>
                    </a:cubicBezTo>
                    <a:cubicBezTo>
                      <a:pt x="1982" y="457"/>
                      <a:pt x="1996" y="449"/>
                      <a:pt x="2006" y="447"/>
                    </a:cubicBezTo>
                    <a:cubicBezTo>
                      <a:pt x="2018" y="444"/>
                      <a:pt x="2027" y="444"/>
                      <a:pt x="2039" y="444"/>
                    </a:cubicBezTo>
                    <a:cubicBezTo>
                      <a:pt x="2050" y="444"/>
                      <a:pt x="2064" y="443"/>
                      <a:pt x="2076" y="444"/>
                    </a:cubicBezTo>
                    <a:cubicBezTo>
                      <a:pt x="2088" y="445"/>
                      <a:pt x="2098" y="452"/>
                      <a:pt x="2110" y="452"/>
                    </a:cubicBezTo>
                    <a:cubicBezTo>
                      <a:pt x="2122" y="450"/>
                      <a:pt x="2137" y="443"/>
                      <a:pt x="2151" y="441"/>
                    </a:cubicBezTo>
                    <a:cubicBezTo>
                      <a:pt x="2164" y="437"/>
                      <a:pt x="2176" y="434"/>
                      <a:pt x="2192" y="435"/>
                    </a:cubicBezTo>
                    <a:cubicBezTo>
                      <a:pt x="2208" y="435"/>
                      <a:pt x="2231" y="435"/>
                      <a:pt x="2249" y="445"/>
                    </a:cubicBezTo>
                    <a:cubicBezTo>
                      <a:pt x="2268" y="454"/>
                      <a:pt x="2290" y="483"/>
                      <a:pt x="2304" y="490"/>
                    </a:cubicBezTo>
                    <a:cubicBezTo>
                      <a:pt x="2318" y="498"/>
                      <a:pt x="2324" y="488"/>
                      <a:pt x="2337" y="492"/>
                    </a:cubicBezTo>
                    <a:cubicBezTo>
                      <a:pt x="2352" y="496"/>
                      <a:pt x="2369" y="507"/>
                      <a:pt x="2386" y="512"/>
                    </a:cubicBezTo>
                    <a:cubicBezTo>
                      <a:pt x="2402" y="517"/>
                      <a:pt x="2422" y="518"/>
                      <a:pt x="2437" y="520"/>
                    </a:cubicBezTo>
                    <a:cubicBezTo>
                      <a:pt x="2452" y="521"/>
                      <a:pt x="2460" y="524"/>
                      <a:pt x="2475" y="520"/>
                    </a:cubicBezTo>
                    <a:cubicBezTo>
                      <a:pt x="2489" y="516"/>
                      <a:pt x="2509" y="499"/>
                      <a:pt x="2522" y="497"/>
                    </a:cubicBezTo>
                    <a:cubicBezTo>
                      <a:pt x="2536" y="493"/>
                      <a:pt x="2540" y="504"/>
                      <a:pt x="2551" y="504"/>
                    </a:cubicBezTo>
                    <a:cubicBezTo>
                      <a:pt x="2563" y="504"/>
                      <a:pt x="2579" y="500"/>
                      <a:pt x="2592" y="493"/>
                    </a:cubicBezTo>
                    <a:cubicBezTo>
                      <a:pt x="2605" y="487"/>
                      <a:pt x="2618" y="474"/>
                      <a:pt x="2633" y="467"/>
                    </a:cubicBezTo>
                    <a:cubicBezTo>
                      <a:pt x="2648" y="459"/>
                      <a:pt x="2668" y="454"/>
                      <a:pt x="2682" y="447"/>
                    </a:cubicBezTo>
                    <a:cubicBezTo>
                      <a:pt x="2697" y="441"/>
                      <a:pt x="2708" y="435"/>
                      <a:pt x="2720" y="427"/>
                    </a:cubicBezTo>
                    <a:cubicBezTo>
                      <a:pt x="2731" y="419"/>
                      <a:pt x="2738" y="411"/>
                      <a:pt x="2750" y="402"/>
                    </a:cubicBezTo>
                    <a:cubicBezTo>
                      <a:pt x="2763" y="392"/>
                      <a:pt x="2775" y="381"/>
                      <a:pt x="2790" y="369"/>
                    </a:cubicBezTo>
                    <a:cubicBezTo>
                      <a:pt x="2806" y="359"/>
                      <a:pt x="2831" y="342"/>
                      <a:pt x="2846" y="334"/>
                    </a:cubicBezTo>
                    <a:cubicBezTo>
                      <a:pt x="2859" y="325"/>
                      <a:pt x="2865" y="326"/>
                      <a:pt x="2874" y="320"/>
                    </a:cubicBezTo>
                    <a:cubicBezTo>
                      <a:pt x="2884" y="314"/>
                      <a:pt x="2894" y="306"/>
                      <a:pt x="2906" y="296"/>
                    </a:cubicBezTo>
                    <a:cubicBezTo>
                      <a:pt x="2918" y="285"/>
                      <a:pt x="2933" y="266"/>
                      <a:pt x="2943" y="258"/>
                    </a:cubicBezTo>
                    <a:cubicBezTo>
                      <a:pt x="2955" y="250"/>
                      <a:pt x="2960" y="253"/>
                      <a:pt x="2973" y="249"/>
                    </a:cubicBezTo>
                    <a:cubicBezTo>
                      <a:pt x="2987" y="247"/>
                      <a:pt x="3017" y="249"/>
                      <a:pt x="3026" y="241"/>
                    </a:cubicBezTo>
                    <a:cubicBezTo>
                      <a:pt x="3035" y="235"/>
                      <a:pt x="3022" y="217"/>
                      <a:pt x="3028" y="209"/>
                    </a:cubicBezTo>
                    <a:cubicBezTo>
                      <a:pt x="3032" y="200"/>
                      <a:pt x="3052" y="200"/>
                      <a:pt x="3056" y="190"/>
                    </a:cubicBezTo>
                    <a:cubicBezTo>
                      <a:pt x="3059" y="181"/>
                      <a:pt x="3052" y="161"/>
                      <a:pt x="3050" y="149"/>
                    </a:cubicBezTo>
                    <a:cubicBezTo>
                      <a:pt x="3048" y="137"/>
                      <a:pt x="3042" y="129"/>
                      <a:pt x="3041" y="118"/>
                    </a:cubicBezTo>
                    <a:cubicBezTo>
                      <a:pt x="3041" y="108"/>
                      <a:pt x="3044" y="95"/>
                      <a:pt x="3048" y="85"/>
                    </a:cubicBezTo>
                    <a:cubicBezTo>
                      <a:pt x="3052" y="75"/>
                      <a:pt x="3059" y="62"/>
                      <a:pt x="3068" y="58"/>
                    </a:cubicBezTo>
                    <a:cubicBezTo>
                      <a:pt x="3077" y="54"/>
                      <a:pt x="3090" y="64"/>
                      <a:pt x="3100" y="60"/>
                    </a:cubicBezTo>
                    <a:cubicBezTo>
                      <a:pt x="3111" y="56"/>
                      <a:pt x="3119" y="42"/>
                      <a:pt x="3132" y="36"/>
                    </a:cubicBezTo>
                    <a:cubicBezTo>
                      <a:pt x="3145" y="30"/>
                      <a:pt x="3162" y="28"/>
                      <a:pt x="3180" y="25"/>
                    </a:cubicBezTo>
                    <a:cubicBezTo>
                      <a:pt x="3198" y="22"/>
                      <a:pt x="3223" y="20"/>
                      <a:pt x="3240" y="16"/>
                    </a:cubicBezTo>
                    <a:cubicBezTo>
                      <a:pt x="3257" y="12"/>
                      <a:pt x="3271" y="0"/>
                      <a:pt x="3285" y="1"/>
                    </a:cubicBezTo>
                    <a:cubicBezTo>
                      <a:pt x="3299" y="2"/>
                      <a:pt x="3314" y="8"/>
                      <a:pt x="3324" y="25"/>
                    </a:cubicBezTo>
                    <a:cubicBezTo>
                      <a:pt x="3334" y="42"/>
                      <a:pt x="3335" y="85"/>
                      <a:pt x="3348" y="106"/>
                    </a:cubicBezTo>
                    <a:cubicBezTo>
                      <a:pt x="3361" y="127"/>
                      <a:pt x="3385" y="141"/>
                      <a:pt x="3402" y="154"/>
                    </a:cubicBezTo>
                    <a:cubicBezTo>
                      <a:pt x="3419" y="167"/>
                      <a:pt x="3429" y="172"/>
                      <a:pt x="3447" y="184"/>
                    </a:cubicBezTo>
                    <a:cubicBezTo>
                      <a:pt x="3465" y="196"/>
                      <a:pt x="3497" y="215"/>
                      <a:pt x="3510" y="223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8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9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0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1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2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Binni_Countries_All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178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179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99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ad / Rail / 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5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8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9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20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1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11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00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303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306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15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33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16480" y="5823000"/>
            <a:ext cx="741600" cy="907920"/>
          </a:xfrm>
          <a:custGeom>
            <a:avLst/>
            <a:gdLst/>
            <a:ahLst/>
            <a:rect l="l" t="t" r="r" b="b"/>
            <a:pathLst>
              <a:path w="467" h="572">
                <a:moveTo>
                  <a:pt x="467" y="565"/>
                </a:moveTo>
                <a:cubicBezTo>
                  <a:pt x="458" y="568"/>
                  <a:pt x="450" y="572"/>
                  <a:pt x="443" y="565"/>
                </a:cubicBezTo>
                <a:cubicBezTo>
                  <a:pt x="436" y="558"/>
                  <a:pt x="431" y="533"/>
                  <a:pt x="425" y="523"/>
                </a:cubicBezTo>
                <a:cubicBezTo>
                  <a:pt x="419" y="513"/>
                  <a:pt x="410" y="511"/>
                  <a:pt x="407" y="502"/>
                </a:cubicBezTo>
                <a:cubicBezTo>
                  <a:pt x="404" y="493"/>
                  <a:pt x="410" y="475"/>
                  <a:pt x="407" y="466"/>
                </a:cubicBezTo>
                <a:cubicBezTo>
                  <a:pt x="404" y="457"/>
                  <a:pt x="399" y="454"/>
                  <a:pt x="389" y="445"/>
                </a:cubicBezTo>
                <a:cubicBezTo>
                  <a:pt x="379" y="436"/>
                  <a:pt x="356" y="418"/>
                  <a:pt x="347" y="409"/>
                </a:cubicBezTo>
                <a:cubicBezTo>
                  <a:pt x="338" y="400"/>
                  <a:pt x="337" y="398"/>
                  <a:pt x="332" y="391"/>
                </a:cubicBezTo>
                <a:cubicBezTo>
                  <a:pt x="327" y="384"/>
                  <a:pt x="320" y="375"/>
                  <a:pt x="317" y="367"/>
                </a:cubicBezTo>
                <a:cubicBezTo>
                  <a:pt x="314" y="359"/>
                  <a:pt x="315" y="348"/>
                  <a:pt x="311" y="340"/>
                </a:cubicBezTo>
                <a:cubicBezTo>
                  <a:pt x="307" y="332"/>
                  <a:pt x="295" y="326"/>
                  <a:pt x="293" y="319"/>
                </a:cubicBezTo>
                <a:cubicBezTo>
                  <a:pt x="291" y="312"/>
                  <a:pt x="298" y="307"/>
                  <a:pt x="296" y="295"/>
                </a:cubicBezTo>
                <a:cubicBezTo>
                  <a:pt x="294" y="283"/>
                  <a:pt x="287" y="259"/>
                  <a:pt x="281" y="247"/>
                </a:cubicBezTo>
                <a:cubicBezTo>
                  <a:pt x="275" y="235"/>
                  <a:pt x="264" y="236"/>
                  <a:pt x="260" y="223"/>
                </a:cubicBezTo>
                <a:cubicBezTo>
                  <a:pt x="256" y="210"/>
                  <a:pt x="262" y="183"/>
                  <a:pt x="257" y="169"/>
                </a:cubicBezTo>
                <a:cubicBezTo>
                  <a:pt x="252" y="155"/>
                  <a:pt x="235" y="148"/>
                  <a:pt x="227" y="139"/>
                </a:cubicBezTo>
                <a:cubicBezTo>
                  <a:pt x="219" y="130"/>
                  <a:pt x="213" y="122"/>
                  <a:pt x="206" y="115"/>
                </a:cubicBezTo>
                <a:cubicBezTo>
                  <a:pt x="199" y="108"/>
                  <a:pt x="187" y="102"/>
                  <a:pt x="182" y="94"/>
                </a:cubicBezTo>
                <a:cubicBezTo>
                  <a:pt x="177" y="86"/>
                  <a:pt x="178" y="72"/>
                  <a:pt x="176" y="64"/>
                </a:cubicBezTo>
                <a:cubicBezTo>
                  <a:pt x="174" y="56"/>
                  <a:pt x="177" y="53"/>
                  <a:pt x="173" y="46"/>
                </a:cubicBezTo>
                <a:cubicBezTo>
                  <a:pt x="169" y="39"/>
                  <a:pt x="158" y="29"/>
                  <a:pt x="150" y="22"/>
                </a:cubicBezTo>
                <a:cubicBezTo>
                  <a:pt x="142" y="15"/>
                  <a:pt x="134" y="4"/>
                  <a:pt x="122" y="2"/>
                </a:cubicBezTo>
                <a:cubicBezTo>
                  <a:pt x="110" y="0"/>
                  <a:pt x="92" y="5"/>
                  <a:pt x="80" y="8"/>
                </a:cubicBezTo>
                <a:cubicBezTo>
                  <a:pt x="68" y="11"/>
                  <a:pt x="63" y="18"/>
                  <a:pt x="50" y="20"/>
                </a:cubicBezTo>
                <a:cubicBezTo>
                  <a:pt x="37" y="22"/>
                  <a:pt x="10" y="22"/>
                  <a:pt x="0" y="2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6920" y="6543720"/>
            <a:ext cx="511200" cy="201600"/>
          </a:xfrm>
          <a:custGeom>
            <a:avLst/>
            <a:gdLst/>
            <a:ahLst/>
            <a:rect l="l" t="t" r="r" b="b"/>
            <a:pathLst>
              <a:path w="322" h="127">
                <a:moveTo>
                  <a:pt x="1" y="111"/>
                </a:moveTo>
                <a:cubicBezTo>
                  <a:pt x="0" y="107"/>
                  <a:pt x="6" y="97"/>
                  <a:pt x="10" y="93"/>
                </a:cubicBezTo>
                <a:cubicBezTo>
                  <a:pt x="14" y="89"/>
                  <a:pt x="26" y="90"/>
                  <a:pt x="28" y="84"/>
                </a:cubicBezTo>
                <a:cubicBezTo>
                  <a:pt x="30" y="78"/>
                  <a:pt x="19" y="60"/>
                  <a:pt x="22" y="54"/>
                </a:cubicBezTo>
                <a:cubicBezTo>
                  <a:pt x="25" y="48"/>
                  <a:pt x="44" y="43"/>
                  <a:pt x="49" y="45"/>
                </a:cubicBezTo>
                <a:cubicBezTo>
                  <a:pt x="54" y="47"/>
                  <a:pt x="52" y="67"/>
                  <a:pt x="55" y="66"/>
                </a:cubicBezTo>
                <a:cubicBezTo>
                  <a:pt x="58" y="65"/>
                  <a:pt x="62" y="45"/>
                  <a:pt x="67" y="39"/>
                </a:cubicBezTo>
                <a:cubicBezTo>
                  <a:pt x="72" y="33"/>
                  <a:pt x="83" y="27"/>
                  <a:pt x="88" y="27"/>
                </a:cubicBezTo>
                <a:cubicBezTo>
                  <a:pt x="93" y="27"/>
                  <a:pt x="92" y="40"/>
                  <a:pt x="100" y="42"/>
                </a:cubicBezTo>
                <a:cubicBezTo>
                  <a:pt x="108" y="44"/>
                  <a:pt x="126" y="38"/>
                  <a:pt x="136" y="39"/>
                </a:cubicBezTo>
                <a:cubicBezTo>
                  <a:pt x="146" y="40"/>
                  <a:pt x="152" y="49"/>
                  <a:pt x="160" y="45"/>
                </a:cubicBezTo>
                <a:cubicBezTo>
                  <a:pt x="168" y="41"/>
                  <a:pt x="177" y="17"/>
                  <a:pt x="184" y="12"/>
                </a:cubicBezTo>
                <a:cubicBezTo>
                  <a:pt x="191" y="7"/>
                  <a:pt x="198" y="12"/>
                  <a:pt x="202" y="15"/>
                </a:cubicBezTo>
                <a:cubicBezTo>
                  <a:pt x="206" y="18"/>
                  <a:pt x="206" y="32"/>
                  <a:pt x="211" y="33"/>
                </a:cubicBezTo>
                <a:cubicBezTo>
                  <a:pt x="216" y="34"/>
                  <a:pt x="225" y="23"/>
                  <a:pt x="232" y="18"/>
                </a:cubicBezTo>
                <a:cubicBezTo>
                  <a:pt x="239" y="13"/>
                  <a:pt x="246" y="0"/>
                  <a:pt x="253" y="0"/>
                </a:cubicBezTo>
                <a:cubicBezTo>
                  <a:pt x="260" y="0"/>
                  <a:pt x="268" y="17"/>
                  <a:pt x="277" y="21"/>
                </a:cubicBezTo>
                <a:cubicBezTo>
                  <a:pt x="286" y="25"/>
                  <a:pt x="302" y="21"/>
                  <a:pt x="307" y="24"/>
                </a:cubicBezTo>
                <a:cubicBezTo>
                  <a:pt x="312" y="27"/>
                  <a:pt x="311" y="36"/>
                  <a:pt x="307" y="42"/>
                </a:cubicBezTo>
                <a:cubicBezTo>
                  <a:pt x="303" y="48"/>
                  <a:pt x="285" y="54"/>
                  <a:pt x="283" y="60"/>
                </a:cubicBezTo>
                <a:cubicBezTo>
                  <a:pt x="281" y="66"/>
                  <a:pt x="287" y="73"/>
                  <a:pt x="292" y="81"/>
                </a:cubicBezTo>
                <a:cubicBezTo>
                  <a:pt x="297" y="89"/>
                  <a:pt x="312" y="101"/>
                  <a:pt x="316" y="108"/>
                </a:cubicBezTo>
                <a:cubicBezTo>
                  <a:pt x="320" y="115"/>
                  <a:pt x="322" y="125"/>
                  <a:pt x="316" y="126"/>
                </a:cubicBezTo>
                <a:cubicBezTo>
                  <a:pt x="310" y="127"/>
                  <a:pt x="288" y="118"/>
                  <a:pt x="280" y="114"/>
                </a:cubicBezTo>
                <a:cubicBezTo>
                  <a:pt x="272" y="110"/>
                  <a:pt x="273" y="104"/>
                  <a:pt x="268" y="99"/>
                </a:cubicBezTo>
                <a:cubicBezTo>
                  <a:pt x="263" y="94"/>
                  <a:pt x="254" y="86"/>
                  <a:pt x="247" y="81"/>
                </a:cubicBezTo>
                <a:cubicBezTo>
                  <a:pt x="240" y="76"/>
                  <a:pt x="232" y="67"/>
                  <a:pt x="226" y="66"/>
                </a:cubicBezTo>
                <a:cubicBezTo>
                  <a:pt x="220" y="65"/>
                  <a:pt x="216" y="73"/>
                  <a:pt x="208" y="75"/>
                </a:cubicBezTo>
                <a:cubicBezTo>
                  <a:pt x="200" y="77"/>
                  <a:pt x="183" y="80"/>
                  <a:pt x="175" y="78"/>
                </a:cubicBezTo>
                <a:cubicBezTo>
                  <a:pt x="167" y="76"/>
                  <a:pt x="167" y="65"/>
                  <a:pt x="160" y="63"/>
                </a:cubicBezTo>
                <a:cubicBezTo>
                  <a:pt x="153" y="61"/>
                  <a:pt x="140" y="62"/>
                  <a:pt x="130" y="63"/>
                </a:cubicBezTo>
                <a:cubicBezTo>
                  <a:pt x="120" y="64"/>
                  <a:pt x="108" y="66"/>
                  <a:pt x="100" y="69"/>
                </a:cubicBezTo>
                <a:cubicBezTo>
                  <a:pt x="92" y="72"/>
                  <a:pt x="88" y="76"/>
                  <a:pt x="82" y="81"/>
                </a:cubicBezTo>
                <a:cubicBezTo>
                  <a:pt x="76" y="86"/>
                  <a:pt x="71" y="96"/>
                  <a:pt x="64" y="102"/>
                </a:cubicBezTo>
                <a:cubicBezTo>
                  <a:pt x="57" y="108"/>
                  <a:pt x="47" y="115"/>
                  <a:pt x="40" y="117"/>
                </a:cubicBezTo>
                <a:cubicBezTo>
                  <a:pt x="33" y="119"/>
                  <a:pt x="25" y="118"/>
                  <a:pt x="19" y="117"/>
                </a:cubicBezTo>
                <a:cubicBezTo>
                  <a:pt x="13" y="116"/>
                  <a:pt x="2" y="115"/>
                  <a:pt x="1" y="111"/>
                </a:cubicBez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6480" y="5143680"/>
            <a:ext cx="1764000" cy="199800"/>
          </a:xfrm>
          <a:custGeom>
            <a:avLst/>
            <a:gdLst/>
            <a:ahLst/>
            <a:rect l="l" t="t" r="r" b="b"/>
            <a:pathLst>
              <a:path w="1111" h="126">
                <a:moveTo>
                  <a:pt x="1111" y="110"/>
                </a:moveTo>
                <a:lnTo>
                  <a:pt x="1082" y="99"/>
                </a:lnTo>
                <a:lnTo>
                  <a:pt x="1018" y="64"/>
                </a:lnTo>
                <a:lnTo>
                  <a:pt x="969" y="35"/>
                </a:lnTo>
                <a:lnTo>
                  <a:pt x="926" y="14"/>
                </a:lnTo>
                <a:lnTo>
                  <a:pt x="785" y="0"/>
                </a:lnTo>
                <a:lnTo>
                  <a:pt x="729" y="0"/>
                </a:lnTo>
                <a:lnTo>
                  <a:pt x="686" y="28"/>
                </a:lnTo>
                <a:lnTo>
                  <a:pt x="595" y="49"/>
                </a:lnTo>
                <a:lnTo>
                  <a:pt x="552" y="21"/>
                </a:lnTo>
                <a:lnTo>
                  <a:pt x="515" y="15"/>
                </a:lnTo>
                <a:lnTo>
                  <a:pt x="468" y="42"/>
                </a:lnTo>
                <a:lnTo>
                  <a:pt x="411" y="64"/>
                </a:lnTo>
                <a:lnTo>
                  <a:pt x="362" y="70"/>
                </a:lnTo>
                <a:lnTo>
                  <a:pt x="330" y="60"/>
                </a:lnTo>
                <a:lnTo>
                  <a:pt x="296" y="74"/>
                </a:lnTo>
                <a:lnTo>
                  <a:pt x="260" y="96"/>
                </a:lnTo>
                <a:lnTo>
                  <a:pt x="222" y="112"/>
                </a:lnTo>
                <a:lnTo>
                  <a:pt x="180" y="110"/>
                </a:lnTo>
                <a:lnTo>
                  <a:pt x="134" y="106"/>
                </a:lnTo>
                <a:lnTo>
                  <a:pt x="84" y="126"/>
                </a:lnTo>
                <a:lnTo>
                  <a:pt x="0" y="104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29280" y="5491080"/>
            <a:ext cx="1967040" cy="1084320"/>
          </a:xfrm>
          <a:custGeom>
            <a:avLst/>
            <a:gdLst/>
            <a:ahLst/>
            <a:rect l="l" t="t" r="r" b="b"/>
            <a:pathLst>
              <a:path w="1239" h="683">
                <a:moveTo>
                  <a:pt x="1217" y="683"/>
                </a:moveTo>
                <a:lnTo>
                  <a:pt x="1220" y="648"/>
                </a:lnTo>
                <a:lnTo>
                  <a:pt x="1228" y="621"/>
                </a:lnTo>
                <a:lnTo>
                  <a:pt x="1239" y="596"/>
                </a:lnTo>
                <a:lnTo>
                  <a:pt x="1233" y="561"/>
                </a:lnTo>
                <a:lnTo>
                  <a:pt x="1218" y="537"/>
                </a:lnTo>
                <a:lnTo>
                  <a:pt x="1209" y="471"/>
                </a:lnTo>
                <a:lnTo>
                  <a:pt x="1209" y="428"/>
                </a:lnTo>
                <a:lnTo>
                  <a:pt x="1214" y="396"/>
                </a:lnTo>
                <a:lnTo>
                  <a:pt x="1199" y="380"/>
                </a:lnTo>
                <a:lnTo>
                  <a:pt x="1163" y="368"/>
                </a:lnTo>
                <a:lnTo>
                  <a:pt x="1116" y="335"/>
                </a:lnTo>
                <a:lnTo>
                  <a:pt x="1080" y="321"/>
                </a:lnTo>
                <a:lnTo>
                  <a:pt x="1058" y="296"/>
                </a:lnTo>
                <a:lnTo>
                  <a:pt x="1030" y="247"/>
                </a:lnTo>
                <a:lnTo>
                  <a:pt x="981" y="205"/>
                </a:lnTo>
                <a:lnTo>
                  <a:pt x="948" y="201"/>
                </a:lnTo>
                <a:lnTo>
                  <a:pt x="910" y="219"/>
                </a:lnTo>
                <a:lnTo>
                  <a:pt x="864" y="213"/>
                </a:lnTo>
                <a:lnTo>
                  <a:pt x="826" y="183"/>
                </a:lnTo>
                <a:lnTo>
                  <a:pt x="755" y="141"/>
                </a:lnTo>
                <a:lnTo>
                  <a:pt x="705" y="120"/>
                </a:lnTo>
                <a:lnTo>
                  <a:pt x="649" y="120"/>
                </a:lnTo>
                <a:lnTo>
                  <a:pt x="600" y="129"/>
                </a:lnTo>
                <a:lnTo>
                  <a:pt x="564" y="148"/>
                </a:lnTo>
                <a:lnTo>
                  <a:pt x="528" y="174"/>
                </a:lnTo>
                <a:lnTo>
                  <a:pt x="473" y="176"/>
                </a:lnTo>
                <a:lnTo>
                  <a:pt x="409" y="162"/>
                </a:lnTo>
                <a:lnTo>
                  <a:pt x="381" y="127"/>
                </a:lnTo>
                <a:lnTo>
                  <a:pt x="353" y="77"/>
                </a:lnTo>
                <a:lnTo>
                  <a:pt x="324" y="63"/>
                </a:lnTo>
                <a:lnTo>
                  <a:pt x="289" y="63"/>
                </a:lnTo>
                <a:lnTo>
                  <a:pt x="219" y="57"/>
                </a:lnTo>
                <a:lnTo>
                  <a:pt x="169" y="35"/>
                </a:lnTo>
                <a:lnTo>
                  <a:pt x="150" y="12"/>
                </a:lnTo>
                <a:lnTo>
                  <a:pt x="113" y="0"/>
                </a:lnTo>
                <a:lnTo>
                  <a:pt x="66" y="15"/>
                </a:lnTo>
                <a:lnTo>
                  <a:pt x="42" y="33"/>
                </a:lnTo>
                <a:lnTo>
                  <a:pt x="0" y="28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14560" y="1833480"/>
            <a:ext cx="3673440" cy="2722680"/>
          </a:xfrm>
          <a:custGeom>
            <a:avLst/>
            <a:gdLst/>
            <a:ahLst/>
            <a:rect l="l" t="t" r="r" b="b"/>
            <a:pathLst>
              <a:path w="2314" h="1715">
                <a:moveTo>
                  <a:pt x="0" y="1308"/>
                </a:moveTo>
                <a:lnTo>
                  <a:pt x="30" y="1260"/>
                </a:lnTo>
                <a:lnTo>
                  <a:pt x="48" y="1230"/>
                </a:lnTo>
                <a:lnTo>
                  <a:pt x="84" y="1202"/>
                </a:lnTo>
                <a:lnTo>
                  <a:pt x="107" y="1182"/>
                </a:lnTo>
                <a:lnTo>
                  <a:pt x="127" y="1192"/>
                </a:lnTo>
                <a:lnTo>
                  <a:pt x="141" y="1208"/>
                </a:lnTo>
                <a:lnTo>
                  <a:pt x="171" y="1228"/>
                </a:lnTo>
                <a:lnTo>
                  <a:pt x="194" y="1232"/>
                </a:lnTo>
                <a:lnTo>
                  <a:pt x="221" y="1235"/>
                </a:lnTo>
                <a:lnTo>
                  <a:pt x="251" y="1215"/>
                </a:lnTo>
                <a:lnTo>
                  <a:pt x="271" y="1175"/>
                </a:lnTo>
                <a:lnTo>
                  <a:pt x="284" y="1155"/>
                </a:lnTo>
                <a:lnTo>
                  <a:pt x="304" y="1125"/>
                </a:lnTo>
                <a:lnTo>
                  <a:pt x="304" y="1105"/>
                </a:lnTo>
                <a:lnTo>
                  <a:pt x="321" y="1092"/>
                </a:lnTo>
                <a:lnTo>
                  <a:pt x="341" y="1092"/>
                </a:lnTo>
                <a:lnTo>
                  <a:pt x="361" y="1095"/>
                </a:lnTo>
                <a:lnTo>
                  <a:pt x="381" y="1095"/>
                </a:lnTo>
                <a:lnTo>
                  <a:pt x="404" y="1095"/>
                </a:lnTo>
                <a:lnTo>
                  <a:pt x="424" y="1082"/>
                </a:lnTo>
                <a:lnTo>
                  <a:pt x="414" y="1045"/>
                </a:lnTo>
                <a:lnTo>
                  <a:pt x="424" y="1025"/>
                </a:lnTo>
                <a:lnTo>
                  <a:pt x="457" y="1022"/>
                </a:lnTo>
                <a:lnTo>
                  <a:pt x="487" y="1002"/>
                </a:lnTo>
                <a:lnTo>
                  <a:pt x="481" y="972"/>
                </a:lnTo>
                <a:lnTo>
                  <a:pt x="461" y="945"/>
                </a:lnTo>
                <a:lnTo>
                  <a:pt x="437" y="928"/>
                </a:lnTo>
                <a:lnTo>
                  <a:pt x="411" y="928"/>
                </a:lnTo>
                <a:lnTo>
                  <a:pt x="384" y="955"/>
                </a:lnTo>
                <a:lnTo>
                  <a:pt x="357" y="968"/>
                </a:lnTo>
                <a:lnTo>
                  <a:pt x="324" y="978"/>
                </a:lnTo>
                <a:lnTo>
                  <a:pt x="301" y="972"/>
                </a:lnTo>
                <a:lnTo>
                  <a:pt x="271" y="962"/>
                </a:lnTo>
                <a:lnTo>
                  <a:pt x="251" y="955"/>
                </a:lnTo>
                <a:lnTo>
                  <a:pt x="241" y="938"/>
                </a:lnTo>
                <a:lnTo>
                  <a:pt x="271" y="942"/>
                </a:lnTo>
                <a:lnTo>
                  <a:pt x="311" y="952"/>
                </a:lnTo>
                <a:lnTo>
                  <a:pt x="347" y="932"/>
                </a:lnTo>
                <a:lnTo>
                  <a:pt x="371" y="908"/>
                </a:lnTo>
                <a:lnTo>
                  <a:pt x="387" y="878"/>
                </a:lnTo>
                <a:lnTo>
                  <a:pt x="401" y="858"/>
                </a:lnTo>
                <a:lnTo>
                  <a:pt x="424" y="848"/>
                </a:lnTo>
                <a:lnTo>
                  <a:pt x="444" y="862"/>
                </a:lnTo>
                <a:lnTo>
                  <a:pt x="451" y="882"/>
                </a:lnTo>
                <a:lnTo>
                  <a:pt x="454" y="902"/>
                </a:lnTo>
                <a:lnTo>
                  <a:pt x="471" y="918"/>
                </a:lnTo>
                <a:lnTo>
                  <a:pt x="494" y="928"/>
                </a:lnTo>
                <a:lnTo>
                  <a:pt x="547" y="935"/>
                </a:lnTo>
                <a:lnTo>
                  <a:pt x="581" y="915"/>
                </a:lnTo>
                <a:lnTo>
                  <a:pt x="604" y="898"/>
                </a:lnTo>
                <a:lnTo>
                  <a:pt x="624" y="872"/>
                </a:lnTo>
                <a:lnTo>
                  <a:pt x="634" y="852"/>
                </a:lnTo>
                <a:lnTo>
                  <a:pt x="654" y="842"/>
                </a:lnTo>
                <a:lnTo>
                  <a:pt x="657" y="822"/>
                </a:lnTo>
                <a:lnTo>
                  <a:pt x="624" y="805"/>
                </a:lnTo>
                <a:lnTo>
                  <a:pt x="631" y="785"/>
                </a:lnTo>
                <a:lnTo>
                  <a:pt x="657" y="788"/>
                </a:lnTo>
                <a:lnTo>
                  <a:pt x="684" y="795"/>
                </a:lnTo>
                <a:lnTo>
                  <a:pt x="704" y="788"/>
                </a:lnTo>
                <a:lnTo>
                  <a:pt x="724" y="768"/>
                </a:lnTo>
                <a:lnTo>
                  <a:pt x="741" y="735"/>
                </a:lnTo>
                <a:lnTo>
                  <a:pt x="747" y="708"/>
                </a:lnTo>
                <a:lnTo>
                  <a:pt x="767" y="692"/>
                </a:lnTo>
                <a:lnTo>
                  <a:pt x="784" y="675"/>
                </a:lnTo>
                <a:lnTo>
                  <a:pt x="801" y="645"/>
                </a:lnTo>
                <a:lnTo>
                  <a:pt x="801" y="625"/>
                </a:lnTo>
                <a:lnTo>
                  <a:pt x="791" y="608"/>
                </a:lnTo>
                <a:lnTo>
                  <a:pt x="754" y="615"/>
                </a:lnTo>
                <a:lnTo>
                  <a:pt x="734" y="615"/>
                </a:lnTo>
                <a:lnTo>
                  <a:pt x="727" y="582"/>
                </a:lnTo>
                <a:lnTo>
                  <a:pt x="731" y="558"/>
                </a:lnTo>
                <a:lnTo>
                  <a:pt x="741" y="525"/>
                </a:lnTo>
                <a:lnTo>
                  <a:pt x="741" y="498"/>
                </a:lnTo>
                <a:lnTo>
                  <a:pt x="754" y="462"/>
                </a:lnTo>
                <a:lnTo>
                  <a:pt x="744" y="425"/>
                </a:lnTo>
                <a:lnTo>
                  <a:pt x="734" y="402"/>
                </a:lnTo>
                <a:lnTo>
                  <a:pt x="701" y="395"/>
                </a:lnTo>
                <a:lnTo>
                  <a:pt x="734" y="385"/>
                </a:lnTo>
                <a:lnTo>
                  <a:pt x="767" y="408"/>
                </a:lnTo>
                <a:lnTo>
                  <a:pt x="787" y="445"/>
                </a:lnTo>
                <a:lnTo>
                  <a:pt x="797" y="462"/>
                </a:lnTo>
                <a:lnTo>
                  <a:pt x="797" y="492"/>
                </a:lnTo>
                <a:lnTo>
                  <a:pt x="804" y="528"/>
                </a:lnTo>
                <a:lnTo>
                  <a:pt x="814" y="555"/>
                </a:lnTo>
                <a:lnTo>
                  <a:pt x="841" y="508"/>
                </a:lnTo>
                <a:lnTo>
                  <a:pt x="854" y="488"/>
                </a:lnTo>
                <a:lnTo>
                  <a:pt x="881" y="482"/>
                </a:lnTo>
                <a:lnTo>
                  <a:pt x="881" y="458"/>
                </a:lnTo>
                <a:lnTo>
                  <a:pt x="897" y="432"/>
                </a:lnTo>
                <a:lnTo>
                  <a:pt x="911" y="415"/>
                </a:lnTo>
                <a:lnTo>
                  <a:pt x="897" y="385"/>
                </a:lnTo>
                <a:lnTo>
                  <a:pt x="944" y="385"/>
                </a:lnTo>
                <a:lnTo>
                  <a:pt x="977" y="378"/>
                </a:lnTo>
                <a:lnTo>
                  <a:pt x="1011" y="348"/>
                </a:lnTo>
                <a:lnTo>
                  <a:pt x="1041" y="355"/>
                </a:lnTo>
                <a:lnTo>
                  <a:pt x="1061" y="338"/>
                </a:lnTo>
                <a:lnTo>
                  <a:pt x="1084" y="332"/>
                </a:lnTo>
                <a:lnTo>
                  <a:pt x="1107" y="318"/>
                </a:lnTo>
                <a:lnTo>
                  <a:pt x="1107" y="298"/>
                </a:lnTo>
                <a:lnTo>
                  <a:pt x="1114" y="248"/>
                </a:lnTo>
                <a:lnTo>
                  <a:pt x="1101" y="222"/>
                </a:lnTo>
                <a:lnTo>
                  <a:pt x="1077" y="205"/>
                </a:lnTo>
                <a:lnTo>
                  <a:pt x="1054" y="205"/>
                </a:lnTo>
                <a:lnTo>
                  <a:pt x="1027" y="212"/>
                </a:lnTo>
                <a:lnTo>
                  <a:pt x="1001" y="222"/>
                </a:lnTo>
                <a:lnTo>
                  <a:pt x="974" y="222"/>
                </a:lnTo>
                <a:lnTo>
                  <a:pt x="961" y="208"/>
                </a:lnTo>
                <a:lnTo>
                  <a:pt x="951" y="188"/>
                </a:lnTo>
                <a:lnTo>
                  <a:pt x="921" y="195"/>
                </a:lnTo>
                <a:lnTo>
                  <a:pt x="901" y="215"/>
                </a:lnTo>
                <a:lnTo>
                  <a:pt x="884" y="225"/>
                </a:lnTo>
                <a:lnTo>
                  <a:pt x="861" y="225"/>
                </a:lnTo>
                <a:lnTo>
                  <a:pt x="861" y="198"/>
                </a:lnTo>
                <a:lnTo>
                  <a:pt x="867" y="172"/>
                </a:lnTo>
                <a:lnTo>
                  <a:pt x="854" y="155"/>
                </a:lnTo>
                <a:lnTo>
                  <a:pt x="847" y="132"/>
                </a:lnTo>
                <a:lnTo>
                  <a:pt x="821" y="122"/>
                </a:lnTo>
                <a:lnTo>
                  <a:pt x="791" y="128"/>
                </a:lnTo>
                <a:lnTo>
                  <a:pt x="761" y="142"/>
                </a:lnTo>
                <a:lnTo>
                  <a:pt x="741" y="155"/>
                </a:lnTo>
                <a:lnTo>
                  <a:pt x="717" y="152"/>
                </a:lnTo>
                <a:lnTo>
                  <a:pt x="727" y="122"/>
                </a:lnTo>
                <a:lnTo>
                  <a:pt x="721" y="95"/>
                </a:lnTo>
                <a:lnTo>
                  <a:pt x="694" y="95"/>
                </a:lnTo>
                <a:lnTo>
                  <a:pt x="661" y="115"/>
                </a:lnTo>
                <a:lnTo>
                  <a:pt x="647" y="145"/>
                </a:lnTo>
                <a:lnTo>
                  <a:pt x="647" y="172"/>
                </a:lnTo>
                <a:lnTo>
                  <a:pt x="651" y="198"/>
                </a:lnTo>
                <a:lnTo>
                  <a:pt x="637" y="215"/>
                </a:lnTo>
                <a:lnTo>
                  <a:pt x="607" y="212"/>
                </a:lnTo>
                <a:lnTo>
                  <a:pt x="561" y="208"/>
                </a:lnTo>
                <a:lnTo>
                  <a:pt x="514" y="202"/>
                </a:lnTo>
                <a:lnTo>
                  <a:pt x="484" y="198"/>
                </a:lnTo>
                <a:lnTo>
                  <a:pt x="457" y="188"/>
                </a:lnTo>
                <a:lnTo>
                  <a:pt x="434" y="168"/>
                </a:lnTo>
                <a:lnTo>
                  <a:pt x="431" y="138"/>
                </a:lnTo>
                <a:lnTo>
                  <a:pt x="456" y="132"/>
                </a:lnTo>
                <a:lnTo>
                  <a:pt x="464" y="118"/>
                </a:lnTo>
                <a:lnTo>
                  <a:pt x="477" y="138"/>
                </a:lnTo>
                <a:lnTo>
                  <a:pt x="481" y="158"/>
                </a:lnTo>
                <a:lnTo>
                  <a:pt x="521" y="168"/>
                </a:lnTo>
                <a:lnTo>
                  <a:pt x="551" y="168"/>
                </a:lnTo>
                <a:lnTo>
                  <a:pt x="584" y="172"/>
                </a:lnTo>
                <a:lnTo>
                  <a:pt x="607" y="182"/>
                </a:lnTo>
                <a:lnTo>
                  <a:pt x="624" y="165"/>
                </a:lnTo>
                <a:lnTo>
                  <a:pt x="624" y="138"/>
                </a:lnTo>
                <a:lnTo>
                  <a:pt x="611" y="115"/>
                </a:lnTo>
                <a:lnTo>
                  <a:pt x="604" y="85"/>
                </a:lnTo>
                <a:lnTo>
                  <a:pt x="597" y="52"/>
                </a:lnTo>
                <a:lnTo>
                  <a:pt x="624" y="38"/>
                </a:lnTo>
                <a:lnTo>
                  <a:pt x="644" y="2"/>
                </a:lnTo>
                <a:lnTo>
                  <a:pt x="664" y="8"/>
                </a:lnTo>
                <a:lnTo>
                  <a:pt x="674" y="35"/>
                </a:lnTo>
                <a:lnTo>
                  <a:pt x="681" y="62"/>
                </a:lnTo>
                <a:lnTo>
                  <a:pt x="714" y="75"/>
                </a:lnTo>
                <a:lnTo>
                  <a:pt x="754" y="78"/>
                </a:lnTo>
                <a:lnTo>
                  <a:pt x="787" y="88"/>
                </a:lnTo>
                <a:lnTo>
                  <a:pt x="814" y="78"/>
                </a:lnTo>
                <a:lnTo>
                  <a:pt x="831" y="65"/>
                </a:lnTo>
                <a:lnTo>
                  <a:pt x="817" y="42"/>
                </a:lnTo>
                <a:lnTo>
                  <a:pt x="817" y="18"/>
                </a:lnTo>
                <a:lnTo>
                  <a:pt x="834" y="8"/>
                </a:lnTo>
                <a:lnTo>
                  <a:pt x="857" y="25"/>
                </a:lnTo>
                <a:lnTo>
                  <a:pt x="871" y="52"/>
                </a:lnTo>
                <a:lnTo>
                  <a:pt x="864" y="72"/>
                </a:lnTo>
                <a:lnTo>
                  <a:pt x="854" y="95"/>
                </a:lnTo>
                <a:lnTo>
                  <a:pt x="861" y="118"/>
                </a:lnTo>
                <a:lnTo>
                  <a:pt x="884" y="118"/>
                </a:lnTo>
                <a:lnTo>
                  <a:pt x="907" y="135"/>
                </a:lnTo>
                <a:lnTo>
                  <a:pt x="931" y="148"/>
                </a:lnTo>
                <a:lnTo>
                  <a:pt x="961" y="145"/>
                </a:lnTo>
                <a:lnTo>
                  <a:pt x="991" y="155"/>
                </a:lnTo>
                <a:lnTo>
                  <a:pt x="1021" y="162"/>
                </a:lnTo>
                <a:lnTo>
                  <a:pt x="1021" y="118"/>
                </a:lnTo>
                <a:lnTo>
                  <a:pt x="1011" y="82"/>
                </a:lnTo>
                <a:lnTo>
                  <a:pt x="994" y="58"/>
                </a:lnTo>
                <a:lnTo>
                  <a:pt x="1021" y="45"/>
                </a:lnTo>
                <a:lnTo>
                  <a:pt x="1041" y="62"/>
                </a:lnTo>
                <a:lnTo>
                  <a:pt x="1061" y="75"/>
                </a:lnTo>
                <a:lnTo>
                  <a:pt x="1084" y="68"/>
                </a:lnTo>
                <a:lnTo>
                  <a:pt x="1101" y="52"/>
                </a:lnTo>
                <a:lnTo>
                  <a:pt x="1117" y="38"/>
                </a:lnTo>
                <a:lnTo>
                  <a:pt x="1144" y="32"/>
                </a:lnTo>
                <a:lnTo>
                  <a:pt x="1194" y="32"/>
                </a:lnTo>
                <a:lnTo>
                  <a:pt x="1217" y="22"/>
                </a:lnTo>
                <a:lnTo>
                  <a:pt x="1234" y="8"/>
                </a:lnTo>
                <a:lnTo>
                  <a:pt x="1264" y="5"/>
                </a:lnTo>
                <a:lnTo>
                  <a:pt x="1291" y="12"/>
                </a:lnTo>
                <a:lnTo>
                  <a:pt x="1301" y="38"/>
                </a:lnTo>
                <a:lnTo>
                  <a:pt x="1301" y="62"/>
                </a:lnTo>
                <a:lnTo>
                  <a:pt x="1321" y="68"/>
                </a:lnTo>
                <a:lnTo>
                  <a:pt x="1331" y="48"/>
                </a:lnTo>
                <a:lnTo>
                  <a:pt x="1343" y="33"/>
                </a:lnTo>
                <a:lnTo>
                  <a:pt x="1343" y="18"/>
                </a:lnTo>
                <a:lnTo>
                  <a:pt x="1350" y="6"/>
                </a:lnTo>
                <a:lnTo>
                  <a:pt x="1365" y="3"/>
                </a:lnTo>
                <a:lnTo>
                  <a:pt x="1385" y="0"/>
                </a:lnTo>
                <a:lnTo>
                  <a:pt x="1401" y="5"/>
                </a:lnTo>
                <a:lnTo>
                  <a:pt x="1427" y="18"/>
                </a:lnTo>
                <a:lnTo>
                  <a:pt x="1451" y="25"/>
                </a:lnTo>
                <a:lnTo>
                  <a:pt x="1487" y="12"/>
                </a:lnTo>
                <a:lnTo>
                  <a:pt x="1514" y="18"/>
                </a:lnTo>
                <a:lnTo>
                  <a:pt x="1537" y="35"/>
                </a:lnTo>
                <a:lnTo>
                  <a:pt x="1567" y="38"/>
                </a:lnTo>
                <a:lnTo>
                  <a:pt x="1591" y="25"/>
                </a:lnTo>
                <a:lnTo>
                  <a:pt x="1617" y="28"/>
                </a:lnTo>
                <a:lnTo>
                  <a:pt x="1654" y="28"/>
                </a:lnTo>
                <a:lnTo>
                  <a:pt x="1681" y="12"/>
                </a:lnTo>
                <a:lnTo>
                  <a:pt x="1707" y="32"/>
                </a:lnTo>
                <a:lnTo>
                  <a:pt x="1727" y="48"/>
                </a:lnTo>
                <a:lnTo>
                  <a:pt x="1751" y="55"/>
                </a:lnTo>
                <a:lnTo>
                  <a:pt x="1797" y="48"/>
                </a:lnTo>
                <a:lnTo>
                  <a:pt x="1811" y="62"/>
                </a:lnTo>
                <a:lnTo>
                  <a:pt x="1827" y="75"/>
                </a:lnTo>
                <a:lnTo>
                  <a:pt x="1851" y="82"/>
                </a:lnTo>
                <a:lnTo>
                  <a:pt x="1884" y="72"/>
                </a:lnTo>
                <a:lnTo>
                  <a:pt x="1904" y="58"/>
                </a:lnTo>
                <a:lnTo>
                  <a:pt x="1924" y="52"/>
                </a:lnTo>
                <a:lnTo>
                  <a:pt x="1964" y="52"/>
                </a:lnTo>
                <a:lnTo>
                  <a:pt x="1994" y="38"/>
                </a:lnTo>
                <a:lnTo>
                  <a:pt x="2017" y="45"/>
                </a:lnTo>
                <a:lnTo>
                  <a:pt x="2034" y="58"/>
                </a:lnTo>
                <a:lnTo>
                  <a:pt x="2042" y="73"/>
                </a:lnTo>
                <a:lnTo>
                  <a:pt x="2037" y="95"/>
                </a:lnTo>
                <a:lnTo>
                  <a:pt x="2027" y="115"/>
                </a:lnTo>
                <a:lnTo>
                  <a:pt x="2061" y="142"/>
                </a:lnTo>
                <a:lnTo>
                  <a:pt x="2087" y="132"/>
                </a:lnTo>
                <a:lnTo>
                  <a:pt x="2111" y="132"/>
                </a:lnTo>
                <a:lnTo>
                  <a:pt x="2144" y="147"/>
                </a:lnTo>
                <a:lnTo>
                  <a:pt x="2180" y="147"/>
                </a:lnTo>
                <a:lnTo>
                  <a:pt x="2212" y="151"/>
                </a:lnTo>
                <a:lnTo>
                  <a:pt x="2244" y="167"/>
                </a:lnTo>
                <a:lnTo>
                  <a:pt x="2272" y="173"/>
                </a:lnTo>
                <a:lnTo>
                  <a:pt x="2291" y="185"/>
                </a:lnTo>
                <a:lnTo>
                  <a:pt x="2314" y="195"/>
                </a:lnTo>
                <a:lnTo>
                  <a:pt x="2311" y="222"/>
                </a:lnTo>
                <a:lnTo>
                  <a:pt x="2287" y="212"/>
                </a:lnTo>
                <a:lnTo>
                  <a:pt x="2261" y="198"/>
                </a:lnTo>
                <a:lnTo>
                  <a:pt x="2211" y="185"/>
                </a:lnTo>
                <a:lnTo>
                  <a:pt x="2181" y="175"/>
                </a:lnTo>
                <a:lnTo>
                  <a:pt x="2154" y="182"/>
                </a:lnTo>
                <a:lnTo>
                  <a:pt x="2137" y="202"/>
                </a:lnTo>
                <a:lnTo>
                  <a:pt x="2151" y="215"/>
                </a:lnTo>
                <a:lnTo>
                  <a:pt x="2174" y="222"/>
                </a:lnTo>
                <a:lnTo>
                  <a:pt x="2201" y="238"/>
                </a:lnTo>
                <a:lnTo>
                  <a:pt x="2234" y="242"/>
                </a:lnTo>
                <a:lnTo>
                  <a:pt x="2248" y="263"/>
                </a:lnTo>
                <a:lnTo>
                  <a:pt x="2241" y="285"/>
                </a:lnTo>
                <a:lnTo>
                  <a:pt x="2214" y="295"/>
                </a:lnTo>
                <a:lnTo>
                  <a:pt x="2177" y="318"/>
                </a:lnTo>
                <a:lnTo>
                  <a:pt x="2161" y="348"/>
                </a:lnTo>
                <a:lnTo>
                  <a:pt x="2147" y="375"/>
                </a:lnTo>
                <a:cubicBezTo>
                  <a:pt x="2130" y="383"/>
                  <a:pt x="2137" y="382"/>
                  <a:pt x="2127" y="382"/>
                </a:cubicBezTo>
                <a:lnTo>
                  <a:pt x="2111" y="399"/>
                </a:lnTo>
                <a:lnTo>
                  <a:pt x="2100" y="414"/>
                </a:lnTo>
                <a:lnTo>
                  <a:pt x="2091" y="435"/>
                </a:lnTo>
                <a:lnTo>
                  <a:pt x="2078" y="429"/>
                </a:lnTo>
                <a:lnTo>
                  <a:pt x="2067" y="447"/>
                </a:lnTo>
                <a:cubicBezTo>
                  <a:pt x="2044" y="455"/>
                  <a:pt x="2059" y="457"/>
                  <a:pt x="2047" y="468"/>
                </a:cubicBezTo>
                <a:lnTo>
                  <a:pt x="2034" y="492"/>
                </a:lnTo>
                <a:lnTo>
                  <a:pt x="2021" y="538"/>
                </a:lnTo>
                <a:lnTo>
                  <a:pt x="2004" y="555"/>
                </a:lnTo>
                <a:lnTo>
                  <a:pt x="1998" y="575"/>
                </a:lnTo>
                <a:lnTo>
                  <a:pt x="1989" y="597"/>
                </a:lnTo>
                <a:lnTo>
                  <a:pt x="1974" y="621"/>
                </a:lnTo>
                <a:lnTo>
                  <a:pt x="1968" y="647"/>
                </a:lnTo>
                <a:lnTo>
                  <a:pt x="1962" y="669"/>
                </a:lnTo>
                <a:lnTo>
                  <a:pt x="1958" y="695"/>
                </a:lnTo>
                <a:lnTo>
                  <a:pt x="1953" y="738"/>
                </a:lnTo>
                <a:lnTo>
                  <a:pt x="1952" y="771"/>
                </a:lnTo>
                <a:lnTo>
                  <a:pt x="1938" y="804"/>
                </a:lnTo>
                <a:lnTo>
                  <a:pt x="1921" y="848"/>
                </a:lnTo>
                <a:lnTo>
                  <a:pt x="1901" y="868"/>
                </a:lnTo>
                <a:lnTo>
                  <a:pt x="1871" y="905"/>
                </a:lnTo>
                <a:lnTo>
                  <a:pt x="1857" y="932"/>
                </a:lnTo>
                <a:lnTo>
                  <a:pt x="1841" y="945"/>
                </a:lnTo>
                <a:lnTo>
                  <a:pt x="1831" y="968"/>
                </a:lnTo>
                <a:lnTo>
                  <a:pt x="1801" y="988"/>
                </a:lnTo>
                <a:lnTo>
                  <a:pt x="1754" y="995"/>
                </a:lnTo>
                <a:lnTo>
                  <a:pt x="1764" y="968"/>
                </a:lnTo>
                <a:lnTo>
                  <a:pt x="1801" y="958"/>
                </a:lnTo>
                <a:lnTo>
                  <a:pt x="1811" y="938"/>
                </a:lnTo>
                <a:lnTo>
                  <a:pt x="1821" y="912"/>
                </a:lnTo>
                <a:lnTo>
                  <a:pt x="1834" y="882"/>
                </a:lnTo>
                <a:lnTo>
                  <a:pt x="1851" y="852"/>
                </a:lnTo>
                <a:lnTo>
                  <a:pt x="1867" y="835"/>
                </a:lnTo>
                <a:lnTo>
                  <a:pt x="1857" y="805"/>
                </a:lnTo>
                <a:lnTo>
                  <a:pt x="1864" y="785"/>
                </a:lnTo>
                <a:lnTo>
                  <a:pt x="1874" y="765"/>
                </a:lnTo>
                <a:lnTo>
                  <a:pt x="1897" y="755"/>
                </a:lnTo>
                <a:lnTo>
                  <a:pt x="1871" y="732"/>
                </a:lnTo>
                <a:lnTo>
                  <a:pt x="1887" y="695"/>
                </a:lnTo>
                <a:lnTo>
                  <a:pt x="1907" y="695"/>
                </a:lnTo>
                <a:lnTo>
                  <a:pt x="1927" y="682"/>
                </a:lnTo>
                <a:lnTo>
                  <a:pt x="1921" y="662"/>
                </a:lnTo>
                <a:lnTo>
                  <a:pt x="1901" y="645"/>
                </a:lnTo>
                <a:lnTo>
                  <a:pt x="1887" y="628"/>
                </a:lnTo>
                <a:lnTo>
                  <a:pt x="1867" y="612"/>
                </a:lnTo>
                <a:lnTo>
                  <a:pt x="1884" y="592"/>
                </a:lnTo>
                <a:lnTo>
                  <a:pt x="1911" y="592"/>
                </a:lnTo>
                <a:lnTo>
                  <a:pt x="1917" y="572"/>
                </a:lnTo>
                <a:lnTo>
                  <a:pt x="1947" y="572"/>
                </a:lnTo>
                <a:lnTo>
                  <a:pt x="1961" y="555"/>
                </a:lnTo>
                <a:lnTo>
                  <a:pt x="1947" y="532"/>
                </a:lnTo>
                <a:lnTo>
                  <a:pt x="1941" y="505"/>
                </a:lnTo>
                <a:lnTo>
                  <a:pt x="1954" y="482"/>
                </a:lnTo>
                <a:lnTo>
                  <a:pt x="1921" y="485"/>
                </a:lnTo>
                <a:lnTo>
                  <a:pt x="1917" y="458"/>
                </a:lnTo>
                <a:lnTo>
                  <a:pt x="1934" y="425"/>
                </a:lnTo>
                <a:lnTo>
                  <a:pt x="1954" y="412"/>
                </a:lnTo>
                <a:lnTo>
                  <a:pt x="1974" y="422"/>
                </a:lnTo>
                <a:lnTo>
                  <a:pt x="1997" y="425"/>
                </a:lnTo>
                <a:lnTo>
                  <a:pt x="2017" y="425"/>
                </a:lnTo>
                <a:lnTo>
                  <a:pt x="2017" y="392"/>
                </a:lnTo>
                <a:lnTo>
                  <a:pt x="2031" y="375"/>
                </a:lnTo>
                <a:lnTo>
                  <a:pt x="2027" y="348"/>
                </a:lnTo>
                <a:lnTo>
                  <a:pt x="2007" y="325"/>
                </a:lnTo>
                <a:lnTo>
                  <a:pt x="1971" y="308"/>
                </a:lnTo>
                <a:lnTo>
                  <a:pt x="1944" y="292"/>
                </a:lnTo>
                <a:lnTo>
                  <a:pt x="1934" y="265"/>
                </a:lnTo>
                <a:lnTo>
                  <a:pt x="1917" y="275"/>
                </a:lnTo>
                <a:lnTo>
                  <a:pt x="1904" y="295"/>
                </a:lnTo>
                <a:lnTo>
                  <a:pt x="1911" y="318"/>
                </a:lnTo>
                <a:lnTo>
                  <a:pt x="1881" y="342"/>
                </a:lnTo>
                <a:lnTo>
                  <a:pt x="1861" y="342"/>
                </a:lnTo>
                <a:lnTo>
                  <a:pt x="1847" y="322"/>
                </a:lnTo>
                <a:lnTo>
                  <a:pt x="1847" y="288"/>
                </a:lnTo>
                <a:lnTo>
                  <a:pt x="1847" y="248"/>
                </a:lnTo>
                <a:lnTo>
                  <a:pt x="1837" y="225"/>
                </a:lnTo>
                <a:lnTo>
                  <a:pt x="1821" y="195"/>
                </a:lnTo>
                <a:lnTo>
                  <a:pt x="1801" y="185"/>
                </a:lnTo>
                <a:lnTo>
                  <a:pt x="1794" y="208"/>
                </a:lnTo>
                <a:lnTo>
                  <a:pt x="1794" y="238"/>
                </a:lnTo>
                <a:lnTo>
                  <a:pt x="1754" y="232"/>
                </a:lnTo>
                <a:lnTo>
                  <a:pt x="1731" y="228"/>
                </a:lnTo>
                <a:lnTo>
                  <a:pt x="1707" y="222"/>
                </a:lnTo>
                <a:cubicBezTo>
                  <a:pt x="1689" y="207"/>
                  <a:pt x="1691" y="215"/>
                  <a:pt x="1691" y="202"/>
                </a:cubicBezTo>
                <a:lnTo>
                  <a:pt x="1671" y="175"/>
                </a:lnTo>
                <a:lnTo>
                  <a:pt x="1647" y="195"/>
                </a:lnTo>
                <a:lnTo>
                  <a:pt x="1627" y="198"/>
                </a:lnTo>
                <a:lnTo>
                  <a:pt x="1604" y="222"/>
                </a:lnTo>
                <a:lnTo>
                  <a:pt x="1597" y="258"/>
                </a:lnTo>
                <a:lnTo>
                  <a:pt x="1601" y="282"/>
                </a:lnTo>
                <a:lnTo>
                  <a:pt x="1621" y="315"/>
                </a:lnTo>
                <a:lnTo>
                  <a:pt x="1601" y="345"/>
                </a:lnTo>
                <a:lnTo>
                  <a:pt x="1594" y="372"/>
                </a:lnTo>
                <a:lnTo>
                  <a:pt x="1584" y="402"/>
                </a:lnTo>
                <a:lnTo>
                  <a:pt x="1584" y="428"/>
                </a:lnTo>
                <a:lnTo>
                  <a:pt x="1587" y="452"/>
                </a:lnTo>
                <a:lnTo>
                  <a:pt x="1591" y="482"/>
                </a:lnTo>
                <a:lnTo>
                  <a:pt x="1571" y="458"/>
                </a:lnTo>
                <a:lnTo>
                  <a:pt x="1554" y="438"/>
                </a:lnTo>
                <a:lnTo>
                  <a:pt x="1564" y="408"/>
                </a:lnTo>
                <a:lnTo>
                  <a:pt x="1567" y="378"/>
                </a:lnTo>
                <a:lnTo>
                  <a:pt x="1567" y="335"/>
                </a:lnTo>
                <a:lnTo>
                  <a:pt x="1567" y="298"/>
                </a:lnTo>
                <a:lnTo>
                  <a:pt x="1561" y="275"/>
                </a:lnTo>
                <a:lnTo>
                  <a:pt x="1574" y="225"/>
                </a:lnTo>
                <a:lnTo>
                  <a:pt x="1581" y="202"/>
                </a:lnTo>
                <a:lnTo>
                  <a:pt x="1567" y="175"/>
                </a:lnTo>
                <a:lnTo>
                  <a:pt x="1547" y="148"/>
                </a:lnTo>
                <a:lnTo>
                  <a:pt x="1521" y="132"/>
                </a:lnTo>
                <a:lnTo>
                  <a:pt x="1504" y="115"/>
                </a:lnTo>
                <a:lnTo>
                  <a:pt x="1477" y="115"/>
                </a:lnTo>
                <a:lnTo>
                  <a:pt x="1454" y="148"/>
                </a:lnTo>
                <a:lnTo>
                  <a:pt x="1461" y="175"/>
                </a:lnTo>
                <a:lnTo>
                  <a:pt x="1451" y="192"/>
                </a:lnTo>
                <a:lnTo>
                  <a:pt x="1404" y="215"/>
                </a:lnTo>
                <a:lnTo>
                  <a:pt x="1377" y="215"/>
                </a:lnTo>
                <a:lnTo>
                  <a:pt x="1344" y="232"/>
                </a:lnTo>
                <a:lnTo>
                  <a:pt x="1337" y="265"/>
                </a:lnTo>
                <a:lnTo>
                  <a:pt x="1341" y="288"/>
                </a:lnTo>
                <a:lnTo>
                  <a:pt x="1344" y="308"/>
                </a:lnTo>
                <a:lnTo>
                  <a:pt x="1357" y="328"/>
                </a:lnTo>
                <a:lnTo>
                  <a:pt x="1371" y="355"/>
                </a:lnTo>
                <a:lnTo>
                  <a:pt x="1377" y="375"/>
                </a:lnTo>
                <a:lnTo>
                  <a:pt x="1354" y="368"/>
                </a:lnTo>
                <a:lnTo>
                  <a:pt x="1334" y="362"/>
                </a:lnTo>
                <a:lnTo>
                  <a:pt x="1321" y="395"/>
                </a:lnTo>
                <a:lnTo>
                  <a:pt x="1301" y="388"/>
                </a:lnTo>
                <a:lnTo>
                  <a:pt x="1294" y="355"/>
                </a:lnTo>
                <a:lnTo>
                  <a:pt x="1297" y="322"/>
                </a:lnTo>
                <a:lnTo>
                  <a:pt x="1304" y="288"/>
                </a:lnTo>
                <a:cubicBezTo>
                  <a:pt x="1308" y="271"/>
                  <a:pt x="1307" y="279"/>
                  <a:pt x="1307" y="262"/>
                </a:cubicBezTo>
                <a:lnTo>
                  <a:pt x="1294" y="242"/>
                </a:lnTo>
                <a:lnTo>
                  <a:pt x="1267" y="262"/>
                </a:lnTo>
                <a:lnTo>
                  <a:pt x="1247" y="282"/>
                </a:lnTo>
                <a:lnTo>
                  <a:pt x="1234" y="302"/>
                </a:lnTo>
                <a:lnTo>
                  <a:pt x="1224" y="325"/>
                </a:lnTo>
                <a:lnTo>
                  <a:pt x="1237" y="355"/>
                </a:lnTo>
                <a:lnTo>
                  <a:pt x="1237" y="378"/>
                </a:lnTo>
                <a:lnTo>
                  <a:pt x="1227" y="402"/>
                </a:lnTo>
                <a:lnTo>
                  <a:pt x="1221" y="435"/>
                </a:lnTo>
                <a:lnTo>
                  <a:pt x="1241" y="465"/>
                </a:lnTo>
                <a:lnTo>
                  <a:pt x="1254" y="482"/>
                </a:lnTo>
                <a:lnTo>
                  <a:pt x="1274" y="492"/>
                </a:lnTo>
                <a:lnTo>
                  <a:pt x="1281" y="525"/>
                </a:lnTo>
                <a:lnTo>
                  <a:pt x="1281" y="558"/>
                </a:lnTo>
                <a:lnTo>
                  <a:pt x="1294" y="585"/>
                </a:lnTo>
                <a:lnTo>
                  <a:pt x="1307" y="608"/>
                </a:lnTo>
                <a:lnTo>
                  <a:pt x="1317" y="632"/>
                </a:lnTo>
                <a:lnTo>
                  <a:pt x="1341" y="678"/>
                </a:lnTo>
                <a:lnTo>
                  <a:pt x="1351" y="715"/>
                </a:lnTo>
                <a:lnTo>
                  <a:pt x="1341" y="748"/>
                </a:lnTo>
                <a:lnTo>
                  <a:pt x="1344" y="778"/>
                </a:lnTo>
                <a:lnTo>
                  <a:pt x="1344" y="815"/>
                </a:lnTo>
                <a:lnTo>
                  <a:pt x="1334" y="852"/>
                </a:lnTo>
                <a:lnTo>
                  <a:pt x="1324" y="878"/>
                </a:lnTo>
                <a:lnTo>
                  <a:pt x="1321" y="852"/>
                </a:lnTo>
                <a:lnTo>
                  <a:pt x="1327" y="815"/>
                </a:lnTo>
                <a:lnTo>
                  <a:pt x="1324" y="772"/>
                </a:lnTo>
                <a:lnTo>
                  <a:pt x="1324" y="738"/>
                </a:lnTo>
                <a:lnTo>
                  <a:pt x="1321" y="712"/>
                </a:lnTo>
                <a:lnTo>
                  <a:pt x="1307" y="695"/>
                </a:lnTo>
                <a:lnTo>
                  <a:pt x="1287" y="695"/>
                </a:lnTo>
                <a:lnTo>
                  <a:pt x="1274" y="672"/>
                </a:lnTo>
                <a:lnTo>
                  <a:pt x="1274" y="645"/>
                </a:lnTo>
                <a:lnTo>
                  <a:pt x="1261" y="612"/>
                </a:lnTo>
                <a:lnTo>
                  <a:pt x="1234" y="572"/>
                </a:lnTo>
                <a:lnTo>
                  <a:pt x="1214" y="532"/>
                </a:lnTo>
                <a:lnTo>
                  <a:pt x="1214" y="495"/>
                </a:lnTo>
                <a:lnTo>
                  <a:pt x="1207" y="468"/>
                </a:lnTo>
                <a:lnTo>
                  <a:pt x="1187" y="465"/>
                </a:lnTo>
                <a:lnTo>
                  <a:pt x="1174" y="495"/>
                </a:lnTo>
                <a:lnTo>
                  <a:pt x="1164" y="475"/>
                </a:lnTo>
                <a:lnTo>
                  <a:pt x="1164" y="455"/>
                </a:lnTo>
                <a:lnTo>
                  <a:pt x="1181" y="432"/>
                </a:lnTo>
                <a:lnTo>
                  <a:pt x="1154" y="405"/>
                </a:lnTo>
                <a:lnTo>
                  <a:pt x="1127" y="402"/>
                </a:lnTo>
                <a:lnTo>
                  <a:pt x="1101" y="392"/>
                </a:lnTo>
                <a:lnTo>
                  <a:pt x="1087" y="422"/>
                </a:lnTo>
                <a:lnTo>
                  <a:pt x="1067" y="438"/>
                </a:lnTo>
                <a:lnTo>
                  <a:pt x="1037" y="435"/>
                </a:lnTo>
                <a:lnTo>
                  <a:pt x="1017" y="432"/>
                </a:lnTo>
                <a:lnTo>
                  <a:pt x="1001" y="448"/>
                </a:lnTo>
                <a:lnTo>
                  <a:pt x="1011" y="465"/>
                </a:lnTo>
                <a:lnTo>
                  <a:pt x="1011" y="498"/>
                </a:lnTo>
                <a:lnTo>
                  <a:pt x="964" y="485"/>
                </a:lnTo>
                <a:lnTo>
                  <a:pt x="931" y="498"/>
                </a:lnTo>
                <a:lnTo>
                  <a:pt x="907" y="518"/>
                </a:lnTo>
                <a:lnTo>
                  <a:pt x="881" y="538"/>
                </a:lnTo>
                <a:lnTo>
                  <a:pt x="867" y="558"/>
                </a:lnTo>
                <a:lnTo>
                  <a:pt x="891" y="572"/>
                </a:lnTo>
                <a:lnTo>
                  <a:pt x="914" y="572"/>
                </a:lnTo>
                <a:lnTo>
                  <a:pt x="934" y="592"/>
                </a:lnTo>
                <a:lnTo>
                  <a:pt x="931" y="618"/>
                </a:lnTo>
                <a:lnTo>
                  <a:pt x="944" y="642"/>
                </a:lnTo>
                <a:lnTo>
                  <a:pt x="941" y="665"/>
                </a:lnTo>
                <a:lnTo>
                  <a:pt x="927" y="642"/>
                </a:lnTo>
                <a:lnTo>
                  <a:pt x="921" y="612"/>
                </a:lnTo>
                <a:lnTo>
                  <a:pt x="891" y="595"/>
                </a:lnTo>
                <a:lnTo>
                  <a:pt x="871" y="605"/>
                </a:lnTo>
                <a:lnTo>
                  <a:pt x="854" y="615"/>
                </a:lnTo>
                <a:lnTo>
                  <a:pt x="854" y="642"/>
                </a:lnTo>
                <a:lnTo>
                  <a:pt x="857" y="668"/>
                </a:lnTo>
                <a:lnTo>
                  <a:pt x="867" y="698"/>
                </a:lnTo>
                <a:lnTo>
                  <a:pt x="891" y="712"/>
                </a:lnTo>
                <a:lnTo>
                  <a:pt x="904" y="738"/>
                </a:lnTo>
                <a:lnTo>
                  <a:pt x="881" y="742"/>
                </a:lnTo>
                <a:lnTo>
                  <a:pt x="854" y="718"/>
                </a:lnTo>
                <a:lnTo>
                  <a:pt x="834" y="712"/>
                </a:lnTo>
                <a:lnTo>
                  <a:pt x="811" y="722"/>
                </a:lnTo>
                <a:lnTo>
                  <a:pt x="811" y="745"/>
                </a:lnTo>
                <a:lnTo>
                  <a:pt x="834" y="765"/>
                </a:lnTo>
                <a:lnTo>
                  <a:pt x="847" y="792"/>
                </a:lnTo>
                <a:lnTo>
                  <a:pt x="874" y="822"/>
                </a:lnTo>
                <a:lnTo>
                  <a:pt x="887" y="842"/>
                </a:lnTo>
                <a:lnTo>
                  <a:pt x="884" y="862"/>
                </a:lnTo>
                <a:lnTo>
                  <a:pt x="857" y="838"/>
                </a:lnTo>
                <a:lnTo>
                  <a:pt x="841" y="825"/>
                </a:lnTo>
                <a:lnTo>
                  <a:pt x="827" y="838"/>
                </a:lnTo>
                <a:lnTo>
                  <a:pt x="837" y="872"/>
                </a:lnTo>
                <a:lnTo>
                  <a:pt x="851" y="905"/>
                </a:lnTo>
                <a:lnTo>
                  <a:pt x="877" y="912"/>
                </a:lnTo>
                <a:lnTo>
                  <a:pt x="901" y="928"/>
                </a:lnTo>
                <a:lnTo>
                  <a:pt x="931" y="938"/>
                </a:lnTo>
                <a:lnTo>
                  <a:pt x="961" y="962"/>
                </a:lnTo>
                <a:lnTo>
                  <a:pt x="977" y="982"/>
                </a:lnTo>
                <a:lnTo>
                  <a:pt x="957" y="988"/>
                </a:lnTo>
                <a:lnTo>
                  <a:pt x="927" y="985"/>
                </a:lnTo>
                <a:lnTo>
                  <a:pt x="941" y="1018"/>
                </a:lnTo>
                <a:lnTo>
                  <a:pt x="914" y="1005"/>
                </a:lnTo>
                <a:lnTo>
                  <a:pt x="894" y="978"/>
                </a:lnTo>
                <a:lnTo>
                  <a:pt x="867" y="968"/>
                </a:lnTo>
                <a:lnTo>
                  <a:pt x="857" y="948"/>
                </a:lnTo>
                <a:lnTo>
                  <a:pt x="831" y="938"/>
                </a:lnTo>
                <a:lnTo>
                  <a:pt x="814" y="918"/>
                </a:lnTo>
                <a:lnTo>
                  <a:pt x="811" y="892"/>
                </a:lnTo>
                <a:lnTo>
                  <a:pt x="804" y="862"/>
                </a:lnTo>
                <a:lnTo>
                  <a:pt x="801" y="835"/>
                </a:lnTo>
                <a:lnTo>
                  <a:pt x="804" y="812"/>
                </a:lnTo>
                <a:lnTo>
                  <a:pt x="811" y="792"/>
                </a:lnTo>
                <a:lnTo>
                  <a:pt x="784" y="792"/>
                </a:lnTo>
                <a:lnTo>
                  <a:pt x="764" y="815"/>
                </a:lnTo>
                <a:lnTo>
                  <a:pt x="741" y="842"/>
                </a:lnTo>
                <a:lnTo>
                  <a:pt x="737" y="862"/>
                </a:lnTo>
                <a:lnTo>
                  <a:pt x="721" y="898"/>
                </a:lnTo>
                <a:lnTo>
                  <a:pt x="721" y="925"/>
                </a:lnTo>
                <a:lnTo>
                  <a:pt x="707" y="905"/>
                </a:lnTo>
                <a:lnTo>
                  <a:pt x="684" y="928"/>
                </a:lnTo>
                <a:lnTo>
                  <a:pt x="691" y="952"/>
                </a:lnTo>
                <a:lnTo>
                  <a:pt x="684" y="985"/>
                </a:lnTo>
                <a:lnTo>
                  <a:pt x="681" y="1022"/>
                </a:lnTo>
                <a:lnTo>
                  <a:pt x="664" y="1032"/>
                </a:lnTo>
                <a:lnTo>
                  <a:pt x="661" y="1012"/>
                </a:lnTo>
                <a:lnTo>
                  <a:pt x="664" y="985"/>
                </a:lnTo>
                <a:lnTo>
                  <a:pt x="664" y="962"/>
                </a:lnTo>
                <a:lnTo>
                  <a:pt x="654" y="932"/>
                </a:lnTo>
                <a:lnTo>
                  <a:pt x="627" y="938"/>
                </a:lnTo>
                <a:lnTo>
                  <a:pt x="611" y="958"/>
                </a:lnTo>
                <a:lnTo>
                  <a:pt x="597" y="985"/>
                </a:lnTo>
                <a:lnTo>
                  <a:pt x="581" y="1002"/>
                </a:lnTo>
                <a:lnTo>
                  <a:pt x="551" y="1005"/>
                </a:lnTo>
                <a:lnTo>
                  <a:pt x="534" y="1018"/>
                </a:lnTo>
                <a:lnTo>
                  <a:pt x="511" y="1045"/>
                </a:lnTo>
                <a:lnTo>
                  <a:pt x="484" y="1058"/>
                </a:lnTo>
                <a:lnTo>
                  <a:pt x="451" y="1082"/>
                </a:lnTo>
                <a:lnTo>
                  <a:pt x="437" y="1118"/>
                </a:lnTo>
                <a:lnTo>
                  <a:pt x="414" y="1152"/>
                </a:lnTo>
                <a:lnTo>
                  <a:pt x="434" y="1198"/>
                </a:lnTo>
                <a:lnTo>
                  <a:pt x="434" y="1222"/>
                </a:lnTo>
                <a:lnTo>
                  <a:pt x="441" y="1245"/>
                </a:lnTo>
                <a:lnTo>
                  <a:pt x="471" y="1242"/>
                </a:lnTo>
                <a:lnTo>
                  <a:pt x="501" y="1242"/>
                </a:lnTo>
                <a:lnTo>
                  <a:pt x="531" y="1275"/>
                </a:lnTo>
                <a:lnTo>
                  <a:pt x="547" y="1302"/>
                </a:lnTo>
                <a:lnTo>
                  <a:pt x="527" y="1288"/>
                </a:lnTo>
                <a:lnTo>
                  <a:pt x="504" y="1272"/>
                </a:lnTo>
                <a:lnTo>
                  <a:pt x="471" y="1272"/>
                </a:lnTo>
                <a:lnTo>
                  <a:pt x="447" y="1278"/>
                </a:lnTo>
                <a:lnTo>
                  <a:pt x="424" y="1295"/>
                </a:lnTo>
                <a:lnTo>
                  <a:pt x="414" y="1312"/>
                </a:lnTo>
                <a:lnTo>
                  <a:pt x="417" y="1338"/>
                </a:lnTo>
                <a:lnTo>
                  <a:pt x="417" y="1365"/>
                </a:lnTo>
                <a:lnTo>
                  <a:pt x="401" y="1378"/>
                </a:lnTo>
                <a:lnTo>
                  <a:pt x="374" y="1402"/>
                </a:lnTo>
                <a:lnTo>
                  <a:pt x="361" y="1432"/>
                </a:lnTo>
                <a:lnTo>
                  <a:pt x="347" y="1465"/>
                </a:lnTo>
                <a:lnTo>
                  <a:pt x="351" y="1502"/>
                </a:lnTo>
                <a:lnTo>
                  <a:pt x="357" y="1528"/>
                </a:lnTo>
                <a:lnTo>
                  <a:pt x="377" y="1548"/>
                </a:lnTo>
                <a:lnTo>
                  <a:pt x="411" y="1568"/>
                </a:lnTo>
                <a:lnTo>
                  <a:pt x="427" y="1618"/>
                </a:lnTo>
                <a:lnTo>
                  <a:pt x="414" y="1648"/>
                </a:lnTo>
                <a:lnTo>
                  <a:pt x="404" y="1688"/>
                </a:lnTo>
                <a:lnTo>
                  <a:pt x="411" y="1715"/>
                </a:lnTo>
                <a:lnTo>
                  <a:pt x="387" y="1705"/>
                </a:lnTo>
                <a:lnTo>
                  <a:pt x="381" y="1668"/>
                </a:lnTo>
                <a:lnTo>
                  <a:pt x="387" y="1642"/>
                </a:lnTo>
                <a:lnTo>
                  <a:pt x="391" y="1612"/>
                </a:lnTo>
                <a:lnTo>
                  <a:pt x="384" y="1578"/>
                </a:lnTo>
                <a:lnTo>
                  <a:pt x="361" y="1558"/>
                </a:lnTo>
                <a:lnTo>
                  <a:pt x="327" y="1532"/>
                </a:lnTo>
                <a:lnTo>
                  <a:pt x="324" y="1498"/>
                </a:lnTo>
                <a:lnTo>
                  <a:pt x="331" y="1462"/>
                </a:lnTo>
                <a:lnTo>
                  <a:pt x="347" y="1415"/>
                </a:lnTo>
                <a:lnTo>
                  <a:pt x="357" y="1388"/>
                </a:lnTo>
                <a:lnTo>
                  <a:pt x="381" y="1358"/>
                </a:lnTo>
                <a:lnTo>
                  <a:pt x="391" y="1332"/>
                </a:lnTo>
                <a:lnTo>
                  <a:pt x="407" y="1292"/>
                </a:lnTo>
                <a:lnTo>
                  <a:pt x="407" y="1252"/>
                </a:lnTo>
                <a:lnTo>
                  <a:pt x="401" y="1212"/>
                </a:lnTo>
                <a:lnTo>
                  <a:pt x="381" y="1178"/>
                </a:lnTo>
                <a:lnTo>
                  <a:pt x="384" y="1152"/>
                </a:lnTo>
                <a:lnTo>
                  <a:pt x="401" y="1128"/>
                </a:lnTo>
                <a:lnTo>
                  <a:pt x="381" y="1118"/>
                </a:lnTo>
                <a:lnTo>
                  <a:pt x="347" y="1115"/>
                </a:lnTo>
                <a:lnTo>
                  <a:pt x="327" y="1135"/>
                </a:lnTo>
                <a:lnTo>
                  <a:pt x="317" y="1168"/>
                </a:lnTo>
                <a:lnTo>
                  <a:pt x="301" y="1198"/>
                </a:lnTo>
                <a:lnTo>
                  <a:pt x="284" y="1222"/>
                </a:lnTo>
                <a:lnTo>
                  <a:pt x="261" y="1252"/>
                </a:lnTo>
                <a:lnTo>
                  <a:pt x="227" y="1275"/>
                </a:lnTo>
                <a:lnTo>
                  <a:pt x="187" y="1278"/>
                </a:lnTo>
                <a:lnTo>
                  <a:pt x="164" y="1268"/>
                </a:lnTo>
                <a:lnTo>
                  <a:pt x="134" y="1245"/>
                </a:lnTo>
                <a:lnTo>
                  <a:pt x="107" y="1225"/>
                </a:lnTo>
                <a:lnTo>
                  <a:pt x="77" y="1238"/>
                </a:lnTo>
                <a:lnTo>
                  <a:pt x="57" y="1258"/>
                </a:lnTo>
                <a:lnTo>
                  <a:pt x="41" y="1275"/>
                </a:lnTo>
                <a:lnTo>
                  <a:pt x="0" y="1309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90640" y="3902040"/>
            <a:ext cx="230400" cy="550800"/>
          </a:xfrm>
          <a:custGeom>
            <a:avLst/>
            <a:gdLst/>
            <a:ahLst/>
            <a:rect l="l" t="t" r="r" b="b"/>
            <a:pathLst>
              <a:path w="145" h="347">
                <a:moveTo>
                  <a:pt x="145" y="0"/>
                </a:moveTo>
                <a:cubicBezTo>
                  <a:pt x="138" y="4"/>
                  <a:pt x="117" y="16"/>
                  <a:pt x="105" y="20"/>
                </a:cubicBezTo>
                <a:cubicBezTo>
                  <a:pt x="93" y="24"/>
                  <a:pt x="83" y="20"/>
                  <a:pt x="75" y="23"/>
                </a:cubicBezTo>
                <a:cubicBezTo>
                  <a:pt x="67" y="26"/>
                  <a:pt x="61" y="36"/>
                  <a:pt x="54" y="41"/>
                </a:cubicBezTo>
                <a:cubicBezTo>
                  <a:pt x="47" y="46"/>
                  <a:pt x="40" y="47"/>
                  <a:pt x="33" y="53"/>
                </a:cubicBezTo>
                <a:cubicBezTo>
                  <a:pt x="26" y="59"/>
                  <a:pt x="15" y="68"/>
                  <a:pt x="9" y="77"/>
                </a:cubicBezTo>
                <a:cubicBezTo>
                  <a:pt x="3" y="86"/>
                  <a:pt x="0" y="99"/>
                  <a:pt x="0" y="107"/>
                </a:cubicBezTo>
                <a:cubicBezTo>
                  <a:pt x="0" y="115"/>
                  <a:pt x="8" y="120"/>
                  <a:pt x="12" y="128"/>
                </a:cubicBezTo>
                <a:cubicBezTo>
                  <a:pt x="16" y="136"/>
                  <a:pt x="21" y="149"/>
                  <a:pt x="27" y="158"/>
                </a:cubicBezTo>
                <a:cubicBezTo>
                  <a:pt x="33" y="167"/>
                  <a:pt x="47" y="173"/>
                  <a:pt x="51" y="182"/>
                </a:cubicBezTo>
                <a:cubicBezTo>
                  <a:pt x="55" y="191"/>
                  <a:pt x="50" y="206"/>
                  <a:pt x="51" y="215"/>
                </a:cubicBezTo>
                <a:cubicBezTo>
                  <a:pt x="52" y="224"/>
                  <a:pt x="58" y="232"/>
                  <a:pt x="60" y="239"/>
                </a:cubicBezTo>
                <a:cubicBezTo>
                  <a:pt x="62" y="246"/>
                  <a:pt x="60" y="253"/>
                  <a:pt x="63" y="260"/>
                </a:cubicBezTo>
                <a:cubicBezTo>
                  <a:pt x="66" y="267"/>
                  <a:pt x="74" y="274"/>
                  <a:pt x="78" y="281"/>
                </a:cubicBezTo>
                <a:cubicBezTo>
                  <a:pt x="82" y="288"/>
                  <a:pt x="87" y="294"/>
                  <a:pt x="87" y="302"/>
                </a:cubicBezTo>
                <a:cubicBezTo>
                  <a:pt x="87" y="310"/>
                  <a:pt x="80" y="322"/>
                  <a:pt x="78" y="329"/>
                </a:cubicBezTo>
                <a:cubicBezTo>
                  <a:pt x="76" y="336"/>
                  <a:pt x="73" y="345"/>
                  <a:pt x="72" y="34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31880" y="2386080"/>
            <a:ext cx="1058760" cy="1728720"/>
          </a:xfrm>
          <a:custGeom>
            <a:avLst/>
            <a:gdLst/>
            <a:ahLst/>
            <a:rect l="l" t="t" r="r" b="b"/>
            <a:pathLst>
              <a:path w="667" h="1089">
                <a:moveTo>
                  <a:pt x="667" y="1059"/>
                </a:moveTo>
                <a:cubicBezTo>
                  <a:pt x="654" y="1062"/>
                  <a:pt x="641" y="1065"/>
                  <a:pt x="631" y="1068"/>
                </a:cubicBezTo>
                <a:cubicBezTo>
                  <a:pt x="621" y="1071"/>
                  <a:pt x="615" y="1075"/>
                  <a:pt x="607" y="1074"/>
                </a:cubicBezTo>
                <a:cubicBezTo>
                  <a:pt x="599" y="1073"/>
                  <a:pt x="590" y="1061"/>
                  <a:pt x="583" y="1062"/>
                </a:cubicBezTo>
                <a:cubicBezTo>
                  <a:pt x="576" y="1063"/>
                  <a:pt x="572" y="1073"/>
                  <a:pt x="565" y="1077"/>
                </a:cubicBezTo>
                <a:cubicBezTo>
                  <a:pt x="558" y="1081"/>
                  <a:pt x="550" y="1089"/>
                  <a:pt x="541" y="1089"/>
                </a:cubicBezTo>
                <a:cubicBezTo>
                  <a:pt x="532" y="1089"/>
                  <a:pt x="520" y="1077"/>
                  <a:pt x="511" y="1074"/>
                </a:cubicBezTo>
                <a:cubicBezTo>
                  <a:pt x="502" y="1071"/>
                  <a:pt x="489" y="1077"/>
                  <a:pt x="484" y="1071"/>
                </a:cubicBezTo>
                <a:cubicBezTo>
                  <a:pt x="479" y="1065"/>
                  <a:pt x="484" y="1050"/>
                  <a:pt x="481" y="1041"/>
                </a:cubicBezTo>
                <a:cubicBezTo>
                  <a:pt x="478" y="1032"/>
                  <a:pt x="473" y="1026"/>
                  <a:pt x="469" y="1017"/>
                </a:cubicBezTo>
                <a:cubicBezTo>
                  <a:pt x="465" y="1008"/>
                  <a:pt x="461" y="996"/>
                  <a:pt x="457" y="987"/>
                </a:cubicBezTo>
                <a:cubicBezTo>
                  <a:pt x="453" y="978"/>
                  <a:pt x="451" y="968"/>
                  <a:pt x="445" y="963"/>
                </a:cubicBezTo>
                <a:cubicBezTo>
                  <a:pt x="439" y="958"/>
                  <a:pt x="427" y="960"/>
                  <a:pt x="421" y="957"/>
                </a:cubicBezTo>
                <a:cubicBezTo>
                  <a:pt x="415" y="954"/>
                  <a:pt x="410" y="950"/>
                  <a:pt x="406" y="945"/>
                </a:cubicBezTo>
                <a:cubicBezTo>
                  <a:pt x="402" y="940"/>
                  <a:pt x="400" y="934"/>
                  <a:pt x="397" y="927"/>
                </a:cubicBezTo>
                <a:cubicBezTo>
                  <a:pt x="394" y="920"/>
                  <a:pt x="390" y="913"/>
                  <a:pt x="391" y="903"/>
                </a:cubicBezTo>
                <a:cubicBezTo>
                  <a:pt x="392" y="893"/>
                  <a:pt x="396" y="876"/>
                  <a:pt x="400" y="867"/>
                </a:cubicBezTo>
                <a:cubicBezTo>
                  <a:pt x="404" y="858"/>
                  <a:pt x="408" y="854"/>
                  <a:pt x="412" y="849"/>
                </a:cubicBezTo>
                <a:cubicBezTo>
                  <a:pt x="416" y="844"/>
                  <a:pt x="423" y="839"/>
                  <a:pt x="427" y="834"/>
                </a:cubicBezTo>
                <a:cubicBezTo>
                  <a:pt x="431" y="829"/>
                  <a:pt x="440" y="822"/>
                  <a:pt x="439" y="816"/>
                </a:cubicBezTo>
                <a:cubicBezTo>
                  <a:pt x="438" y="810"/>
                  <a:pt x="423" y="802"/>
                  <a:pt x="421" y="795"/>
                </a:cubicBezTo>
                <a:cubicBezTo>
                  <a:pt x="419" y="788"/>
                  <a:pt x="425" y="778"/>
                  <a:pt x="424" y="771"/>
                </a:cubicBezTo>
                <a:cubicBezTo>
                  <a:pt x="423" y="764"/>
                  <a:pt x="420" y="759"/>
                  <a:pt x="412" y="750"/>
                </a:cubicBezTo>
                <a:cubicBezTo>
                  <a:pt x="404" y="741"/>
                  <a:pt x="386" y="722"/>
                  <a:pt x="376" y="717"/>
                </a:cubicBezTo>
                <a:cubicBezTo>
                  <a:pt x="366" y="712"/>
                  <a:pt x="354" y="715"/>
                  <a:pt x="349" y="720"/>
                </a:cubicBezTo>
                <a:cubicBezTo>
                  <a:pt x="344" y="725"/>
                  <a:pt x="348" y="741"/>
                  <a:pt x="343" y="747"/>
                </a:cubicBezTo>
                <a:cubicBezTo>
                  <a:pt x="338" y="753"/>
                  <a:pt x="328" y="755"/>
                  <a:pt x="322" y="756"/>
                </a:cubicBezTo>
                <a:cubicBezTo>
                  <a:pt x="316" y="757"/>
                  <a:pt x="310" y="751"/>
                  <a:pt x="304" y="756"/>
                </a:cubicBezTo>
                <a:cubicBezTo>
                  <a:pt x="298" y="761"/>
                  <a:pt x="292" y="786"/>
                  <a:pt x="283" y="786"/>
                </a:cubicBezTo>
                <a:cubicBezTo>
                  <a:pt x="274" y="786"/>
                  <a:pt x="259" y="762"/>
                  <a:pt x="250" y="756"/>
                </a:cubicBezTo>
                <a:cubicBezTo>
                  <a:pt x="241" y="750"/>
                  <a:pt x="235" y="754"/>
                  <a:pt x="229" y="747"/>
                </a:cubicBezTo>
                <a:cubicBezTo>
                  <a:pt x="223" y="740"/>
                  <a:pt x="220" y="722"/>
                  <a:pt x="214" y="714"/>
                </a:cubicBezTo>
                <a:cubicBezTo>
                  <a:pt x="208" y="706"/>
                  <a:pt x="204" y="704"/>
                  <a:pt x="193" y="699"/>
                </a:cubicBezTo>
                <a:cubicBezTo>
                  <a:pt x="182" y="694"/>
                  <a:pt x="157" y="690"/>
                  <a:pt x="145" y="681"/>
                </a:cubicBezTo>
                <a:cubicBezTo>
                  <a:pt x="133" y="672"/>
                  <a:pt x="128" y="655"/>
                  <a:pt x="121" y="645"/>
                </a:cubicBezTo>
                <a:cubicBezTo>
                  <a:pt x="114" y="635"/>
                  <a:pt x="107" y="629"/>
                  <a:pt x="100" y="621"/>
                </a:cubicBezTo>
                <a:cubicBezTo>
                  <a:pt x="93" y="613"/>
                  <a:pt x="88" y="607"/>
                  <a:pt x="82" y="597"/>
                </a:cubicBezTo>
                <a:cubicBezTo>
                  <a:pt x="76" y="587"/>
                  <a:pt x="68" y="569"/>
                  <a:pt x="64" y="558"/>
                </a:cubicBezTo>
                <a:cubicBezTo>
                  <a:pt x="60" y="547"/>
                  <a:pt x="57" y="539"/>
                  <a:pt x="55" y="528"/>
                </a:cubicBezTo>
                <a:cubicBezTo>
                  <a:pt x="53" y="517"/>
                  <a:pt x="50" y="503"/>
                  <a:pt x="52" y="492"/>
                </a:cubicBezTo>
                <a:cubicBezTo>
                  <a:pt x="54" y="481"/>
                  <a:pt x="59" y="471"/>
                  <a:pt x="64" y="462"/>
                </a:cubicBezTo>
                <a:cubicBezTo>
                  <a:pt x="69" y="453"/>
                  <a:pt x="77" y="446"/>
                  <a:pt x="82" y="438"/>
                </a:cubicBezTo>
                <a:cubicBezTo>
                  <a:pt x="87" y="430"/>
                  <a:pt x="94" y="421"/>
                  <a:pt x="94" y="414"/>
                </a:cubicBezTo>
                <a:cubicBezTo>
                  <a:pt x="94" y="407"/>
                  <a:pt x="89" y="402"/>
                  <a:pt x="85" y="393"/>
                </a:cubicBezTo>
                <a:cubicBezTo>
                  <a:pt x="81" y="384"/>
                  <a:pt x="74" y="370"/>
                  <a:pt x="73" y="360"/>
                </a:cubicBezTo>
                <a:cubicBezTo>
                  <a:pt x="72" y="350"/>
                  <a:pt x="76" y="339"/>
                  <a:pt x="76" y="330"/>
                </a:cubicBezTo>
                <a:cubicBezTo>
                  <a:pt x="76" y="321"/>
                  <a:pt x="78" y="314"/>
                  <a:pt x="76" y="306"/>
                </a:cubicBezTo>
                <a:cubicBezTo>
                  <a:pt x="74" y="298"/>
                  <a:pt x="66" y="291"/>
                  <a:pt x="64" y="282"/>
                </a:cubicBezTo>
                <a:cubicBezTo>
                  <a:pt x="62" y="273"/>
                  <a:pt x="60" y="260"/>
                  <a:pt x="61" y="252"/>
                </a:cubicBezTo>
                <a:cubicBezTo>
                  <a:pt x="62" y="244"/>
                  <a:pt x="66" y="240"/>
                  <a:pt x="67" y="234"/>
                </a:cubicBezTo>
                <a:cubicBezTo>
                  <a:pt x="68" y="228"/>
                  <a:pt x="71" y="222"/>
                  <a:pt x="70" y="216"/>
                </a:cubicBezTo>
                <a:cubicBezTo>
                  <a:pt x="69" y="210"/>
                  <a:pt x="61" y="201"/>
                  <a:pt x="58" y="195"/>
                </a:cubicBezTo>
                <a:cubicBezTo>
                  <a:pt x="55" y="189"/>
                  <a:pt x="52" y="183"/>
                  <a:pt x="52" y="177"/>
                </a:cubicBezTo>
                <a:cubicBezTo>
                  <a:pt x="52" y="171"/>
                  <a:pt x="64" y="165"/>
                  <a:pt x="61" y="156"/>
                </a:cubicBezTo>
                <a:cubicBezTo>
                  <a:pt x="58" y="147"/>
                  <a:pt x="40" y="132"/>
                  <a:pt x="34" y="123"/>
                </a:cubicBezTo>
                <a:cubicBezTo>
                  <a:pt x="28" y="114"/>
                  <a:pt x="27" y="110"/>
                  <a:pt x="22" y="102"/>
                </a:cubicBezTo>
                <a:cubicBezTo>
                  <a:pt x="17" y="94"/>
                  <a:pt x="2" y="81"/>
                  <a:pt x="1" y="75"/>
                </a:cubicBezTo>
                <a:cubicBezTo>
                  <a:pt x="0" y="69"/>
                  <a:pt x="14" y="70"/>
                  <a:pt x="19" y="66"/>
                </a:cubicBezTo>
                <a:cubicBezTo>
                  <a:pt x="24" y="62"/>
                  <a:pt x="30" y="55"/>
                  <a:pt x="31" y="48"/>
                </a:cubicBezTo>
                <a:cubicBezTo>
                  <a:pt x="32" y="41"/>
                  <a:pt x="25" y="32"/>
                  <a:pt x="25" y="24"/>
                </a:cubicBezTo>
                <a:cubicBezTo>
                  <a:pt x="25" y="16"/>
                  <a:pt x="29" y="5"/>
                  <a:pt x="31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2800" y="2959200"/>
            <a:ext cx="1552680" cy="728640"/>
          </a:xfrm>
          <a:custGeom>
            <a:avLst/>
            <a:gdLst/>
            <a:ahLst/>
            <a:rect l="l" t="t" r="r" b="b"/>
            <a:pathLst>
              <a:path w="978" h="459">
                <a:moveTo>
                  <a:pt x="978" y="383"/>
                </a:moveTo>
                <a:cubicBezTo>
                  <a:pt x="962" y="389"/>
                  <a:pt x="946" y="396"/>
                  <a:pt x="936" y="401"/>
                </a:cubicBezTo>
                <a:cubicBezTo>
                  <a:pt x="926" y="406"/>
                  <a:pt x="923" y="411"/>
                  <a:pt x="915" y="413"/>
                </a:cubicBezTo>
                <a:cubicBezTo>
                  <a:pt x="907" y="415"/>
                  <a:pt x="898" y="415"/>
                  <a:pt x="888" y="413"/>
                </a:cubicBezTo>
                <a:cubicBezTo>
                  <a:pt x="878" y="411"/>
                  <a:pt x="860" y="398"/>
                  <a:pt x="852" y="401"/>
                </a:cubicBezTo>
                <a:cubicBezTo>
                  <a:pt x="844" y="404"/>
                  <a:pt x="843" y="422"/>
                  <a:pt x="840" y="431"/>
                </a:cubicBezTo>
                <a:cubicBezTo>
                  <a:pt x="837" y="440"/>
                  <a:pt x="840" y="451"/>
                  <a:pt x="837" y="455"/>
                </a:cubicBezTo>
                <a:cubicBezTo>
                  <a:pt x="834" y="459"/>
                  <a:pt x="824" y="458"/>
                  <a:pt x="819" y="455"/>
                </a:cubicBezTo>
                <a:cubicBezTo>
                  <a:pt x="814" y="452"/>
                  <a:pt x="810" y="443"/>
                  <a:pt x="804" y="437"/>
                </a:cubicBezTo>
                <a:cubicBezTo>
                  <a:pt x="798" y="431"/>
                  <a:pt x="793" y="426"/>
                  <a:pt x="783" y="419"/>
                </a:cubicBezTo>
                <a:cubicBezTo>
                  <a:pt x="773" y="412"/>
                  <a:pt x="752" y="400"/>
                  <a:pt x="741" y="398"/>
                </a:cubicBezTo>
                <a:cubicBezTo>
                  <a:pt x="730" y="396"/>
                  <a:pt x="725" y="403"/>
                  <a:pt x="717" y="410"/>
                </a:cubicBezTo>
                <a:cubicBezTo>
                  <a:pt x="709" y="417"/>
                  <a:pt x="701" y="433"/>
                  <a:pt x="693" y="440"/>
                </a:cubicBezTo>
                <a:cubicBezTo>
                  <a:pt x="685" y="447"/>
                  <a:pt x="680" y="452"/>
                  <a:pt x="672" y="452"/>
                </a:cubicBezTo>
                <a:cubicBezTo>
                  <a:pt x="664" y="452"/>
                  <a:pt x="654" y="442"/>
                  <a:pt x="645" y="443"/>
                </a:cubicBezTo>
                <a:cubicBezTo>
                  <a:pt x="636" y="444"/>
                  <a:pt x="628" y="453"/>
                  <a:pt x="618" y="455"/>
                </a:cubicBezTo>
                <a:cubicBezTo>
                  <a:pt x="608" y="457"/>
                  <a:pt x="594" y="456"/>
                  <a:pt x="585" y="455"/>
                </a:cubicBezTo>
                <a:cubicBezTo>
                  <a:pt x="576" y="454"/>
                  <a:pt x="568" y="452"/>
                  <a:pt x="561" y="449"/>
                </a:cubicBezTo>
                <a:cubicBezTo>
                  <a:pt x="554" y="446"/>
                  <a:pt x="547" y="447"/>
                  <a:pt x="543" y="440"/>
                </a:cubicBezTo>
                <a:cubicBezTo>
                  <a:pt x="539" y="433"/>
                  <a:pt x="537" y="416"/>
                  <a:pt x="534" y="407"/>
                </a:cubicBezTo>
                <a:cubicBezTo>
                  <a:pt x="531" y="398"/>
                  <a:pt x="533" y="391"/>
                  <a:pt x="522" y="383"/>
                </a:cubicBezTo>
                <a:cubicBezTo>
                  <a:pt x="511" y="375"/>
                  <a:pt x="480" y="366"/>
                  <a:pt x="467" y="360"/>
                </a:cubicBezTo>
                <a:cubicBezTo>
                  <a:pt x="454" y="354"/>
                  <a:pt x="451" y="354"/>
                  <a:pt x="441" y="346"/>
                </a:cubicBezTo>
                <a:cubicBezTo>
                  <a:pt x="431" y="338"/>
                  <a:pt x="418" y="324"/>
                  <a:pt x="409" y="314"/>
                </a:cubicBezTo>
                <a:cubicBezTo>
                  <a:pt x="400" y="304"/>
                  <a:pt x="391" y="297"/>
                  <a:pt x="387" y="286"/>
                </a:cubicBezTo>
                <a:cubicBezTo>
                  <a:pt x="383" y="275"/>
                  <a:pt x="381" y="260"/>
                  <a:pt x="383" y="248"/>
                </a:cubicBezTo>
                <a:cubicBezTo>
                  <a:pt x="385" y="236"/>
                  <a:pt x="390" y="220"/>
                  <a:pt x="397" y="212"/>
                </a:cubicBezTo>
                <a:cubicBezTo>
                  <a:pt x="404" y="204"/>
                  <a:pt x="419" y="203"/>
                  <a:pt x="423" y="197"/>
                </a:cubicBezTo>
                <a:cubicBezTo>
                  <a:pt x="427" y="191"/>
                  <a:pt x="419" y="186"/>
                  <a:pt x="419" y="178"/>
                </a:cubicBezTo>
                <a:cubicBezTo>
                  <a:pt x="419" y="170"/>
                  <a:pt x="418" y="156"/>
                  <a:pt x="421" y="150"/>
                </a:cubicBezTo>
                <a:cubicBezTo>
                  <a:pt x="424" y="144"/>
                  <a:pt x="431" y="142"/>
                  <a:pt x="438" y="140"/>
                </a:cubicBezTo>
                <a:cubicBezTo>
                  <a:pt x="445" y="138"/>
                  <a:pt x="456" y="140"/>
                  <a:pt x="465" y="140"/>
                </a:cubicBezTo>
                <a:cubicBezTo>
                  <a:pt x="474" y="140"/>
                  <a:pt x="488" y="142"/>
                  <a:pt x="495" y="140"/>
                </a:cubicBezTo>
                <a:cubicBezTo>
                  <a:pt x="502" y="138"/>
                  <a:pt x="504" y="132"/>
                  <a:pt x="507" y="125"/>
                </a:cubicBezTo>
                <a:cubicBezTo>
                  <a:pt x="510" y="118"/>
                  <a:pt x="512" y="106"/>
                  <a:pt x="513" y="98"/>
                </a:cubicBezTo>
                <a:cubicBezTo>
                  <a:pt x="514" y="90"/>
                  <a:pt x="513" y="85"/>
                  <a:pt x="513" y="77"/>
                </a:cubicBezTo>
                <a:cubicBezTo>
                  <a:pt x="513" y="69"/>
                  <a:pt x="517" y="60"/>
                  <a:pt x="513" y="50"/>
                </a:cubicBezTo>
                <a:cubicBezTo>
                  <a:pt x="509" y="40"/>
                  <a:pt x="501" y="25"/>
                  <a:pt x="489" y="17"/>
                </a:cubicBezTo>
                <a:cubicBezTo>
                  <a:pt x="477" y="9"/>
                  <a:pt x="450" y="4"/>
                  <a:pt x="438" y="2"/>
                </a:cubicBezTo>
                <a:cubicBezTo>
                  <a:pt x="426" y="0"/>
                  <a:pt x="424" y="5"/>
                  <a:pt x="417" y="8"/>
                </a:cubicBezTo>
                <a:cubicBezTo>
                  <a:pt x="410" y="11"/>
                  <a:pt x="402" y="18"/>
                  <a:pt x="393" y="20"/>
                </a:cubicBezTo>
                <a:cubicBezTo>
                  <a:pt x="384" y="22"/>
                  <a:pt x="369" y="22"/>
                  <a:pt x="360" y="23"/>
                </a:cubicBezTo>
                <a:cubicBezTo>
                  <a:pt x="351" y="24"/>
                  <a:pt x="345" y="26"/>
                  <a:pt x="339" y="29"/>
                </a:cubicBezTo>
                <a:cubicBezTo>
                  <a:pt x="333" y="32"/>
                  <a:pt x="330" y="40"/>
                  <a:pt x="321" y="41"/>
                </a:cubicBezTo>
                <a:cubicBezTo>
                  <a:pt x="312" y="42"/>
                  <a:pt x="292" y="36"/>
                  <a:pt x="285" y="38"/>
                </a:cubicBezTo>
                <a:cubicBezTo>
                  <a:pt x="278" y="40"/>
                  <a:pt x="281" y="53"/>
                  <a:pt x="276" y="56"/>
                </a:cubicBezTo>
                <a:cubicBezTo>
                  <a:pt x="271" y="59"/>
                  <a:pt x="259" y="58"/>
                  <a:pt x="252" y="59"/>
                </a:cubicBezTo>
                <a:cubicBezTo>
                  <a:pt x="245" y="60"/>
                  <a:pt x="242" y="57"/>
                  <a:pt x="234" y="59"/>
                </a:cubicBezTo>
                <a:cubicBezTo>
                  <a:pt x="226" y="61"/>
                  <a:pt x="211" y="70"/>
                  <a:pt x="201" y="71"/>
                </a:cubicBezTo>
                <a:cubicBezTo>
                  <a:pt x="191" y="72"/>
                  <a:pt x="181" y="65"/>
                  <a:pt x="174" y="65"/>
                </a:cubicBezTo>
                <a:cubicBezTo>
                  <a:pt x="167" y="65"/>
                  <a:pt x="163" y="65"/>
                  <a:pt x="156" y="68"/>
                </a:cubicBezTo>
                <a:cubicBezTo>
                  <a:pt x="149" y="71"/>
                  <a:pt x="135" y="79"/>
                  <a:pt x="129" y="86"/>
                </a:cubicBezTo>
                <a:cubicBezTo>
                  <a:pt x="123" y="93"/>
                  <a:pt x="125" y="103"/>
                  <a:pt x="120" y="107"/>
                </a:cubicBezTo>
                <a:cubicBezTo>
                  <a:pt x="115" y="111"/>
                  <a:pt x="108" y="109"/>
                  <a:pt x="102" y="110"/>
                </a:cubicBezTo>
                <a:cubicBezTo>
                  <a:pt x="96" y="111"/>
                  <a:pt x="88" y="110"/>
                  <a:pt x="84" y="113"/>
                </a:cubicBezTo>
                <a:cubicBezTo>
                  <a:pt x="80" y="116"/>
                  <a:pt x="82" y="127"/>
                  <a:pt x="78" y="131"/>
                </a:cubicBezTo>
                <a:cubicBezTo>
                  <a:pt x="74" y="135"/>
                  <a:pt x="62" y="136"/>
                  <a:pt x="57" y="140"/>
                </a:cubicBezTo>
                <a:cubicBezTo>
                  <a:pt x="52" y="144"/>
                  <a:pt x="54" y="154"/>
                  <a:pt x="48" y="158"/>
                </a:cubicBezTo>
                <a:cubicBezTo>
                  <a:pt x="42" y="162"/>
                  <a:pt x="28" y="165"/>
                  <a:pt x="21" y="167"/>
                </a:cubicBezTo>
                <a:cubicBezTo>
                  <a:pt x="14" y="169"/>
                  <a:pt x="6" y="169"/>
                  <a:pt x="3" y="173"/>
                </a:cubicBezTo>
                <a:cubicBezTo>
                  <a:pt x="0" y="177"/>
                  <a:pt x="0" y="188"/>
                  <a:pt x="0" y="19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9600" y="2690640"/>
            <a:ext cx="901800" cy="290520"/>
          </a:xfrm>
          <a:custGeom>
            <a:avLst/>
            <a:gdLst/>
            <a:ahLst/>
            <a:rect l="l" t="t" r="r" b="b"/>
            <a:pathLst>
              <a:path w="568" h="183">
                <a:moveTo>
                  <a:pt x="558" y="183"/>
                </a:moveTo>
                <a:cubicBezTo>
                  <a:pt x="563" y="175"/>
                  <a:pt x="568" y="168"/>
                  <a:pt x="567" y="162"/>
                </a:cubicBezTo>
                <a:cubicBezTo>
                  <a:pt x="566" y="156"/>
                  <a:pt x="555" y="151"/>
                  <a:pt x="549" y="147"/>
                </a:cubicBezTo>
                <a:cubicBezTo>
                  <a:pt x="543" y="143"/>
                  <a:pt x="534" y="144"/>
                  <a:pt x="531" y="138"/>
                </a:cubicBezTo>
                <a:cubicBezTo>
                  <a:pt x="528" y="132"/>
                  <a:pt x="531" y="118"/>
                  <a:pt x="531" y="111"/>
                </a:cubicBezTo>
                <a:cubicBezTo>
                  <a:pt x="531" y="104"/>
                  <a:pt x="533" y="101"/>
                  <a:pt x="534" y="93"/>
                </a:cubicBezTo>
                <a:cubicBezTo>
                  <a:pt x="535" y="85"/>
                  <a:pt x="538" y="72"/>
                  <a:pt x="537" y="63"/>
                </a:cubicBezTo>
                <a:cubicBezTo>
                  <a:pt x="536" y="54"/>
                  <a:pt x="530" y="45"/>
                  <a:pt x="528" y="36"/>
                </a:cubicBezTo>
                <a:cubicBezTo>
                  <a:pt x="526" y="27"/>
                  <a:pt x="529" y="11"/>
                  <a:pt x="525" y="6"/>
                </a:cubicBezTo>
                <a:cubicBezTo>
                  <a:pt x="521" y="1"/>
                  <a:pt x="508" y="0"/>
                  <a:pt x="501" y="3"/>
                </a:cubicBezTo>
                <a:cubicBezTo>
                  <a:pt x="494" y="6"/>
                  <a:pt x="490" y="20"/>
                  <a:pt x="480" y="24"/>
                </a:cubicBezTo>
                <a:cubicBezTo>
                  <a:pt x="470" y="28"/>
                  <a:pt x="451" y="31"/>
                  <a:pt x="441" y="30"/>
                </a:cubicBezTo>
                <a:cubicBezTo>
                  <a:pt x="431" y="29"/>
                  <a:pt x="426" y="24"/>
                  <a:pt x="420" y="21"/>
                </a:cubicBezTo>
                <a:cubicBezTo>
                  <a:pt x="414" y="18"/>
                  <a:pt x="408" y="13"/>
                  <a:pt x="402" y="12"/>
                </a:cubicBezTo>
                <a:cubicBezTo>
                  <a:pt x="396" y="11"/>
                  <a:pt x="387" y="10"/>
                  <a:pt x="381" y="15"/>
                </a:cubicBezTo>
                <a:cubicBezTo>
                  <a:pt x="375" y="20"/>
                  <a:pt x="376" y="38"/>
                  <a:pt x="369" y="42"/>
                </a:cubicBezTo>
                <a:cubicBezTo>
                  <a:pt x="362" y="46"/>
                  <a:pt x="346" y="43"/>
                  <a:pt x="336" y="42"/>
                </a:cubicBezTo>
                <a:cubicBezTo>
                  <a:pt x="326" y="41"/>
                  <a:pt x="316" y="38"/>
                  <a:pt x="306" y="36"/>
                </a:cubicBezTo>
                <a:cubicBezTo>
                  <a:pt x="296" y="34"/>
                  <a:pt x="281" y="29"/>
                  <a:pt x="273" y="30"/>
                </a:cubicBezTo>
                <a:cubicBezTo>
                  <a:pt x="265" y="31"/>
                  <a:pt x="262" y="39"/>
                  <a:pt x="255" y="42"/>
                </a:cubicBezTo>
                <a:cubicBezTo>
                  <a:pt x="248" y="45"/>
                  <a:pt x="238" y="49"/>
                  <a:pt x="231" y="48"/>
                </a:cubicBezTo>
                <a:cubicBezTo>
                  <a:pt x="224" y="47"/>
                  <a:pt x="217" y="39"/>
                  <a:pt x="210" y="36"/>
                </a:cubicBezTo>
                <a:cubicBezTo>
                  <a:pt x="203" y="33"/>
                  <a:pt x="198" y="34"/>
                  <a:pt x="189" y="33"/>
                </a:cubicBezTo>
                <a:cubicBezTo>
                  <a:pt x="180" y="32"/>
                  <a:pt x="165" y="30"/>
                  <a:pt x="156" y="30"/>
                </a:cubicBezTo>
                <a:cubicBezTo>
                  <a:pt x="147" y="30"/>
                  <a:pt x="138" y="27"/>
                  <a:pt x="132" y="30"/>
                </a:cubicBezTo>
                <a:cubicBezTo>
                  <a:pt x="126" y="33"/>
                  <a:pt x="126" y="44"/>
                  <a:pt x="120" y="48"/>
                </a:cubicBezTo>
                <a:cubicBezTo>
                  <a:pt x="114" y="52"/>
                  <a:pt x="103" y="53"/>
                  <a:pt x="96" y="54"/>
                </a:cubicBezTo>
                <a:cubicBezTo>
                  <a:pt x="89" y="55"/>
                  <a:pt x="83" y="50"/>
                  <a:pt x="78" y="54"/>
                </a:cubicBezTo>
                <a:cubicBezTo>
                  <a:pt x="73" y="58"/>
                  <a:pt x="71" y="74"/>
                  <a:pt x="66" y="81"/>
                </a:cubicBezTo>
                <a:cubicBezTo>
                  <a:pt x="61" y="88"/>
                  <a:pt x="51" y="96"/>
                  <a:pt x="45" y="99"/>
                </a:cubicBezTo>
                <a:cubicBezTo>
                  <a:pt x="39" y="102"/>
                  <a:pt x="32" y="95"/>
                  <a:pt x="27" y="99"/>
                </a:cubicBezTo>
                <a:cubicBezTo>
                  <a:pt x="22" y="103"/>
                  <a:pt x="22" y="118"/>
                  <a:pt x="18" y="123"/>
                </a:cubicBezTo>
                <a:cubicBezTo>
                  <a:pt x="14" y="128"/>
                  <a:pt x="3" y="130"/>
                  <a:pt x="0" y="1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3672000"/>
            <a:ext cx="1195560" cy="695160"/>
          </a:xfrm>
          <a:custGeom>
            <a:avLst/>
            <a:gdLst/>
            <a:ahLst/>
            <a:rect l="l" t="t" r="r" b="b"/>
            <a:pathLst>
              <a:path w="753" h="438">
                <a:moveTo>
                  <a:pt x="711" y="0"/>
                </a:moveTo>
                <a:cubicBezTo>
                  <a:pt x="718" y="4"/>
                  <a:pt x="726" y="8"/>
                  <a:pt x="729" y="15"/>
                </a:cubicBezTo>
                <a:cubicBezTo>
                  <a:pt x="732" y="22"/>
                  <a:pt x="729" y="36"/>
                  <a:pt x="729" y="45"/>
                </a:cubicBezTo>
                <a:cubicBezTo>
                  <a:pt x="729" y="54"/>
                  <a:pt x="728" y="63"/>
                  <a:pt x="732" y="72"/>
                </a:cubicBezTo>
                <a:cubicBezTo>
                  <a:pt x="736" y="81"/>
                  <a:pt x="747" y="94"/>
                  <a:pt x="750" y="102"/>
                </a:cubicBezTo>
                <a:cubicBezTo>
                  <a:pt x="753" y="110"/>
                  <a:pt x="753" y="116"/>
                  <a:pt x="750" y="123"/>
                </a:cubicBezTo>
                <a:cubicBezTo>
                  <a:pt x="747" y="130"/>
                  <a:pt x="735" y="137"/>
                  <a:pt x="732" y="144"/>
                </a:cubicBezTo>
                <a:cubicBezTo>
                  <a:pt x="729" y="151"/>
                  <a:pt x="734" y="159"/>
                  <a:pt x="732" y="168"/>
                </a:cubicBezTo>
                <a:cubicBezTo>
                  <a:pt x="730" y="177"/>
                  <a:pt x="724" y="193"/>
                  <a:pt x="717" y="201"/>
                </a:cubicBezTo>
                <a:cubicBezTo>
                  <a:pt x="710" y="209"/>
                  <a:pt x="699" y="210"/>
                  <a:pt x="693" y="216"/>
                </a:cubicBezTo>
                <a:cubicBezTo>
                  <a:pt x="687" y="222"/>
                  <a:pt x="682" y="233"/>
                  <a:pt x="678" y="240"/>
                </a:cubicBezTo>
                <a:cubicBezTo>
                  <a:pt x="674" y="247"/>
                  <a:pt x="671" y="254"/>
                  <a:pt x="666" y="261"/>
                </a:cubicBezTo>
                <a:cubicBezTo>
                  <a:pt x="661" y="268"/>
                  <a:pt x="656" y="279"/>
                  <a:pt x="648" y="282"/>
                </a:cubicBezTo>
                <a:cubicBezTo>
                  <a:pt x="640" y="285"/>
                  <a:pt x="623" y="276"/>
                  <a:pt x="615" y="279"/>
                </a:cubicBezTo>
                <a:cubicBezTo>
                  <a:pt x="607" y="282"/>
                  <a:pt x="604" y="293"/>
                  <a:pt x="600" y="300"/>
                </a:cubicBezTo>
                <a:cubicBezTo>
                  <a:pt x="596" y="307"/>
                  <a:pt x="598" y="318"/>
                  <a:pt x="591" y="321"/>
                </a:cubicBezTo>
                <a:cubicBezTo>
                  <a:pt x="584" y="324"/>
                  <a:pt x="566" y="319"/>
                  <a:pt x="558" y="321"/>
                </a:cubicBezTo>
                <a:cubicBezTo>
                  <a:pt x="550" y="323"/>
                  <a:pt x="543" y="326"/>
                  <a:pt x="540" y="330"/>
                </a:cubicBezTo>
                <a:cubicBezTo>
                  <a:pt x="537" y="334"/>
                  <a:pt x="542" y="343"/>
                  <a:pt x="537" y="348"/>
                </a:cubicBezTo>
                <a:cubicBezTo>
                  <a:pt x="532" y="353"/>
                  <a:pt x="517" y="359"/>
                  <a:pt x="510" y="363"/>
                </a:cubicBezTo>
                <a:cubicBezTo>
                  <a:pt x="503" y="367"/>
                  <a:pt x="496" y="366"/>
                  <a:pt x="492" y="372"/>
                </a:cubicBezTo>
                <a:cubicBezTo>
                  <a:pt x="488" y="378"/>
                  <a:pt x="488" y="391"/>
                  <a:pt x="486" y="399"/>
                </a:cubicBezTo>
                <a:cubicBezTo>
                  <a:pt x="484" y="407"/>
                  <a:pt x="485" y="416"/>
                  <a:pt x="480" y="420"/>
                </a:cubicBezTo>
                <a:cubicBezTo>
                  <a:pt x="475" y="424"/>
                  <a:pt x="466" y="420"/>
                  <a:pt x="459" y="423"/>
                </a:cubicBezTo>
                <a:cubicBezTo>
                  <a:pt x="452" y="426"/>
                  <a:pt x="445" y="438"/>
                  <a:pt x="435" y="438"/>
                </a:cubicBezTo>
                <a:cubicBezTo>
                  <a:pt x="425" y="438"/>
                  <a:pt x="405" y="428"/>
                  <a:pt x="396" y="423"/>
                </a:cubicBezTo>
                <a:cubicBezTo>
                  <a:pt x="387" y="418"/>
                  <a:pt x="386" y="414"/>
                  <a:pt x="381" y="408"/>
                </a:cubicBezTo>
                <a:cubicBezTo>
                  <a:pt x="376" y="402"/>
                  <a:pt x="374" y="394"/>
                  <a:pt x="366" y="387"/>
                </a:cubicBezTo>
                <a:cubicBezTo>
                  <a:pt x="358" y="380"/>
                  <a:pt x="347" y="375"/>
                  <a:pt x="336" y="366"/>
                </a:cubicBezTo>
                <a:cubicBezTo>
                  <a:pt x="325" y="357"/>
                  <a:pt x="310" y="340"/>
                  <a:pt x="300" y="333"/>
                </a:cubicBezTo>
                <a:cubicBezTo>
                  <a:pt x="290" y="326"/>
                  <a:pt x="280" y="325"/>
                  <a:pt x="273" y="324"/>
                </a:cubicBezTo>
                <a:cubicBezTo>
                  <a:pt x="266" y="323"/>
                  <a:pt x="261" y="325"/>
                  <a:pt x="255" y="324"/>
                </a:cubicBezTo>
                <a:cubicBezTo>
                  <a:pt x="249" y="323"/>
                  <a:pt x="246" y="322"/>
                  <a:pt x="237" y="321"/>
                </a:cubicBezTo>
                <a:cubicBezTo>
                  <a:pt x="228" y="320"/>
                  <a:pt x="213" y="322"/>
                  <a:pt x="201" y="318"/>
                </a:cubicBezTo>
                <a:cubicBezTo>
                  <a:pt x="189" y="314"/>
                  <a:pt x="176" y="300"/>
                  <a:pt x="162" y="294"/>
                </a:cubicBezTo>
                <a:cubicBezTo>
                  <a:pt x="148" y="288"/>
                  <a:pt x="129" y="290"/>
                  <a:pt x="117" y="282"/>
                </a:cubicBezTo>
                <a:cubicBezTo>
                  <a:pt x="105" y="274"/>
                  <a:pt x="93" y="252"/>
                  <a:pt x="87" y="243"/>
                </a:cubicBezTo>
                <a:cubicBezTo>
                  <a:pt x="81" y="234"/>
                  <a:pt x="83" y="231"/>
                  <a:pt x="78" y="225"/>
                </a:cubicBezTo>
                <a:cubicBezTo>
                  <a:pt x="73" y="219"/>
                  <a:pt x="66" y="211"/>
                  <a:pt x="54" y="204"/>
                </a:cubicBezTo>
                <a:cubicBezTo>
                  <a:pt x="42" y="197"/>
                  <a:pt x="18" y="191"/>
                  <a:pt x="9" y="183"/>
                </a:cubicBezTo>
                <a:cubicBezTo>
                  <a:pt x="0" y="175"/>
                  <a:pt x="4" y="160"/>
                  <a:pt x="3" y="156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2960" y="3900600"/>
            <a:ext cx="490680" cy="957240"/>
          </a:xfrm>
          <a:custGeom>
            <a:avLst/>
            <a:gdLst/>
            <a:ahLst/>
            <a:rect l="l" t="t" r="r" b="b"/>
            <a:pathLst>
              <a:path w="309" h="603">
                <a:moveTo>
                  <a:pt x="0" y="3"/>
                </a:moveTo>
                <a:cubicBezTo>
                  <a:pt x="8" y="1"/>
                  <a:pt x="17" y="0"/>
                  <a:pt x="21" y="3"/>
                </a:cubicBezTo>
                <a:cubicBezTo>
                  <a:pt x="25" y="6"/>
                  <a:pt x="22" y="14"/>
                  <a:pt x="24" y="21"/>
                </a:cubicBezTo>
                <a:cubicBezTo>
                  <a:pt x="26" y="28"/>
                  <a:pt x="29" y="43"/>
                  <a:pt x="33" y="48"/>
                </a:cubicBezTo>
                <a:cubicBezTo>
                  <a:pt x="37" y="53"/>
                  <a:pt x="46" y="45"/>
                  <a:pt x="51" y="51"/>
                </a:cubicBezTo>
                <a:cubicBezTo>
                  <a:pt x="56" y="57"/>
                  <a:pt x="55" y="74"/>
                  <a:pt x="60" y="84"/>
                </a:cubicBezTo>
                <a:cubicBezTo>
                  <a:pt x="65" y="94"/>
                  <a:pt x="75" y="106"/>
                  <a:pt x="84" y="114"/>
                </a:cubicBezTo>
                <a:cubicBezTo>
                  <a:pt x="93" y="122"/>
                  <a:pt x="104" y="125"/>
                  <a:pt x="114" y="132"/>
                </a:cubicBezTo>
                <a:cubicBezTo>
                  <a:pt x="124" y="139"/>
                  <a:pt x="133" y="149"/>
                  <a:pt x="141" y="159"/>
                </a:cubicBezTo>
                <a:cubicBezTo>
                  <a:pt x="149" y="169"/>
                  <a:pt x="159" y="185"/>
                  <a:pt x="162" y="195"/>
                </a:cubicBezTo>
                <a:cubicBezTo>
                  <a:pt x="165" y="205"/>
                  <a:pt x="158" y="211"/>
                  <a:pt x="159" y="219"/>
                </a:cubicBezTo>
                <a:cubicBezTo>
                  <a:pt x="160" y="227"/>
                  <a:pt x="166" y="237"/>
                  <a:pt x="168" y="246"/>
                </a:cubicBezTo>
                <a:cubicBezTo>
                  <a:pt x="170" y="255"/>
                  <a:pt x="170" y="265"/>
                  <a:pt x="171" y="273"/>
                </a:cubicBezTo>
                <a:cubicBezTo>
                  <a:pt x="172" y="281"/>
                  <a:pt x="171" y="284"/>
                  <a:pt x="171" y="294"/>
                </a:cubicBezTo>
                <a:cubicBezTo>
                  <a:pt x="171" y="304"/>
                  <a:pt x="169" y="325"/>
                  <a:pt x="174" y="336"/>
                </a:cubicBezTo>
                <a:cubicBezTo>
                  <a:pt x="179" y="347"/>
                  <a:pt x="192" y="350"/>
                  <a:pt x="201" y="360"/>
                </a:cubicBezTo>
                <a:cubicBezTo>
                  <a:pt x="210" y="370"/>
                  <a:pt x="224" y="387"/>
                  <a:pt x="231" y="396"/>
                </a:cubicBezTo>
                <a:cubicBezTo>
                  <a:pt x="238" y="405"/>
                  <a:pt x="237" y="414"/>
                  <a:pt x="243" y="417"/>
                </a:cubicBezTo>
                <a:cubicBezTo>
                  <a:pt x="249" y="420"/>
                  <a:pt x="258" y="416"/>
                  <a:pt x="267" y="414"/>
                </a:cubicBezTo>
                <a:cubicBezTo>
                  <a:pt x="276" y="412"/>
                  <a:pt x="290" y="402"/>
                  <a:pt x="297" y="405"/>
                </a:cubicBezTo>
                <a:cubicBezTo>
                  <a:pt x="304" y="408"/>
                  <a:pt x="309" y="425"/>
                  <a:pt x="309" y="432"/>
                </a:cubicBezTo>
                <a:cubicBezTo>
                  <a:pt x="309" y="439"/>
                  <a:pt x="301" y="443"/>
                  <a:pt x="297" y="450"/>
                </a:cubicBezTo>
                <a:cubicBezTo>
                  <a:pt x="293" y="457"/>
                  <a:pt x="289" y="470"/>
                  <a:pt x="285" y="477"/>
                </a:cubicBezTo>
                <a:cubicBezTo>
                  <a:pt x="281" y="484"/>
                  <a:pt x="276" y="488"/>
                  <a:pt x="270" y="495"/>
                </a:cubicBezTo>
                <a:cubicBezTo>
                  <a:pt x="264" y="502"/>
                  <a:pt x="258" y="511"/>
                  <a:pt x="249" y="519"/>
                </a:cubicBezTo>
                <a:cubicBezTo>
                  <a:pt x="240" y="527"/>
                  <a:pt x="230" y="538"/>
                  <a:pt x="219" y="543"/>
                </a:cubicBezTo>
                <a:cubicBezTo>
                  <a:pt x="208" y="548"/>
                  <a:pt x="195" y="547"/>
                  <a:pt x="180" y="552"/>
                </a:cubicBezTo>
                <a:cubicBezTo>
                  <a:pt x="165" y="557"/>
                  <a:pt x="140" y="569"/>
                  <a:pt x="129" y="576"/>
                </a:cubicBezTo>
                <a:cubicBezTo>
                  <a:pt x="118" y="583"/>
                  <a:pt x="122" y="593"/>
                  <a:pt x="117" y="597"/>
                </a:cubicBezTo>
                <a:cubicBezTo>
                  <a:pt x="112" y="601"/>
                  <a:pt x="102" y="602"/>
                  <a:pt x="99" y="60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32240" y="2700360"/>
            <a:ext cx="772920" cy="628560"/>
          </a:xfrm>
          <a:custGeom>
            <a:avLst/>
            <a:gdLst/>
            <a:ahLst/>
            <a:rect l="l" t="t" r="r" b="b"/>
            <a:pathLst>
              <a:path w="487" h="396">
                <a:moveTo>
                  <a:pt x="487" y="396"/>
                </a:moveTo>
                <a:cubicBezTo>
                  <a:pt x="477" y="387"/>
                  <a:pt x="467" y="378"/>
                  <a:pt x="460" y="372"/>
                </a:cubicBezTo>
                <a:cubicBezTo>
                  <a:pt x="453" y="366"/>
                  <a:pt x="451" y="365"/>
                  <a:pt x="445" y="360"/>
                </a:cubicBezTo>
                <a:cubicBezTo>
                  <a:pt x="439" y="355"/>
                  <a:pt x="431" y="347"/>
                  <a:pt x="424" y="339"/>
                </a:cubicBezTo>
                <a:cubicBezTo>
                  <a:pt x="417" y="331"/>
                  <a:pt x="413" y="320"/>
                  <a:pt x="406" y="312"/>
                </a:cubicBezTo>
                <a:cubicBezTo>
                  <a:pt x="399" y="304"/>
                  <a:pt x="387" y="293"/>
                  <a:pt x="379" y="288"/>
                </a:cubicBezTo>
                <a:cubicBezTo>
                  <a:pt x="371" y="283"/>
                  <a:pt x="365" y="285"/>
                  <a:pt x="355" y="282"/>
                </a:cubicBezTo>
                <a:cubicBezTo>
                  <a:pt x="345" y="279"/>
                  <a:pt x="331" y="270"/>
                  <a:pt x="322" y="267"/>
                </a:cubicBezTo>
                <a:cubicBezTo>
                  <a:pt x="313" y="264"/>
                  <a:pt x="309" y="264"/>
                  <a:pt x="301" y="264"/>
                </a:cubicBezTo>
                <a:cubicBezTo>
                  <a:pt x="293" y="264"/>
                  <a:pt x="284" y="265"/>
                  <a:pt x="271" y="264"/>
                </a:cubicBezTo>
                <a:cubicBezTo>
                  <a:pt x="258" y="263"/>
                  <a:pt x="236" y="258"/>
                  <a:pt x="223" y="255"/>
                </a:cubicBezTo>
                <a:cubicBezTo>
                  <a:pt x="210" y="252"/>
                  <a:pt x="202" y="248"/>
                  <a:pt x="193" y="243"/>
                </a:cubicBezTo>
                <a:cubicBezTo>
                  <a:pt x="184" y="238"/>
                  <a:pt x="176" y="230"/>
                  <a:pt x="166" y="225"/>
                </a:cubicBezTo>
                <a:cubicBezTo>
                  <a:pt x="156" y="220"/>
                  <a:pt x="139" y="216"/>
                  <a:pt x="130" y="213"/>
                </a:cubicBezTo>
                <a:cubicBezTo>
                  <a:pt x="121" y="210"/>
                  <a:pt x="120" y="209"/>
                  <a:pt x="112" y="207"/>
                </a:cubicBezTo>
                <a:cubicBezTo>
                  <a:pt x="104" y="205"/>
                  <a:pt x="90" y="207"/>
                  <a:pt x="82" y="204"/>
                </a:cubicBezTo>
                <a:cubicBezTo>
                  <a:pt x="74" y="201"/>
                  <a:pt x="69" y="193"/>
                  <a:pt x="61" y="186"/>
                </a:cubicBezTo>
                <a:cubicBezTo>
                  <a:pt x="53" y="179"/>
                  <a:pt x="42" y="168"/>
                  <a:pt x="34" y="159"/>
                </a:cubicBezTo>
                <a:cubicBezTo>
                  <a:pt x="26" y="150"/>
                  <a:pt x="17" y="141"/>
                  <a:pt x="13" y="132"/>
                </a:cubicBezTo>
                <a:cubicBezTo>
                  <a:pt x="9" y="123"/>
                  <a:pt x="10" y="111"/>
                  <a:pt x="10" y="102"/>
                </a:cubicBezTo>
                <a:cubicBezTo>
                  <a:pt x="10" y="93"/>
                  <a:pt x="12" y="86"/>
                  <a:pt x="13" y="78"/>
                </a:cubicBezTo>
                <a:cubicBezTo>
                  <a:pt x="14" y="70"/>
                  <a:pt x="18" y="61"/>
                  <a:pt x="16" y="54"/>
                </a:cubicBezTo>
                <a:cubicBezTo>
                  <a:pt x="14" y="47"/>
                  <a:pt x="2" y="42"/>
                  <a:pt x="1" y="36"/>
                </a:cubicBezTo>
                <a:cubicBezTo>
                  <a:pt x="0" y="30"/>
                  <a:pt x="4" y="21"/>
                  <a:pt x="7" y="15"/>
                </a:cubicBezTo>
                <a:cubicBezTo>
                  <a:pt x="10" y="9"/>
                  <a:pt x="17" y="5"/>
                  <a:pt x="19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28840" y="2317680"/>
            <a:ext cx="1704960" cy="378000"/>
          </a:xfrm>
          <a:custGeom>
            <a:avLst/>
            <a:gdLst/>
            <a:ahLst/>
            <a:rect l="l" t="t" r="r" b="b"/>
            <a:pathLst>
              <a:path w="1074" h="238">
                <a:moveTo>
                  <a:pt x="1074" y="91"/>
                </a:moveTo>
                <a:cubicBezTo>
                  <a:pt x="1064" y="94"/>
                  <a:pt x="1055" y="97"/>
                  <a:pt x="1050" y="106"/>
                </a:cubicBezTo>
                <a:cubicBezTo>
                  <a:pt x="1045" y="115"/>
                  <a:pt x="1041" y="133"/>
                  <a:pt x="1044" y="145"/>
                </a:cubicBezTo>
                <a:cubicBezTo>
                  <a:pt x="1047" y="157"/>
                  <a:pt x="1065" y="169"/>
                  <a:pt x="1068" y="181"/>
                </a:cubicBezTo>
                <a:cubicBezTo>
                  <a:pt x="1071" y="193"/>
                  <a:pt x="1066" y="210"/>
                  <a:pt x="1062" y="217"/>
                </a:cubicBezTo>
                <a:cubicBezTo>
                  <a:pt x="1058" y="224"/>
                  <a:pt x="1048" y="229"/>
                  <a:pt x="1041" y="223"/>
                </a:cubicBezTo>
                <a:cubicBezTo>
                  <a:pt x="1034" y="217"/>
                  <a:pt x="1026" y="191"/>
                  <a:pt x="1020" y="181"/>
                </a:cubicBezTo>
                <a:cubicBezTo>
                  <a:pt x="1014" y="171"/>
                  <a:pt x="1012" y="164"/>
                  <a:pt x="1005" y="160"/>
                </a:cubicBezTo>
                <a:cubicBezTo>
                  <a:pt x="998" y="156"/>
                  <a:pt x="986" y="156"/>
                  <a:pt x="975" y="154"/>
                </a:cubicBezTo>
                <a:cubicBezTo>
                  <a:pt x="964" y="152"/>
                  <a:pt x="949" y="147"/>
                  <a:pt x="939" y="145"/>
                </a:cubicBezTo>
                <a:cubicBezTo>
                  <a:pt x="929" y="143"/>
                  <a:pt x="926" y="139"/>
                  <a:pt x="915" y="142"/>
                </a:cubicBezTo>
                <a:cubicBezTo>
                  <a:pt x="904" y="145"/>
                  <a:pt x="888" y="162"/>
                  <a:pt x="873" y="163"/>
                </a:cubicBezTo>
                <a:cubicBezTo>
                  <a:pt x="858" y="164"/>
                  <a:pt x="835" y="153"/>
                  <a:pt x="822" y="151"/>
                </a:cubicBezTo>
                <a:cubicBezTo>
                  <a:pt x="809" y="149"/>
                  <a:pt x="801" y="148"/>
                  <a:pt x="795" y="151"/>
                </a:cubicBezTo>
                <a:cubicBezTo>
                  <a:pt x="789" y="154"/>
                  <a:pt x="790" y="162"/>
                  <a:pt x="786" y="169"/>
                </a:cubicBezTo>
                <a:cubicBezTo>
                  <a:pt x="782" y="176"/>
                  <a:pt x="774" y="189"/>
                  <a:pt x="768" y="196"/>
                </a:cubicBezTo>
                <a:cubicBezTo>
                  <a:pt x="762" y="203"/>
                  <a:pt x="759" y="202"/>
                  <a:pt x="750" y="208"/>
                </a:cubicBezTo>
                <a:cubicBezTo>
                  <a:pt x="741" y="214"/>
                  <a:pt x="723" y="225"/>
                  <a:pt x="714" y="229"/>
                </a:cubicBezTo>
                <a:cubicBezTo>
                  <a:pt x="705" y="233"/>
                  <a:pt x="702" y="231"/>
                  <a:pt x="693" y="232"/>
                </a:cubicBezTo>
                <a:cubicBezTo>
                  <a:pt x="684" y="233"/>
                  <a:pt x="667" y="238"/>
                  <a:pt x="657" y="235"/>
                </a:cubicBezTo>
                <a:cubicBezTo>
                  <a:pt x="647" y="232"/>
                  <a:pt x="640" y="222"/>
                  <a:pt x="633" y="214"/>
                </a:cubicBezTo>
                <a:cubicBezTo>
                  <a:pt x="626" y="206"/>
                  <a:pt x="616" y="192"/>
                  <a:pt x="612" y="184"/>
                </a:cubicBezTo>
                <a:cubicBezTo>
                  <a:pt x="608" y="176"/>
                  <a:pt x="609" y="170"/>
                  <a:pt x="606" y="163"/>
                </a:cubicBezTo>
                <a:cubicBezTo>
                  <a:pt x="603" y="156"/>
                  <a:pt x="605" y="147"/>
                  <a:pt x="597" y="142"/>
                </a:cubicBezTo>
                <a:cubicBezTo>
                  <a:pt x="589" y="137"/>
                  <a:pt x="570" y="134"/>
                  <a:pt x="555" y="133"/>
                </a:cubicBezTo>
                <a:cubicBezTo>
                  <a:pt x="540" y="132"/>
                  <a:pt x="515" y="133"/>
                  <a:pt x="504" y="133"/>
                </a:cubicBezTo>
                <a:cubicBezTo>
                  <a:pt x="493" y="133"/>
                  <a:pt x="494" y="132"/>
                  <a:pt x="486" y="130"/>
                </a:cubicBezTo>
                <a:cubicBezTo>
                  <a:pt x="478" y="128"/>
                  <a:pt x="459" y="128"/>
                  <a:pt x="453" y="121"/>
                </a:cubicBezTo>
                <a:cubicBezTo>
                  <a:pt x="447" y="114"/>
                  <a:pt x="451" y="99"/>
                  <a:pt x="450" y="88"/>
                </a:cubicBezTo>
                <a:cubicBezTo>
                  <a:pt x="449" y="77"/>
                  <a:pt x="449" y="62"/>
                  <a:pt x="447" y="52"/>
                </a:cubicBezTo>
                <a:cubicBezTo>
                  <a:pt x="445" y="42"/>
                  <a:pt x="447" y="34"/>
                  <a:pt x="435" y="25"/>
                </a:cubicBezTo>
                <a:cubicBezTo>
                  <a:pt x="423" y="16"/>
                  <a:pt x="390" y="2"/>
                  <a:pt x="375" y="1"/>
                </a:cubicBezTo>
                <a:cubicBezTo>
                  <a:pt x="360" y="0"/>
                  <a:pt x="350" y="11"/>
                  <a:pt x="342" y="16"/>
                </a:cubicBezTo>
                <a:cubicBezTo>
                  <a:pt x="334" y="21"/>
                  <a:pt x="331" y="24"/>
                  <a:pt x="324" y="31"/>
                </a:cubicBezTo>
                <a:cubicBezTo>
                  <a:pt x="317" y="38"/>
                  <a:pt x="308" y="58"/>
                  <a:pt x="300" y="61"/>
                </a:cubicBezTo>
                <a:cubicBezTo>
                  <a:pt x="292" y="64"/>
                  <a:pt x="281" y="54"/>
                  <a:pt x="273" y="49"/>
                </a:cubicBezTo>
                <a:cubicBezTo>
                  <a:pt x="265" y="44"/>
                  <a:pt x="259" y="34"/>
                  <a:pt x="249" y="31"/>
                </a:cubicBezTo>
                <a:cubicBezTo>
                  <a:pt x="239" y="28"/>
                  <a:pt x="226" y="25"/>
                  <a:pt x="213" y="28"/>
                </a:cubicBezTo>
                <a:cubicBezTo>
                  <a:pt x="200" y="31"/>
                  <a:pt x="181" y="48"/>
                  <a:pt x="171" y="52"/>
                </a:cubicBezTo>
                <a:cubicBezTo>
                  <a:pt x="161" y="56"/>
                  <a:pt x="161" y="52"/>
                  <a:pt x="153" y="52"/>
                </a:cubicBezTo>
                <a:cubicBezTo>
                  <a:pt x="145" y="52"/>
                  <a:pt x="132" y="48"/>
                  <a:pt x="123" y="49"/>
                </a:cubicBezTo>
                <a:cubicBezTo>
                  <a:pt x="114" y="50"/>
                  <a:pt x="107" y="52"/>
                  <a:pt x="99" y="55"/>
                </a:cubicBezTo>
                <a:cubicBezTo>
                  <a:pt x="91" y="58"/>
                  <a:pt x="83" y="61"/>
                  <a:pt x="75" y="67"/>
                </a:cubicBezTo>
                <a:cubicBezTo>
                  <a:pt x="67" y="73"/>
                  <a:pt x="57" y="84"/>
                  <a:pt x="48" y="91"/>
                </a:cubicBezTo>
                <a:cubicBezTo>
                  <a:pt x="39" y="98"/>
                  <a:pt x="29" y="105"/>
                  <a:pt x="21" y="112"/>
                </a:cubicBezTo>
                <a:cubicBezTo>
                  <a:pt x="13" y="119"/>
                  <a:pt x="5" y="126"/>
                  <a:pt x="0" y="13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300320"/>
            <a:ext cx="611280" cy="722160"/>
          </a:xfrm>
          <a:custGeom>
            <a:avLst/>
            <a:gdLst/>
            <a:ahLst/>
            <a:rect l="l" t="t" r="r" b="b"/>
            <a:pathLst>
              <a:path w="385" h="455">
                <a:moveTo>
                  <a:pt x="385" y="455"/>
                </a:moveTo>
                <a:cubicBezTo>
                  <a:pt x="383" y="452"/>
                  <a:pt x="379" y="444"/>
                  <a:pt x="373" y="439"/>
                </a:cubicBezTo>
                <a:cubicBezTo>
                  <a:pt x="367" y="434"/>
                  <a:pt x="357" y="427"/>
                  <a:pt x="349" y="425"/>
                </a:cubicBezTo>
                <a:cubicBezTo>
                  <a:pt x="341" y="423"/>
                  <a:pt x="335" y="430"/>
                  <a:pt x="325" y="427"/>
                </a:cubicBezTo>
                <a:cubicBezTo>
                  <a:pt x="315" y="424"/>
                  <a:pt x="294" y="414"/>
                  <a:pt x="288" y="408"/>
                </a:cubicBezTo>
                <a:cubicBezTo>
                  <a:pt x="282" y="402"/>
                  <a:pt x="289" y="398"/>
                  <a:pt x="291" y="390"/>
                </a:cubicBezTo>
                <a:cubicBezTo>
                  <a:pt x="293" y="382"/>
                  <a:pt x="306" y="365"/>
                  <a:pt x="303" y="357"/>
                </a:cubicBezTo>
                <a:cubicBezTo>
                  <a:pt x="300" y="349"/>
                  <a:pt x="277" y="347"/>
                  <a:pt x="273" y="339"/>
                </a:cubicBezTo>
                <a:cubicBezTo>
                  <a:pt x="269" y="331"/>
                  <a:pt x="277" y="318"/>
                  <a:pt x="279" y="309"/>
                </a:cubicBezTo>
                <a:cubicBezTo>
                  <a:pt x="281" y="300"/>
                  <a:pt x="289" y="291"/>
                  <a:pt x="285" y="282"/>
                </a:cubicBezTo>
                <a:cubicBezTo>
                  <a:pt x="281" y="273"/>
                  <a:pt x="262" y="264"/>
                  <a:pt x="258" y="255"/>
                </a:cubicBezTo>
                <a:cubicBezTo>
                  <a:pt x="254" y="246"/>
                  <a:pt x="261" y="233"/>
                  <a:pt x="261" y="225"/>
                </a:cubicBezTo>
                <a:cubicBezTo>
                  <a:pt x="261" y="217"/>
                  <a:pt x="259" y="212"/>
                  <a:pt x="255" y="204"/>
                </a:cubicBezTo>
                <a:cubicBezTo>
                  <a:pt x="251" y="196"/>
                  <a:pt x="246" y="187"/>
                  <a:pt x="240" y="177"/>
                </a:cubicBezTo>
                <a:cubicBezTo>
                  <a:pt x="234" y="167"/>
                  <a:pt x="228" y="150"/>
                  <a:pt x="219" y="141"/>
                </a:cubicBezTo>
                <a:cubicBezTo>
                  <a:pt x="210" y="132"/>
                  <a:pt x="193" y="134"/>
                  <a:pt x="183" y="120"/>
                </a:cubicBezTo>
                <a:cubicBezTo>
                  <a:pt x="173" y="106"/>
                  <a:pt x="167" y="69"/>
                  <a:pt x="159" y="57"/>
                </a:cubicBezTo>
                <a:cubicBezTo>
                  <a:pt x="151" y="45"/>
                  <a:pt x="154" y="49"/>
                  <a:pt x="135" y="45"/>
                </a:cubicBezTo>
                <a:cubicBezTo>
                  <a:pt x="116" y="41"/>
                  <a:pt x="64" y="40"/>
                  <a:pt x="45" y="36"/>
                </a:cubicBezTo>
                <a:cubicBezTo>
                  <a:pt x="26" y="32"/>
                  <a:pt x="25" y="27"/>
                  <a:pt x="18" y="21"/>
                </a:cubicBezTo>
                <a:cubicBezTo>
                  <a:pt x="11" y="15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38280" y="1657440"/>
            <a:ext cx="2055960" cy="399960"/>
          </a:xfrm>
          <a:custGeom>
            <a:avLst/>
            <a:gdLst/>
            <a:ahLst/>
            <a:rect l="l" t="t" r="r" b="b"/>
            <a:pathLst>
              <a:path w="1295" h="252">
                <a:moveTo>
                  <a:pt x="1295" y="250"/>
                </a:moveTo>
                <a:cubicBezTo>
                  <a:pt x="1292" y="250"/>
                  <a:pt x="1288" y="252"/>
                  <a:pt x="1278" y="249"/>
                </a:cubicBezTo>
                <a:cubicBezTo>
                  <a:pt x="1268" y="246"/>
                  <a:pt x="1248" y="237"/>
                  <a:pt x="1236" y="234"/>
                </a:cubicBezTo>
                <a:cubicBezTo>
                  <a:pt x="1224" y="231"/>
                  <a:pt x="1211" y="231"/>
                  <a:pt x="1203" y="228"/>
                </a:cubicBezTo>
                <a:cubicBezTo>
                  <a:pt x="1195" y="225"/>
                  <a:pt x="1195" y="219"/>
                  <a:pt x="1188" y="216"/>
                </a:cubicBezTo>
                <a:cubicBezTo>
                  <a:pt x="1181" y="213"/>
                  <a:pt x="1169" y="208"/>
                  <a:pt x="1158" y="207"/>
                </a:cubicBezTo>
                <a:cubicBezTo>
                  <a:pt x="1147" y="206"/>
                  <a:pt x="1132" y="210"/>
                  <a:pt x="1122" y="210"/>
                </a:cubicBezTo>
                <a:cubicBezTo>
                  <a:pt x="1112" y="210"/>
                  <a:pt x="1105" y="213"/>
                  <a:pt x="1095" y="210"/>
                </a:cubicBezTo>
                <a:cubicBezTo>
                  <a:pt x="1085" y="207"/>
                  <a:pt x="1070" y="196"/>
                  <a:pt x="1062" y="189"/>
                </a:cubicBezTo>
                <a:cubicBezTo>
                  <a:pt x="1054" y="182"/>
                  <a:pt x="1048" y="174"/>
                  <a:pt x="1044" y="168"/>
                </a:cubicBezTo>
                <a:cubicBezTo>
                  <a:pt x="1040" y="162"/>
                  <a:pt x="1040" y="156"/>
                  <a:pt x="1038" y="150"/>
                </a:cubicBezTo>
                <a:cubicBezTo>
                  <a:pt x="1036" y="144"/>
                  <a:pt x="1036" y="136"/>
                  <a:pt x="1032" y="129"/>
                </a:cubicBezTo>
                <a:cubicBezTo>
                  <a:pt x="1028" y="122"/>
                  <a:pt x="1021" y="108"/>
                  <a:pt x="1014" y="108"/>
                </a:cubicBezTo>
                <a:cubicBezTo>
                  <a:pt x="1007" y="108"/>
                  <a:pt x="994" y="123"/>
                  <a:pt x="990" y="132"/>
                </a:cubicBezTo>
                <a:cubicBezTo>
                  <a:pt x="986" y="141"/>
                  <a:pt x="990" y="152"/>
                  <a:pt x="990" y="162"/>
                </a:cubicBezTo>
                <a:cubicBezTo>
                  <a:pt x="990" y="172"/>
                  <a:pt x="993" y="185"/>
                  <a:pt x="990" y="192"/>
                </a:cubicBezTo>
                <a:cubicBezTo>
                  <a:pt x="987" y="199"/>
                  <a:pt x="977" y="208"/>
                  <a:pt x="972" y="204"/>
                </a:cubicBezTo>
                <a:cubicBezTo>
                  <a:pt x="967" y="200"/>
                  <a:pt x="964" y="177"/>
                  <a:pt x="963" y="168"/>
                </a:cubicBezTo>
                <a:cubicBezTo>
                  <a:pt x="962" y="159"/>
                  <a:pt x="969" y="151"/>
                  <a:pt x="966" y="147"/>
                </a:cubicBezTo>
                <a:cubicBezTo>
                  <a:pt x="963" y="143"/>
                  <a:pt x="947" y="141"/>
                  <a:pt x="942" y="144"/>
                </a:cubicBezTo>
                <a:cubicBezTo>
                  <a:pt x="937" y="147"/>
                  <a:pt x="939" y="160"/>
                  <a:pt x="936" y="168"/>
                </a:cubicBezTo>
                <a:cubicBezTo>
                  <a:pt x="933" y="176"/>
                  <a:pt x="927" y="187"/>
                  <a:pt x="921" y="192"/>
                </a:cubicBezTo>
                <a:cubicBezTo>
                  <a:pt x="915" y="197"/>
                  <a:pt x="905" y="198"/>
                  <a:pt x="897" y="198"/>
                </a:cubicBezTo>
                <a:cubicBezTo>
                  <a:pt x="889" y="198"/>
                  <a:pt x="880" y="188"/>
                  <a:pt x="873" y="189"/>
                </a:cubicBezTo>
                <a:cubicBezTo>
                  <a:pt x="866" y="190"/>
                  <a:pt x="860" y="201"/>
                  <a:pt x="852" y="204"/>
                </a:cubicBezTo>
                <a:cubicBezTo>
                  <a:pt x="844" y="207"/>
                  <a:pt x="835" y="212"/>
                  <a:pt x="825" y="207"/>
                </a:cubicBezTo>
                <a:cubicBezTo>
                  <a:pt x="815" y="202"/>
                  <a:pt x="800" y="184"/>
                  <a:pt x="792" y="174"/>
                </a:cubicBezTo>
                <a:cubicBezTo>
                  <a:pt x="784" y="164"/>
                  <a:pt x="780" y="151"/>
                  <a:pt x="774" y="147"/>
                </a:cubicBezTo>
                <a:cubicBezTo>
                  <a:pt x="768" y="143"/>
                  <a:pt x="758" y="145"/>
                  <a:pt x="755" y="150"/>
                </a:cubicBezTo>
                <a:cubicBezTo>
                  <a:pt x="752" y="155"/>
                  <a:pt x="758" y="170"/>
                  <a:pt x="753" y="176"/>
                </a:cubicBezTo>
                <a:cubicBezTo>
                  <a:pt x="748" y="182"/>
                  <a:pt x="736" y="186"/>
                  <a:pt x="727" y="186"/>
                </a:cubicBezTo>
                <a:cubicBezTo>
                  <a:pt x="718" y="186"/>
                  <a:pt x="710" y="181"/>
                  <a:pt x="699" y="178"/>
                </a:cubicBezTo>
                <a:cubicBezTo>
                  <a:pt x="688" y="175"/>
                  <a:pt x="673" y="168"/>
                  <a:pt x="663" y="168"/>
                </a:cubicBezTo>
                <a:cubicBezTo>
                  <a:pt x="653" y="168"/>
                  <a:pt x="648" y="176"/>
                  <a:pt x="639" y="177"/>
                </a:cubicBezTo>
                <a:cubicBezTo>
                  <a:pt x="630" y="178"/>
                  <a:pt x="616" y="174"/>
                  <a:pt x="607" y="172"/>
                </a:cubicBezTo>
                <a:cubicBezTo>
                  <a:pt x="598" y="170"/>
                  <a:pt x="593" y="169"/>
                  <a:pt x="585" y="166"/>
                </a:cubicBezTo>
                <a:cubicBezTo>
                  <a:pt x="577" y="163"/>
                  <a:pt x="565" y="162"/>
                  <a:pt x="561" y="156"/>
                </a:cubicBezTo>
                <a:cubicBezTo>
                  <a:pt x="557" y="150"/>
                  <a:pt x="559" y="138"/>
                  <a:pt x="561" y="129"/>
                </a:cubicBezTo>
                <a:cubicBezTo>
                  <a:pt x="563" y="120"/>
                  <a:pt x="574" y="108"/>
                  <a:pt x="576" y="99"/>
                </a:cubicBezTo>
                <a:cubicBezTo>
                  <a:pt x="578" y="90"/>
                  <a:pt x="573" y="82"/>
                  <a:pt x="573" y="75"/>
                </a:cubicBezTo>
                <a:cubicBezTo>
                  <a:pt x="573" y="68"/>
                  <a:pt x="573" y="63"/>
                  <a:pt x="573" y="57"/>
                </a:cubicBezTo>
                <a:cubicBezTo>
                  <a:pt x="573" y="51"/>
                  <a:pt x="576" y="43"/>
                  <a:pt x="573" y="39"/>
                </a:cubicBezTo>
                <a:cubicBezTo>
                  <a:pt x="570" y="35"/>
                  <a:pt x="557" y="27"/>
                  <a:pt x="552" y="30"/>
                </a:cubicBezTo>
                <a:cubicBezTo>
                  <a:pt x="547" y="33"/>
                  <a:pt x="543" y="50"/>
                  <a:pt x="540" y="57"/>
                </a:cubicBezTo>
                <a:cubicBezTo>
                  <a:pt x="537" y="64"/>
                  <a:pt x="537" y="74"/>
                  <a:pt x="531" y="75"/>
                </a:cubicBezTo>
                <a:cubicBezTo>
                  <a:pt x="525" y="76"/>
                  <a:pt x="511" y="65"/>
                  <a:pt x="504" y="63"/>
                </a:cubicBezTo>
                <a:cubicBezTo>
                  <a:pt x="497" y="61"/>
                  <a:pt x="494" y="63"/>
                  <a:pt x="486" y="63"/>
                </a:cubicBezTo>
                <a:cubicBezTo>
                  <a:pt x="478" y="63"/>
                  <a:pt x="463" y="61"/>
                  <a:pt x="453" y="60"/>
                </a:cubicBezTo>
                <a:cubicBezTo>
                  <a:pt x="443" y="59"/>
                  <a:pt x="435" y="60"/>
                  <a:pt x="423" y="57"/>
                </a:cubicBezTo>
                <a:cubicBezTo>
                  <a:pt x="411" y="54"/>
                  <a:pt x="394" y="45"/>
                  <a:pt x="383" y="41"/>
                </a:cubicBezTo>
                <a:cubicBezTo>
                  <a:pt x="372" y="37"/>
                  <a:pt x="365" y="32"/>
                  <a:pt x="356" y="32"/>
                </a:cubicBezTo>
                <a:cubicBezTo>
                  <a:pt x="347" y="32"/>
                  <a:pt x="334" y="46"/>
                  <a:pt x="327" y="42"/>
                </a:cubicBezTo>
                <a:cubicBezTo>
                  <a:pt x="320" y="38"/>
                  <a:pt x="322" y="10"/>
                  <a:pt x="314" y="6"/>
                </a:cubicBezTo>
                <a:cubicBezTo>
                  <a:pt x="306" y="2"/>
                  <a:pt x="290" y="12"/>
                  <a:pt x="279" y="15"/>
                </a:cubicBezTo>
                <a:cubicBezTo>
                  <a:pt x="268" y="18"/>
                  <a:pt x="259" y="24"/>
                  <a:pt x="249" y="24"/>
                </a:cubicBezTo>
                <a:cubicBezTo>
                  <a:pt x="239" y="24"/>
                  <a:pt x="231" y="22"/>
                  <a:pt x="219" y="18"/>
                </a:cubicBezTo>
                <a:cubicBezTo>
                  <a:pt x="207" y="14"/>
                  <a:pt x="186" y="0"/>
                  <a:pt x="177" y="0"/>
                </a:cubicBezTo>
                <a:cubicBezTo>
                  <a:pt x="168" y="0"/>
                  <a:pt x="167" y="12"/>
                  <a:pt x="162" y="18"/>
                </a:cubicBezTo>
                <a:cubicBezTo>
                  <a:pt x="157" y="24"/>
                  <a:pt x="153" y="30"/>
                  <a:pt x="147" y="33"/>
                </a:cubicBezTo>
                <a:cubicBezTo>
                  <a:pt x="141" y="36"/>
                  <a:pt x="133" y="38"/>
                  <a:pt x="126" y="39"/>
                </a:cubicBezTo>
                <a:cubicBezTo>
                  <a:pt x="119" y="40"/>
                  <a:pt x="113" y="39"/>
                  <a:pt x="105" y="39"/>
                </a:cubicBezTo>
                <a:cubicBezTo>
                  <a:pt x="97" y="39"/>
                  <a:pt x="88" y="40"/>
                  <a:pt x="78" y="39"/>
                </a:cubicBezTo>
                <a:cubicBezTo>
                  <a:pt x="68" y="38"/>
                  <a:pt x="51" y="36"/>
                  <a:pt x="42" y="33"/>
                </a:cubicBezTo>
                <a:cubicBezTo>
                  <a:pt x="33" y="30"/>
                  <a:pt x="28" y="24"/>
                  <a:pt x="21" y="21"/>
                </a:cubicBezTo>
                <a:cubicBezTo>
                  <a:pt x="14" y="18"/>
                  <a:pt x="3" y="16"/>
                  <a:pt x="0" y="15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4857840"/>
            <a:ext cx="1095480" cy="544320"/>
          </a:xfrm>
          <a:custGeom>
            <a:avLst/>
            <a:gdLst/>
            <a:ahLst/>
            <a:rect l="l" t="t" r="r" b="b"/>
            <a:pathLst>
              <a:path w="690" h="343">
                <a:moveTo>
                  <a:pt x="690" y="0"/>
                </a:moveTo>
                <a:cubicBezTo>
                  <a:pt x="681" y="12"/>
                  <a:pt x="672" y="24"/>
                  <a:pt x="666" y="33"/>
                </a:cubicBezTo>
                <a:cubicBezTo>
                  <a:pt x="660" y="42"/>
                  <a:pt x="660" y="49"/>
                  <a:pt x="654" y="54"/>
                </a:cubicBezTo>
                <a:cubicBezTo>
                  <a:pt x="648" y="59"/>
                  <a:pt x="641" y="62"/>
                  <a:pt x="633" y="63"/>
                </a:cubicBezTo>
                <a:cubicBezTo>
                  <a:pt x="625" y="64"/>
                  <a:pt x="614" y="59"/>
                  <a:pt x="606" y="60"/>
                </a:cubicBezTo>
                <a:cubicBezTo>
                  <a:pt x="598" y="61"/>
                  <a:pt x="591" y="64"/>
                  <a:pt x="585" y="69"/>
                </a:cubicBezTo>
                <a:cubicBezTo>
                  <a:pt x="579" y="74"/>
                  <a:pt x="576" y="84"/>
                  <a:pt x="570" y="87"/>
                </a:cubicBezTo>
                <a:cubicBezTo>
                  <a:pt x="564" y="90"/>
                  <a:pt x="554" y="89"/>
                  <a:pt x="546" y="90"/>
                </a:cubicBezTo>
                <a:cubicBezTo>
                  <a:pt x="538" y="91"/>
                  <a:pt x="526" y="89"/>
                  <a:pt x="519" y="93"/>
                </a:cubicBezTo>
                <a:cubicBezTo>
                  <a:pt x="512" y="97"/>
                  <a:pt x="509" y="106"/>
                  <a:pt x="504" y="114"/>
                </a:cubicBezTo>
                <a:cubicBezTo>
                  <a:pt x="499" y="122"/>
                  <a:pt x="494" y="130"/>
                  <a:pt x="489" y="138"/>
                </a:cubicBezTo>
                <a:cubicBezTo>
                  <a:pt x="484" y="146"/>
                  <a:pt x="480" y="157"/>
                  <a:pt x="474" y="165"/>
                </a:cubicBezTo>
                <a:cubicBezTo>
                  <a:pt x="468" y="173"/>
                  <a:pt x="459" y="177"/>
                  <a:pt x="453" y="186"/>
                </a:cubicBezTo>
                <a:cubicBezTo>
                  <a:pt x="447" y="195"/>
                  <a:pt x="444" y="210"/>
                  <a:pt x="438" y="219"/>
                </a:cubicBezTo>
                <a:cubicBezTo>
                  <a:pt x="432" y="228"/>
                  <a:pt x="426" y="228"/>
                  <a:pt x="420" y="237"/>
                </a:cubicBezTo>
                <a:cubicBezTo>
                  <a:pt x="414" y="246"/>
                  <a:pt x="408" y="262"/>
                  <a:pt x="402" y="270"/>
                </a:cubicBezTo>
                <a:cubicBezTo>
                  <a:pt x="396" y="278"/>
                  <a:pt x="388" y="282"/>
                  <a:pt x="381" y="288"/>
                </a:cubicBezTo>
                <a:cubicBezTo>
                  <a:pt x="374" y="294"/>
                  <a:pt x="370" y="300"/>
                  <a:pt x="363" y="306"/>
                </a:cubicBezTo>
                <a:cubicBezTo>
                  <a:pt x="356" y="312"/>
                  <a:pt x="347" y="320"/>
                  <a:pt x="339" y="324"/>
                </a:cubicBezTo>
                <a:cubicBezTo>
                  <a:pt x="331" y="328"/>
                  <a:pt x="322" y="330"/>
                  <a:pt x="315" y="333"/>
                </a:cubicBezTo>
                <a:cubicBezTo>
                  <a:pt x="308" y="336"/>
                  <a:pt x="303" y="342"/>
                  <a:pt x="297" y="342"/>
                </a:cubicBezTo>
                <a:cubicBezTo>
                  <a:pt x="291" y="342"/>
                  <a:pt x="288" y="338"/>
                  <a:pt x="276" y="336"/>
                </a:cubicBezTo>
                <a:cubicBezTo>
                  <a:pt x="264" y="334"/>
                  <a:pt x="240" y="332"/>
                  <a:pt x="225" y="333"/>
                </a:cubicBezTo>
                <a:cubicBezTo>
                  <a:pt x="210" y="334"/>
                  <a:pt x="196" y="343"/>
                  <a:pt x="183" y="342"/>
                </a:cubicBezTo>
                <a:cubicBezTo>
                  <a:pt x="170" y="341"/>
                  <a:pt x="159" y="327"/>
                  <a:pt x="147" y="327"/>
                </a:cubicBezTo>
                <a:cubicBezTo>
                  <a:pt x="135" y="327"/>
                  <a:pt x="119" y="337"/>
                  <a:pt x="108" y="339"/>
                </a:cubicBezTo>
                <a:cubicBezTo>
                  <a:pt x="97" y="341"/>
                  <a:pt x="87" y="342"/>
                  <a:pt x="78" y="342"/>
                </a:cubicBezTo>
                <a:cubicBezTo>
                  <a:pt x="69" y="342"/>
                  <a:pt x="61" y="339"/>
                  <a:pt x="54" y="336"/>
                </a:cubicBezTo>
                <a:cubicBezTo>
                  <a:pt x="47" y="333"/>
                  <a:pt x="45" y="326"/>
                  <a:pt x="36" y="324"/>
                </a:cubicBezTo>
                <a:cubicBezTo>
                  <a:pt x="27" y="322"/>
                  <a:pt x="8" y="324"/>
                  <a:pt x="0" y="324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1680" y="4838760"/>
            <a:ext cx="287280" cy="604800"/>
          </a:xfrm>
          <a:custGeom>
            <a:avLst/>
            <a:gdLst/>
            <a:ahLst/>
            <a:rect l="l" t="t" r="r" b="b"/>
            <a:pathLst>
              <a:path w="181" h="381">
                <a:moveTo>
                  <a:pt x="168" y="0"/>
                </a:moveTo>
                <a:cubicBezTo>
                  <a:pt x="169" y="5"/>
                  <a:pt x="169" y="22"/>
                  <a:pt x="171" y="33"/>
                </a:cubicBezTo>
                <a:cubicBezTo>
                  <a:pt x="173" y="44"/>
                  <a:pt x="179" y="57"/>
                  <a:pt x="180" y="66"/>
                </a:cubicBezTo>
                <a:cubicBezTo>
                  <a:pt x="181" y="75"/>
                  <a:pt x="180" y="80"/>
                  <a:pt x="180" y="87"/>
                </a:cubicBezTo>
                <a:cubicBezTo>
                  <a:pt x="180" y="94"/>
                  <a:pt x="181" y="104"/>
                  <a:pt x="180" y="111"/>
                </a:cubicBezTo>
                <a:cubicBezTo>
                  <a:pt x="179" y="118"/>
                  <a:pt x="179" y="123"/>
                  <a:pt x="177" y="129"/>
                </a:cubicBezTo>
                <a:cubicBezTo>
                  <a:pt x="175" y="135"/>
                  <a:pt x="167" y="140"/>
                  <a:pt x="165" y="147"/>
                </a:cubicBezTo>
                <a:cubicBezTo>
                  <a:pt x="163" y="154"/>
                  <a:pt x="168" y="160"/>
                  <a:pt x="165" y="168"/>
                </a:cubicBezTo>
                <a:cubicBezTo>
                  <a:pt x="162" y="176"/>
                  <a:pt x="151" y="189"/>
                  <a:pt x="147" y="198"/>
                </a:cubicBezTo>
                <a:cubicBezTo>
                  <a:pt x="143" y="207"/>
                  <a:pt x="142" y="218"/>
                  <a:pt x="141" y="225"/>
                </a:cubicBezTo>
                <a:cubicBezTo>
                  <a:pt x="140" y="232"/>
                  <a:pt x="143" y="238"/>
                  <a:pt x="141" y="243"/>
                </a:cubicBezTo>
                <a:cubicBezTo>
                  <a:pt x="139" y="248"/>
                  <a:pt x="131" y="253"/>
                  <a:pt x="126" y="258"/>
                </a:cubicBezTo>
                <a:cubicBezTo>
                  <a:pt x="121" y="263"/>
                  <a:pt x="117" y="267"/>
                  <a:pt x="111" y="273"/>
                </a:cubicBezTo>
                <a:cubicBezTo>
                  <a:pt x="105" y="279"/>
                  <a:pt x="96" y="291"/>
                  <a:pt x="87" y="297"/>
                </a:cubicBezTo>
                <a:cubicBezTo>
                  <a:pt x="78" y="303"/>
                  <a:pt x="65" y="308"/>
                  <a:pt x="57" y="312"/>
                </a:cubicBezTo>
                <a:cubicBezTo>
                  <a:pt x="49" y="316"/>
                  <a:pt x="43" y="317"/>
                  <a:pt x="39" y="321"/>
                </a:cubicBezTo>
                <a:cubicBezTo>
                  <a:pt x="35" y="325"/>
                  <a:pt x="33" y="333"/>
                  <a:pt x="30" y="339"/>
                </a:cubicBezTo>
                <a:cubicBezTo>
                  <a:pt x="27" y="345"/>
                  <a:pt x="26" y="350"/>
                  <a:pt x="21" y="357"/>
                </a:cubicBezTo>
                <a:cubicBezTo>
                  <a:pt x="16" y="364"/>
                  <a:pt x="5" y="374"/>
                  <a:pt x="0" y="3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04920" y="4452840"/>
            <a:ext cx="723960" cy="971640"/>
          </a:xfrm>
          <a:custGeom>
            <a:avLst/>
            <a:gdLst/>
            <a:ahLst/>
            <a:rect l="l" t="t" r="r" b="b"/>
            <a:pathLst>
              <a:path w="456" h="612">
                <a:moveTo>
                  <a:pt x="441" y="0"/>
                </a:moveTo>
                <a:cubicBezTo>
                  <a:pt x="446" y="11"/>
                  <a:pt x="451" y="22"/>
                  <a:pt x="453" y="30"/>
                </a:cubicBezTo>
                <a:cubicBezTo>
                  <a:pt x="455" y="38"/>
                  <a:pt x="456" y="45"/>
                  <a:pt x="453" y="51"/>
                </a:cubicBezTo>
                <a:cubicBezTo>
                  <a:pt x="450" y="57"/>
                  <a:pt x="442" y="61"/>
                  <a:pt x="435" y="69"/>
                </a:cubicBezTo>
                <a:cubicBezTo>
                  <a:pt x="428" y="77"/>
                  <a:pt x="416" y="89"/>
                  <a:pt x="411" y="99"/>
                </a:cubicBezTo>
                <a:cubicBezTo>
                  <a:pt x="406" y="109"/>
                  <a:pt x="409" y="124"/>
                  <a:pt x="405" y="132"/>
                </a:cubicBezTo>
                <a:cubicBezTo>
                  <a:pt x="401" y="140"/>
                  <a:pt x="395" y="146"/>
                  <a:pt x="387" y="150"/>
                </a:cubicBezTo>
                <a:cubicBezTo>
                  <a:pt x="379" y="154"/>
                  <a:pt x="368" y="155"/>
                  <a:pt x="354" y="159"/>
                </a:cubicBezTo>
                <a:cubicBezTo>
                  <a:pt x="340" y="163"/>
                  <a:pt x="315" y="165"/>
                  <a:pt x="303" y="171"/>
                </a:cubicBezTo>
                <a:cubicBezTo>
                  <a:pt x="291" y="177"/>
                  <a:pt x="286" y="189"/>
                  <a:pt x="279" y="198"/>
                </a:cubicBezTo>
                <a:cubicBezTo>
                  <a:pt x="272" y="207"/>
                  <a:pt x="264" y="217"/>
                  <a:pt x="258" y="225"/>
                </a:cubicBezTo>
                <a:cubicBezTo>
                  <a:pt x="252" y="233"/>
                  <a:pt x="247" y="241"/>
                  <a:pt x="240" y="249"/>
                </a:cubicBezTo>
                <a:cubicBezTo>
                  <a:pt x="233" y="257"/>
                  <a:pt x="226" y="265"/>
                  <a:pt x="219" y="273"/>
                </a:cubicBezTo>
                <a:cubicBezTo>
                  <a:pt x="212" y="281"/>
                  <a:pt x="204" y="290"/>
                  <a:pt x="201" y="297"/>
                </a:cubicBezTo>
                <a:cubicBezTo>
                  <a:pt x="198" y="304"/>
                  <a:pt x="203" y="309"/>
                  <a:pt x="198" y="315"/>
                </a:cubicBezTo>
                <a:cubicBezTo>
                  <a:pt x="193" y="321"/>
                  <a:pt x="180" y="324"/>
                  <a:pt x="171" y="330"/>
                </a:cubicBezTo>
                <a:cubicBezTo>
                  <a:pt x="162" y="336"/>
                  <a:pt x="150" y="341"/>
                  <a:pt x="144" y="351"/>
                </a:cubicBezTo>
                <a:cubicBezTo>
                  <a:pt x="138" y="361"/>
                  <a:pt x="134" y="379"/>
                  <a:pt x="132" y="393"/>
                </a:cubicBezTo>
                <a:cubicBezTo>
                  <a:pt x="130" y="407"/>
                  <a:pt x="130" y="424"/>
                  <a:pt x="129" y="438"/>
                </a:cubicBezTo>
                <a:cubicBezTo>
                  <a:pt x="128" y="452"/>
                  <a:pt x="127" y="464"/>
                  <a:pt x="123" y="477"/>
                </a:cubicBezTo>
                <a:cubicBezTo>
                  <a:pt x="119" y="490"/>
                  <a:pt x="109" y="509"/>
                  <a:pt x="102" y="519"/>
                </a:cubicBezTo>
                <a:cubicBezTo>
                  <a:pt x="95" y="529"/>
                  <a:pt x="88" y="532"/>
                  <a:pt x="81" y="540"/>
                </a:cubicBezTo>
                <a:cubicBezTo>
                  <a:pt x="74" y="548"/>
                  <a:pt x="67" y="558"/>
                  <a:pt x="57" y="567"/>
                </a:cubicBezTo>
                <a:cubicBezTo>
                  <a:pt x="47" y="576"/>
                  <a:pt x="28" y="589"/>
                  <a:pt x="18" y="597"/>
                </a:cubicBezTo>
                <a:cubicBezTo>
                  <a:pt x="8" y="605"/>
                  <a:pt x="3" y="609"/>
                  <a:pt x="0" y="61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4200" y="4557600"/>
            <a:ext cx="4006800" cy="1633680"/>
          </a:xfrm>
          <a:custGeom>
            <a:avLst/>
            <a:gdLst/>
            <a:ahLst/>
            <a:rect l="l" t="t" r="r" b="b"/>
            <a:pathLst>
              <a:path w="2524" h="1029">
                <a:moveTo>
                  <a:pt x="2115" y="0"/>
                </a:moveTo>
                <a:cubicBezTo>
                  <a:pt x="2121" y="1"/>
                  <a:pt x="2128" y="3"/>
                  <a:pt x="2133" y="6"/>
                </a:cubicBezTo>
                <a:cubicBezTo>
                  <a:pt x="2138" y="9"/>
                  <a:pt x="2143" y="13"/>
                  <a:pt x="2145" y="21"/>
                </a:cubicBezTo>
                <a:cubicBezTo>
                  <a:pt x="2147" y="29"/>
                  <a:pt x="2145" y="45"/>
                  <a:pt x="2145" y="54"/>
                </a:cubicBezTo>
                <a:cubicBezTo>
                  <a:pt x="2145" y="63"/>
                  <a:pt x="2142" y="68"/>
                  <a:pt x="2142" y="75"/>
                </a:cubicBezTo>
                <a:cubicBezTo>
                  <a:pt x="2142" y="82"/>
                  <a:pt x="2140" y="90"/>
                  <a:pt x="2142" y="99"/>
                </a:cubicBezTo>
                <a:cubicBezTo>
                  <a:pt x="2144" y="108"/>
                  <a:pt x="2150" y="124"/>
                  <a:pt x="2157" y="132"/>
                </a:cubicBezTo>
                <a:cubicBezTo>
                  <a:pt x="2164" y="140"/>
                  <a:pt x="2171" y="142"/>
                  <a:pt x="2184" y="150"/>
                </a:cubicBezTo>
                <a:cubicBezTo>
                  <a:pt x="2197" y="158"/>
                  <a:pt x="2221" y="175"/>
                  <a:pt x="2235" y="180"/>
                </a:cubicBezTo>
                <a:cubicBezTo>
                  <a:pt x="2249" y="185"/>
                  <a:pt x="2262" y="180"/>
                  <a:pt x="2271" y="180"/>
                </a:cubicBezTo>
                <a:cubicBezTo>
                  <a:pt x="2280" y="180"/>
                  <a:pt x="2279" y="182"/>
                  <a:pt x="2289" y="180"/>
                </a:cubicBezTo>
                <a:cubicBezTo>
                  <a:pt x="2299" y="178"/>
                  <a:pt x="2319" y="171"/>
                  <a:pt x="2331" y="168"/>
                </a:cubicBezTo>
                <a:cubicBezTo>
                  <a:pt x="2343" y="165"/>
                  <a:pt x="2352" y="166"/>
                  <a:pt x="2361" y="162"/>
                </a:cubicBezTo>
                <a:cubicBezTo>
                  <a:pt x="2370" y="158"/>
                  <a:pt x="2384" y="152"/>
                  <a:pt x="2388" y="144"/>
                </a:cubicBezTo>
                <a:cubicBezTo>
                  <a:pt x="2392" y="136"/>
                  <a:pt x="2387" y="120"/>
                  <a:pt x="2388" y="111"/>
                </a:cubicBezTo>
                <a:cubicBezTo>
                  <a:pt x="2389" y="102"/>
                  <a:pt x="2390" y="95"/>
                  <a:pt x="2394" y="90"/>
                </a:cubicBezTo>
                <a:cubicBezTo>
                  <a:pt x="2398" y="85"/>
                  <a:pt x="2404" y="81"/>
                  <a:pt x="2412" y="78"/>
                </a:cubicBezTo>
                <a:cubicBezTo>
                  <a:pt x="2420" y="75"/>
                  <a:pt x="2435" y="69"/>
                  <a:pt x="2442" y="69"/>
                </a:cubicBezTo>
                <a:cubicBezTo>
                  <a:pt x="2449" y="69"/>
                  <a:pt x="2456" y="75"/>
                  <a:pt x="2457" y="81"/>
                </a:cubicBezTo>
                <a:cubicBezTo>
                  <a:pt x="2458" y="87"/>
                  <a:pt x="2454" y="98"/>
                  <a:pt x="2451" y="108"/>
                </a:cubicBezTo>
                <a:cubicBezTo>
                  <a:pt x="2448" y="118"/>
                  <a:pt x="2444" y="131"/>
                  <a:pt x="2442" y="141"/>
                </a:cubicBezTo>
                <a:cubicBezTo>
                  <a:pt x="2440" y="151"/>
                  <a:pt x="2439" y="160"/>
                  <a:pt x="2439" y="168"/>
                </a:cubicBezTo>
                <a:cubicBezTo>
                  <a:pt x="2439" y="176"/>
                  <a:pt x="2440" y="182"/>
                  <a:pt x="2445" y="189"/>
                </a:cubicBezTo>
                <a:cubicBezTo>
                  <a:pt x="2450" y="196"/>
                  <a:pt x="2464" y="206"/>
                  <a:pt x="2472" y="213"/>
                </a:cubicBezTo>
                <a:cubicBezTo>
                  <a:pt x="2480" y="220"/>
                  <a:pt x="2490" y="224"/>
                  <a:pt x="2496" y="231"/>
                </a:cubicBezTo>
                <a:cubicBezTo>
                  <a:pt x="2502" y="238"/>
                  <a:pt x="2507" y="249"/>
                  <a:pt x="2511" y="258"/>
                </a:cubicBezTo>
                <a:cubicBezTo>
                  <a:pt x="2515" y="267"/>
                  <a:pt x="2518" y="277"/>
                  <a:pt x="2520" y="285"/>
                </a:cubicBezTo>
                <a:cubicBezTo>
                  <a:pt x="2522" y="293"/>
                  <a:pt x="2523" y="301"/>
                  <a:pt x="2523" y="309"/>
                </a:cubicBezTo>
                <a:cubicBezTo>
                  <a:pt x="2523" y="317"/>
                  <a:pt x="2524" y="325"/>
                  <a:pt x="2523" y="333"/>
                </a:cubicBezTo>
                <a:cubicBezTo>
                  <a:pt x="2522" y="341"/>
                  <a:pt x="2519" y="353"/>
                  <a:pt x="2517" y="360"/>
                </a:cubicBezTo>
                <a:cubicBezTo>
                  <a:pt x="2515" y="367"/>
                  <a:pt x="2515" y="372"/>
                  <a:pt x="2511" y="378"/>
                </a:cubicBezTo>
                <a:cubicBezTo>
                  <a:pt x="2507" y="384"/>
                  <a:pt x="2497" y="392"/>
                  <a:pt x="2490" y="396"/>
                </a:cubicBezTo>
                <a:cubicBezTo>
                  <a:pt x="2483" y="400"/>
                  <a:pt x="2475" y="402"/>
                  <a:pt x="2469" y="405"/>
                </a:cubicBezTo>
                <a:cubicBezTo>
                  <a:pt x="2463" y="408"/>
                  <a:pt x="2456" y="413"/>
                  <a:pt x="2451" y="417"/>
                </a:cubicBezTo>
                <a:cubicBezTo>
                  <a:pt x="2446" y="421"/>
                  <a:pt x="2444" y="424"/>
                  <a:pt x="2436" y="429"/>
                </a:cubicBezTo>
                <a:cubicBezTo>
                  <a:pt x="2428" y="434"/>
                  <a:pt x="2411" y="440"/>
                  <a:pt x="2403" y="450"/>
                </a:cubicBezTo>
                <a:cubicBezTo>
                  <a:pt x="2395" y="460"/>
                  <a:pt x="2394" y="477"/>
                  <a:pt x="2385" y="489"/>
                </a:cubicBezTo>
                <a:cubicBezTo>
                  <a:pt x="2376" y="501"/>
                  <a:pt x="2358" y="519"/>
                  <a:pt x="2349" y="525"/>
                </a:cubicBezTo>
                <a:cubicBezTo>
                  <a:pt x="2340" y="531"/>
                  <a:pt x="2336" y="525"/>
                  <a:pt x="2328" y="528"/>
                </a:cubicBezTo>
                <a:cubicBezTo>
                  <a:pt x="2320" y="531"/>
                  <a:pt x="2306" y="538"/>
                  <a:pt x="2298" y="543"/>
                </a:cubicBezTo>
                <a:cubicBezTo>
                  <a:pt x="2290" y="548"/>
                  <a:pt x="2287" y="556"/>
                  <a:pt x="2280" y="561"/>
                </a:cubicBezTo>
                <a:cubicBezTo>
                  <a:pt x="2273" y="566"/>
                  <a:pt x="2263" y="571"/>
                  <a:pt x="2256" y="573"/>
                </a:cubicBezTo>
                <a:cubicBezTo>
                  <a:pt x="2249" y="575"/>
                  <a:pt x="2243" y="574"/>
                  <a:pt x="2235" y="576"/>
                </a:cubicBezTo>
                <a:cubicBezTo>
                  <a:pt x="2227" y="578"/>
                  <a:pt x="2213" y="580"/>
                  <a:pt x="2205" y="585"/>
                </a:cubicBezTo>
                <a:cubicBezTo>
                  <a:pt x="2197" y="590"/>
                  <a:pt x="2195" y="598"/>
                  <a:pt x="2187" y="606"/>
                </a:cubicBezTo>
                <a:cubicBezTo>
                  <a:pt x="2179" y="614"/>
                  <a:pt x="2167" y="625"/>
                  <a:pt x="2157" y="633"/>
                </a:cubicBezTo>
                <a:cubicBezTo>
                  <a:pt x="2147" y="641"/>
                  <a:pt x="2135" y="643"/>
                  <a:pt x="2124" y="651"/>
                </a:cubicBezTo>
                <a:cubicBezTo>
                  <a:pt x="2113" y="659"/>
                  <a:pt x="2104" y="669"/>
                  <a:pt x="2094" y="678"/>
                </a:cubicBezTo>
                <a:cubicBezTo>
                  <a:pt x="2084" y="687"/>
                  <a:pt x="2073" y="697"/>
                  <a:pt x="2064" y="708"/>
                </a:cubicBezTo>
                <a:cubicBezTo>
                  <a:pt x="2055" y="719"/>
                  <a:pt x="2048" y="733"/>
                  <a:pt x="2043" y="741"/>
                </a:cubicBezTo>
                <a:cubicBezTo>
                  <a:pt x="2038" y="749"/>
                  <a:pt x="2033" y="750"/>
                  <a:pt x="2031" y="756"/>
                </a:cubicBezTo>
                <a:cubicBezTo>
                  <a:pt x="2029" y="762"/>
                  <a:pt x="2033" y="770"/>
                  <a:pt x="2031" y="777"/>
                </a:cubicBezTo>
                <a:cubicBezTo>
                  <a:pt x="2029" y="784"/>
                  <a:pt x="2028" y="794"/>
                  <a:pt x="2019" y="798"/>
                </a:cubicBezTo>
                <a:cubicBezTo>
                  <a:pt x="2010" y="802"/>
                  <a:pt x="1985" y="798"/>
                  <a:pt x="1974" y="801"/>
                </a:cubicBezTo>
                <a:cubicBezTo>
                  <a:pt x="1963" y="804"/>
                  <a:pt x="1959" y="812"/>
                  <a:pt x="1950" y="816"/>
                </a:cubicBezTo>
                <a:cubicBezTo>
                  <a:pt x="1941" y="820"/>
                  <a:pt x="1929" y="821"/>
                  <a:pt x="1920" y="822"/>
                </a:cubicBezTo>
                <a:cubicBezTo>
                  <a:pt x="1911" y="823"/>
                  <a:pt x="1900" y="823"/>
                  <a:pt x="1893" y="825"/>
                </a:cubicBezTo>
                <a:cubicBezTo>
                  <a:pt x="1886" y="827"/>
                  <a:pt x="1883" y="829"/>
                  <a:pt x="1878" y="833"/>
                </a:cubicBezTo>
                <a:cubicBezTo>
                  <a:pt x="1873" y="837"/>
                  <a:pt x="1869" y="839"/>
                  <a:pt x="1865" y="846"/>
                </a:cubicBezTo>
                <a:cubicBezTo>
                  <a:pt x="1861" y="853"/>
                  <a:pt x="1858" y="865"/>
                  <a:pt x="1854" y="872"/>
                </a:cubicBezTo>
                <a:cubicBezTo>
                  <a:pt x="1850" y="879"/>
                  <a:pt x="1845" y="881"/>
                  <a:pt x="1841" y="888"/>
                </a:cubicBezTo>
                <a:cubicBezTo>
                  <a:pt x="1837" y="895"/>
                  <a:pt x="1835" y="910"/>
                  <a:pt x="1829" y="917"/>
                </a:cubicBezTo>
                <a:cubicBezTo>
                  <a:pt x="1823" y="924"/>
                  <a:pt x="1812" y="931"/>
                  <a:pt x="1802" y="933"/>
                </a:cubicBezTo>
                <a:cubicBezTo>
                  <a:pt x="1792" y="935"/>
                  <a:pt x="1777" y="930"/>
                  <a:pt x="1767" y="927"/>
                </a:cubicBezTo>
                <a:cubicBezTo>
                  <a:pt x="1757" y="924"/>
                  <a:pt x="1750" y="916"/>
                  <a:pt x="1743" y="912"/>
                </a:cubicBezTo>
                <a:cubicBezTo>
                  <a:pt x="1736" y="908"/>
                  <a:pt x="1735" y="908"/>
                  <a:pt x="1724" y="902"/>
                </a:cubicBezTo>
                <a:cubicBezTo>
                  <a:pt x="1713" y="896"/>
                  <a:pt x="1688" y="883"/>
                  <a:pt x="1677" y="875"/>
                </a:cubicBezTo>
                <a:cubicBezTo>
                  <a:pt x="1666" y="867"/>
                  <a:pt x="1660" y="859"/>
                  <a:pt x="1656" y="855"/>
                </a:cubicBezTo>
                <a:cubicBezTo>
                  <a:pt x="1652" y="851"/>
                  <a:pt x="1653" y="850"/>
                  <a:pt x="1650" y="848"/>
                </a:cubicBezTo>
                <a:cubicBezTo>
                  <a:pt x="1647" y="846"/>
                  <a:pt x="1642" y="842"/>
                  <a:pt x="1638" y="842"/>
                </a:cubicBezTo>
                <a:cubicBezTo>
                  <a:pt x="1634" y="842"/>
                  <a:pt x="1629" y="843"/>
                  <a:pt x="1623" y="846"/>
                </a:cubicBezTo>
                <a:cubicBezTo>
                  <a:pt x="1617" y="849"/>
                  <a:pt x="1611" y="858"/>
                  <a:pt x="1602" y="858"/>
                </a:cubicBezTo>
                <a:cubicBezTo>
                  <a:pt x="1593" y="858"/>
                  <a:pt x="1579" y="847"/>
                  <a:pt x="1566" y="843"/>
                </a:cubicBezTo>
                <a:cubicBezTo>
                  <a:pt x="1553" y="839"/>
                  <a:pt x="1539" y="834"/>
                  <a:pt x="1527" y="834"/>
                </a:cubicBezTo>
                <a:cubicBezTo>
                  <a:pt x="1515" y="834"/>
                  <a:pt x="1505" y="840"/>
                  <a:pt x="1496" y="842"/>
                </a:cubicBezTo>
                <a:cubicBezTo>
                  <a:pt x="1487" y="844"/>
                  <a:pt x="1479" y="845"/>
                  <a:pt x="1472" y="848"/>
                </a:cubicBezTo>
                <a:cubicBezTo>
                  <a:pt x="1465" y="851"/>
                  <a:pt x="1457" y="855"/>
                  <a:pt x="1452" y="861"/>
                </a:cubicBezTo>
                <a:cubicBezTo>
                  <a:pt x="1447" y="867"/>
                  <a:pt x="1449" y="875"/>
                  <a:pt x="1443" y="882"/>
                </a:cubicBezTo>
                <a:cubicBezTo>
                  <a:pt x="1437" y="889"/>
                  <a:pt x="1424" y="897"/>
                  <a:pt x="1416" y="900"/>
                </a:cubicBezTo>
                <a:cubicBezTo>
                  <a:pt x="1408" y="903"/>
                  <a:pt x="1404" y="903"/>
                  <a:pt x="1392" y="903"/>
                </a:cubicBezTo>
                <a:cubicBezTo>
                  <a:pt x="1380" y="903"/>
                  <a:pt x="1359" y="903"/>
                  <a:pt x="1344" y="903"/>
                </a:cubicBezTo>
                <a:cubicBezTo>
                  <a:pt x="1329" y="903"/>
                  <a:pt x="1314" y="905"/>
                  <a:pt x="1301" y="905"/>
                </a:cubicBezTo>
                <a:cubicBezTo>
                  <a:pt x="1288" y="905"/>
                  <a:pt x="1276" y="905"/>
                  <a:pt x="1266" y="903"/>
                </a:cubicBezTo>
                <a:cubicBezTo>
                  <a:pt x="1256" y="901"/>
                  <a:pt x="1247" y="900"/>
                  <a:pt x="1239" y="894"/>
                </a:cubicBezTo>
                <a:cubicBezTo>
                  <a:pt x="1231" y="888"/>
                  <a:pt x="1222" y="870"/>
                  <a:pt x="1215" y="864"/>
                </a:cubicBezTo>
                <a:cubicBezTo>
                  <a:pt x="1208" y="858"/>
                  <a:pt x="1205" y="856"/>
                  <a:pt x="1199" y="855"/>
                </a:cubicBezTo>
                <a:cubicBezTo>
                  <a:pt x="1193" y="854"/>
                  <a:pt x="1186" y="857"/>
                  <a:pt x="1179" y="857"/>
                </a:cubicBezTo>
                <a:cubicBezTo>
                  <a:pt x="1172" y="857"/>
                  <a:pt x="1164" y="855"/>
                  <a:pt x="1154" y="855"/>
                </a:cubicBezTo>
                <a:cubicBezTo>
                  <a:pt x="1144" y="855"/>
                  <a:pt x="1131" y="854"/>
                  <a:pt x="1121" y="855"/>
                </a:cubicBezTo>
                <a:cubicBezTo>
                  <a:pt x="1111" y="856"/>
                  <a:pt x="1102" y="860"/>
                  <a:pt x="1092" y="860"/>
                </a:cubicBezTo>
                <a:cubicBezTo>
                  <a:pt x="1082" y="860"/>
                  <a:pt x="1067" y="856"/>
                  <a:pt x="1059" y="855"/>
                </a:cubicBezTo>
                <a:cubicBezTo>
                  <a:pt x="1051" y="854"/>
                  <a:pt x="1047" y="853"/>
                  <a:pt x="1041" y="852"/>
                </a:cubicBezTo>
                <a:cubicBezTo>
                  <a:pt x="1035" y="851"/>
                  <a:pt x="1028" y="848"/>
                  <a:pt x="1020" y="849"/>
                </a:cubicBezTo>
                <a:cubicBezTo>
                  <a:pt x="1012" y="850"/>
                  <a:pt x="1003" y="854"/>
                  <a:pt x="995" y="858"/>
                </a:cubicBezTo>
                <a:cubicBezTo>
                  <a:pt x="987" y="862"/>
                  <a:pt x="979" y="872"/>
                  <a:pt x="972" y="876"/>
                </a:cubicBezTo>
                <a:cubicBezTo>
                  <a:pt x="965" y="880"/>
                  <a:pt x="960" y="884"/>
                  <a:pt x="954" y="885"/>
                </a:cubicBezTo>
                <a:cubicBezTo>
                  <a:pt x="948" y="886"/>
                  <a:pt x="942" y="885"/>
                  <a:pt x="936" y="885"/>
                </a:cubicBezTo>
                <a:cubicBezTo>
                  <a:pt x="930" y="885"/>
                  <a:pt x="921" y="887"/>
                  <a:pt x="915" y="888"/>
                </a:cubicBezTo>
                <a:cubicBezTo>
                  <a:pt x="909" y="889"/>
                  <a:pt x="907" y="890"/>
                  <a:pt x="902" y="893"/>
                </a:cubicBezTo>
                <a:cubicBezTo>
                  <a:pt x="897" y="896"/>
                  <a:pt x="892" y="903"/>
                  <a:pt x="887" y="905"/>
                </a:cubicBezTo>
                <a:cubicBezTo>
                  <a:pt x="882" y="907"/>
                  <a:pt x="876" y="905"/>
                  <a:pt x="869" y="908"/>
                </a:cubicBezTo>
                <a:cubicBezTo>
                  <a:pt x="862" y="911"/>
                  <a:pt x="854" y="916"/>
                  <a:pt x="846" y="923"/>
                </a:cubicBezTo>
                <a:cubicBezTo>
                  <a:pt x="838" y="930"/>
                  <a:pt x="827" y="939"/>
                  <a:pt x="821" y="947"/>
                </a:cubicBezTo>
                <a:cubicBezTo>
                  <a:pt x="815" y="955"/>
                  <a:pt x="814" y="965"/>
                  <a:pt x="810" y="969"/>
                </a:cubicBezTo>
                <a:cubicBezTo>
                  <a:pt x="806" y="973"/>
                  <a:pt x="801" y="973"/>
                  <a:pt x="794" y="974"/>
                </a:cubicBezTo>
                <a:cubicBezTo>
                  <a:pt x="787" y="975"/>
                  <a:pt x="775" y="975"/>
                  <a:pt x="767" y="975"/>
                </a:cubicBezTo>
                <a:cubicBezTo>
                  <a:pt x="759" y="975"/>
                  <a:pt x="748" y="973"/>
                  <a:pt x="743" y="971"/>
                </a:cubicBezTo>
                <a:cubicBezTo>
                  <a:pt x="738" y="969"/>
                  <a:pt x="738" y="963"/>
                  <a:pt x="735" y="960"/>
                </a:cubicBezTo>
                <a:cubicBezTo>
                  <a:pt x="732" y="957"/>
                  <a:pt x="728" y="951"/>
                  <a:pt x="723" y="951"/>
                </a:cubicBezTo>
                <a:cubicBezTo>
                  <a:pt x="718" y="951"/>
                  <a:pt x="710" y="957"/>
                  <a:pt x="704" y="962"/>
                </a:cubicBezTo>
                <a:cubicBezTo>
                  <a:pt x="698" y="967"/>
                  <a:pt x="692" y="977"/>
                  <a:pt x="684" y="984"/>
                </a:cubicBezTo>
                <a:cubicBezTo>
                  <a:pt x="676" y="991"/>
                  <a:pt x="668" y="998"/>
                  <a:pt x="657" y="1002"/>
                </a:cubicBezTo>
                <a:cubicBezTo>
                  <a:pt x="646" y="1006"/>
                  <a:pt x="625" y="1004"/>
                  <a:pt x="615" y="1008"/>
                </a:cubicBezTo>
                <a:cubicBezTo>
                  <a:pt x="605" y="1012"/>
                  <a:pt x="603" y="1023"/>
                  <a:pt x="597" y="1026"/>
                </a:cubicBezTo>
                <a:cubicBezTo>
                  <a:pt x="591" y="1029"/>
                  <a:pt x="586" y="1029"/>
                  <a:pt x="576" y="1029"/>
                </a:cubicBezTo>
                <a:cubicBezTo>
                  <a:pt x="566" y="1029"/>
                  <a:pt x="543" y="1024"/>
                  <a:pt x="534" y="1023"/>
                </a:cubicBezTo>
                <a:cubicBezTo>
                  <a:pt x="525" y="1022"/>
                  <a:pt x="529" y="1024"/>
                  <a:pt x="524" y="1023"/>
                </a:cubicBezTo>
                <a:cubicBezTo>
                  <a:pt x="519" y="1022"/>
                  <a:pt x="513" y="1016"/>
                  <a:pt x="506" y="1014"/>
                </a:cubicBezTo>
                <a:cubicBezTo>
                  <a:pt x="499" y="1012"/>
                  <a:pt x="493" y="1012"/>
                  <a:pt x="485" y="1011"/>
                </a:cubicBezTo>
                <a:cubicBezTo>
                  <a:pt x="477" y="1010"/>
                  <a:pt x="468" y="1008"/>
                  <a:pt x="459" y="1008"/>
                </a:cubicBezTo>
                <a:cubicBezTo>
                  <a:pt x="450" y="1008"/>
                  <a:pt x="438" y="1008"/>
                  <a:pt x="432" y="1008"/>
                </a:cubicBezTo>
                <a:cubicBezTo>
                  <a:pt x="426" y="1008"/>
                  <a:pt x="424" y="1006"/>
                  <a:pt x="420" y="1005"/>
                </a:cubicBezTo>
                <a:cubicBezTo>
                  <a:pt x="416" y="1004"/>
                  <a:pt x="413" y="1001"/>
                  <a:pt x="407" y="999"/>
                </a:cubicBezTo>
                <a:cubicBezTo>
                  <a:pt x="401" y="997"/>
                  <a:pt x="391" y="992"/>
                  <a:pt x="384" y="990"/>
                </a:cubicBezTo>
                <a:cubicBezTo>
                  <a:pt x="377" y="988"/>
                  <a:pt x="373" y="986"/>
                  <a:pt x="366" y="984"/>
                </a:cubicBezTo>
                <a:cubicBezTo>
                  <a:pt x="359" y="982"/>
                  <a:pt x="349" y="982"/>
                  <a:pt x="341" y="977"/>
                </a:cubicBezTo>
                <a:cubicBezTo>
                  <a:pt x="333" y="972"/>
                  <a:pt x="329" y="960"/>
                  <a:pt x="321" y="954"/>
                </a:cubicBezTo>
                <a:cubicBezTo>
                  <a:pt x="313" y="948"/>
                  <a:pt x="304" y="943"/>
                  <a:pt x="294" y="939"/>
                </a:cubicBezTo>
                <a:cubicBezTo>
                  <a:pt x="284" y="935"/>
                  <a:pt x="269" y="932"/>
                  <a:pt x="258" y="930"/>
                </a:cubicBezTo>
                <a:cubicBezTo>
                  <a:pt x="247" y="928"/>
                  <a:pt x="238" y="932"/>
                  <a:pt x="225" y="927"/>
                </a:cubicBezTo>
                <a:cubicBezTo>
                  <a:pt x="212" y="922"/>
                  <a:pt x="193" y="906"/>
                  <a:pt x="180" y="900"/>
                </a:cubicBezTo>
                <a:cubicBezTo>
                  <a:pt x="167" y="894"/>
                  <a:pt x="162" y="891"/>
                  <a:pt x="150" y="891"/>
                </a:cubicBezTo>
                <a:cubicBezTo>
                  <a:pt x="138" y="891"/>
                  <a:pt x="119" y="893"/>
                  <a:pt x="108" y="903"/>
                </a:cubicBezTo>
                <a:cubicBezTo>
                  <a:pt x="97" y="913"/>
                  <a:pt x="88" y="938"/>
                  <a:pt x="81" y="948"/>
                </a:cubicBezTo>
                <a:cubicBezTo>
                  <a:pt x="74" y="958"/>
                  <a:pt x="69" y="963"/>
                  <a:pt x="63" y="963"/>
                </a:cubicBezTo>
                <a:cubicBezTo>
                  <a:pt x="57" y="963"/>
                  <a:pt x="52" y="951"/>
                  <a:pt x="45" y="945"/>
                </a:cubicBezTo>
                <a:cubicBezTo>
                  <a:pt x="38" y="939"/>
                  <a:pt x="28" y="926"/>
                  <a:pt x="21" y="924"/>
                </a:cubicBezTo>
                <a:cubicBezTo>
                  <a:pt x="14" y="922"/>
                  <a:pt x="3" y="931"/>
                  <a:pt x="0" y="93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19560" y="5048280"/>
            <a:ext cx="725400" cy="954000"/>
          </a:xfrm>
          <a:custGeom>
            <a:avLst/>
            <a:gdLst/>
            <a:ahLst/>
            <a:rect l="l" t="t" r="r" b="b"/>
            <a:pathLst>
              <a:path w="457" h="601">
                <a:moveTo>
                  <a:pt x="0" y="0"/>
                </a:moveTo>
                <a:cubicBezTo>
                  <a:pt x="8" y="0"/>
                  <a:pt x="16" y="1"/>
                  <a:pt x="21" y="6"/>
                </a:cubicBezTo>
                <a:cubicBezTo>
                  <a:pt x="26" y="11"/>
                  <a:pt x="27" y="23"/>
                  <a:pt x="33" y="30"/>
                </a:cubicBezTo>
                <a:cubicBezTo>
                  <a:pt x="39" y="37"/>
                  <a:pt x="46" y="44"/>
                  <a:pt x="57" y="51"/>
                </a:cubicBezTo>
                <a:cubicBezTo>
                  <a:pt x="68" y="58"/>
                  <a:pt x="87" y="64"/>
                  <a:pt x="96" y="69"/>
                </a:cubicBezTo>
                <a:cubicBezTo>
                  <a:pt x="105" y="74"/>
                  <a:pt x="106" y="79"/>
                  <a:pt x="111" y="81"/>
                </a:cubicBezTo>
                <a:cubicBezTo>
                  <a:pt x="116" y="83"/>
                  <a:pt x="123" y="81"/>
                  <a:pt x="129" y="81"/>
                </a:cubicBezTo>
                <a:cubicBezTo>
                  <a:pt x="135" y="81"/>
                  <a:pt x="140" y="81"/>
                  <a:pt x="147" y="81"/>
                </a:cubicBezTo>
                <a:cubicBezTo>
                  <a:pt x="154" y="81"/>
                  <a:pt x="163" y="81"/>
                  <a:pt x="171" y="81"/>
                </a:cubicBezTo>
                <a:cubicBezTo>
                  <a:pt x="179" y="81"/>
                  <a:pt x="188" y="80"/>
                  <a:pt x="195" y="81"/>
                </a:cubicBezTo>
                <a:cubicBezTo>
                  <a:pt x="202" y="82"/>
                  <a:pt x="205" y="88"/>
                  <a:pt x="213" y="90"/>
                </a:cubicBezTo>
                <a:cubicBezTo>
                  <a:pt x="221" y="92"/>
                  <a:pt x="232" y="89"/>
                  <a:pt x="243" y="93"/>
                </a:cubicBezTo>
                <a:cubicBezTo>
                  <a:pt x="254" y="97"/>
                  <a:pt x="267" y="111"/>
                  <a:pt x="279" y="114"/>
                </a:cubicBezTo>
                <a:cubicBezTo>
                  <a:pt x="291" y="117"/>
                  <a:pt x="306" y="112"/>
                  <a:pt x="318" y="114"/>
                </a:cubicBezTo>
                <a:cubicBezTo>
                  <a:pt x="330" y="116"/>
                  <a:pt x="345" y="127"/>
                  <a:pt x="354" y="129"/>
                </a:cubicBezTo>
                <a:cubicBezTo>
                  <a:pt x="363" y="131"/>
                  <a:pt x="368" y="125"/>
                  <a:pt x="375" y="129"/>
                </a:cubicBezTo>
                <a:cubicBezTo>
                  <a:pt x="382" y="133"/>
                  <a:pt x="389" y="147"/>
                  <a:pt x="396" y="153"/>
                </a:cubicBezTo>
                <a:cubicBezTo>
                  <a:pt x="403" y="159"/>
                  <a:pt x="413" y="159"/>
                  <a:pt x="420" y="168"/>
                </a:cubicBezTo>
                <a:cubicBezTo>
                  <a:pt x="427" y="177"/>
                  <a:pt x="435" y="194"/>
                  <a:pt x="438" y="207"/>
                </a:cubicBezTo>
                <a:cubicBezTo>
                  <a:pt x="441" y="220"/>
                  <a:pt x="436" y="240"/>
                  <a:pt x="438" y="248"/>
                </a:cubicBezTo>
                <a:cubicBezTo>
                  <a:pt x="440" y="256"/>
                  <a:pt x="447" y="253"/>
                  <a:pt x="450" y="258"/>
                </a:cubicBezTo>
                <a:cubicBezTo>
                  <a:pt x="453" y="263"/>
                  <a:pt x="457" y="269"/>
                  <a:pt x="456" y="276"/>
                </a:cubicBezTo>
                <a:cubicBezTo>
                  <a:pt x="455" y="283"/>
                  <a:pt x="444" y="295"/>
                  <a:pt x="441" y="303"/>
                </a:cubicBezTo>
                <a:cubicBezTo>
                  <a:pt x="438" y="311"/>
                  <a:pt x="441" y="318"/>
                  <a:pt x="441" y="324"/>
                </a:cubicBezTo>
                <a:cubicBezTo>
                  <a:pt x="441" y="330"/>
                  <a:pt x="442" y="336"/>
                  <a:pt x="438" y="342"/>
                </a:cubicBezTo>
                <a:cubicBezTo>
                  <a:pt x="434" y="348"/>
                  <a:pt x="422" y="351"/>
                  <a:pt x="417" y="360"/>
                </a:cubicBezTo>
                <a:cubicBezTo>
                  <a:pt x="412" y="369"/>
                  <a:pt x="413" y="388"/>
                  <a:pt x="408" y="399"/>
                </a:cubicBezTo>
                <a:cubicBezTo>
                  <a:pt x="403" y="410"/>
                  <a:pt x="393" y="417"/>
                  <a:pt x="384" y="429"/>
                </a:cubicBezTo>
                <a:cubicBezTo>
                  <a:pt x="375" y="441"/>
                  <a:pt x="356" y="461"/>
                  <a:pt x="351" y="471"/>
                </a:cubicBezTo>
                <a:cubicBezTo>
                  <a:pt x="346" y="481"/>
                  <a:pt x="352" y="483"/>
                  <a:pt x="351" y="489"/>
                </a:cubicBezTo>
                <a:cubicBezTo>
                  <a:pt x="350" y="495"/>
                  <a:pt x="348" y="497"/>
                  <a:pt x="345" y="507"/>
                </a:cubicBezTo>
                <a:cubicBezTo>
                  <a:pt x="342" y="517"/>
                  <a:pt x="334" y="541"/>
                  <a:pt x="330" y="552"/>
                </a:cubicBezTo>
                <a:cubicBezTo>
                  <a:pt x="326" y="563"/>
                  <a:pt x="324" y="566"/>
                  <a:pt x="318" y="573"/>
                </a:cubicBezTo>
                <a:cubicBezTo>
                  <a:pt x="312" y="580"/>
                  <a:pt x="305" y="593"/>
                  <a:pt x="294" y="597"/>
                </a:cubicBezTo>
                <a:cubicBezTo>
                  <a:pt x="283" y="601"/>
                  <a:pt x="267" y="600"/>
                  <a:pt x="252" y="597"/>
                </a:cubicBezTo>
                <a:cubicBezTo>
                  <a:pt x="237" y="594"/>
                  <a:pt x="215" y="582"/>
                  <a:pt x="204" y="579"/>
                </a:cubicBezTo>
                <a:cubicBezTo>
                  <a:pt x="193" y="576"/>
                  <a:pt x="193" y="576"/>
                  <a:pt x="186" y="576"/>
                </a:cubicBezTo>
                <a:cubicBezTo>
                  <a:pt x="179" y="576"/>
                  <a:pt x="166" y="577"/>
                  <a:pt x="159" y="576"/>
                </a:cubicBezTo>
                <a:cubicBezTo>
                  <a:pt x="152" y="575"/>
                  <a:pt x="150" y="570"/>
                  <a:pt x="141" y="570"/>
                </a:cubicBezTo>
                <a:cubicBezTo>
                  <a:pt x="132" y="570"/>
                  <a:pt x="115" y="578"/>
                  <a:pt x="106" y="576"/>
                </a:cubicBezTo>
                <a:cubicBezTo>
                  <a:pt x="97" y="574"/>
                  <a:pt x="94" y="565"/>
                  <a:pt x="86" y="556"/>
                </a:cubicBezTo>
                <a:cubicBezTo>
                  <a:pt x="78" y="547"/>
                  <a:pt x="62" y="528"/>
                  <a:pt x="56" y="52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6760" y="3900600"/>
            <a:ext cx="592200" cy="287280"/>
          </a:xfrm>
          <a:custGeom>
            <a:avLst/>
            <a:gdLst/>
            <a:ahLst/>
            <a:rect l="l" t="t" r="r" b="b"/>
            <a:pathLst>
              <a:path w="373" h="181">
                <a:moveTo>
                  <a:pt x="0" y="0"/>
                </a:moveTo>
                <a:cubicBezTo>
                  <a:pt x="1" y="5"/>
                  <a:pt x="2" y="10"/>
                  <a:pt x="12" y="15"/>
                </a:cubicBezTo>
                <a:cubicBezTo>
                  <a:pt x="22" y="20"/>
                  <a:pt x="47" y="27"/>
                  <a:pt x="60" y="30"/>
                </a:cubicBezTo>
                <a:cubicBezTo>
                  <a:pt x="73" y="33"/>
                  <a:pt x="77" y="33"/>
                  <a:pt x="90" y="33"/>
                </a:cubicBezTo>
                <a:cubicBezTo>
                  <a:pt x="103" y="33"/>
                  <a:pt x="129" y="30"/>
                  <a:pt x="141" y="33"/>
                </a:cubicBezTo>
                <a:cubicBezTo>
                  <a:pt x="153" y="36"/>
                  <a:pt x="154" y="46"/>
                  <a:pt x="165" y="51"/>
                </a:cubicBezTo>
                <a:cubicBezTo>
                  <a:pt x="176" y="56"/>
                  <a:pt x="196" y="63"/>
                  <a:pt x="210" y="63"/>
                </a:cubicBezTo>
                <a:cubicBezTo>
                  <a:pt x="224" y="63"/>
                  <a:pt x="241" y="49"/>
                  <a:pt x="252" y="51"/>
                </a:cubicBezTo>
                <a:cubicBezTo>
                  <a:pt x="263" y="53"/>
                  <a:pt x="268" y="66"/>
                  <a:pt x="279" y="75"/>
                </a:cubicBezTo>
                <a:cubicBezTo>
                  <a:pt x="290" y="84"/>
                  <a:pt x="304" y="94"/>
                  <a:pt x="317" y="103"/>
                </a:cubicBezTo>
                <a:cubicBezTo>
                  <a:pt x="330" y="112"/>
                  <a:pt x="348" y="122"/>
                  <a:pt x="355" y="131"/>
                </a:cubicBezTo>
                <a:cubicBezTo>
                  <a:pt x="362" y="140"/>
                  <a:pt x="354" y="149"/>
                  <a:pt x="357" y="157"/>
                </a:cubicBezTo>
                <a:cubicBezTo>
                  <a:pt x="360" y="165"/>
                  <a:pt x="370" y="176"/>
                  <a:pt x="373" y="1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19840" y="4938840"/>
            <a:ext cx="1009440" cy="653760"/>
          </a:xfrm>
          <a:custGeom>
            <a:avLst/>
            <a:gdLst/>
            <a:ahLst/>
            <a:rect l="l" t="t" r="r" b="b"/>
            <a:pathLst>
              <a:path w="636" h="412">
                <a:moveTo>
                  <a:pt x="636" y="375"/>
                </a:moveTo>
                <a:cubicBezTo>
                  <a:pt x="627" y="384"/>
                  <a:pt x="619" y="394"/>
                  <a:pt x="612" y="399"/>
                </a:cubicBezTo>
                <a:cubicBezTo>
                  <a:pt x="605" y="404"/>
                  <a:pt x="602" y="407"/>
                  <a:pt x="591" y="408"/>
                </a:cubicBezTo>
                <a:cubicBezTo>
                  <a:pt x="580" y="409"/>
                  <a:pt x="552" y="412"/>
                  <a:pt x="543" y="408"/>
                </a:cubicBezTo>
                <a:cubicBezTo>
                  <a:pt x="534" y="404"/>
                  <a:pt x="540" y="395"/>
                  <a:pt x="537" y="387"/>
                </a:cubicBezTo>
                <a:cubicBezTo>
                  <a:pt x="534" y="379"/>
                  <a:pt x="533" y="367"/>
                  <a:pt x="528" y="360"/>
                </a:cubicBezTo>
                <a:cubicBezTo>
                  <a:pt x="523" y="353"/>
                  <a:pt x="516" y="351"/>
                  <a:pt x="507" y="345"/>
                </a:cubicBezTo>
                <a:cubicBezTo>
                  <a:pt x="498" y="339"/>
                  <a:pt x="486" y="331"/>
                  <a:pt x="477" y="327"/>
                </a:cubicBezTo>
                <a:cubicBezTo>
                  <a:pt x="468" y="323"/>
                  <a:pt x="466" y="328"/>
                  <a:pt x="453" y="324"/>
                </a:cubicBezTo>
                <a:cubicBezTo>
                  <a:pt x="440" y="320"/>
                  <a:pt x="412" y="305"/>
                  <a:pt x="396" y="300"/>
                </a:cubicBezTo>
                <a:cubicBezTo>
                  <a:pt x="380" y="295"/>
                  <a:pt x="373" y="298"/>
                  <a:pt x="357" y="297"/>
                </a:cubicBezTo>
                <a:cubicBezTo>
                  <a:pt x="341" y="296"/>
                  <a:pt x="315" y="295"/>
                  <a:pt x="300" y="294"/>
                </a:cubicBezTo>
                <a:cubicBezTo>
                  <a:pt x="285" y="293"/>
                  <a:pt x="280" y="295"/>
                  <a:pt x="267" y="294"/>
                </a:cubicBezTo>
                <a:cubicBezTo>
                  <a:pt x="254" y="293"/>
                  <a:pt x="232" y="295"/>
                  <a:pt x="222" y="288"/>
                </a:cubicBezTo>
                <a:cubicBezTo>
                  <a:pt x="212" y="281"/>
                  <a:pt x="209" y="262"/>
                  <a:pt x="204" y="252"/>
                </a:cubicBezTo>
                <a:cubicBezTo>
                  <a:pt x="199" y="242"/>
                  <a:pt x="193" y="235"/>
                  <a:pt x="189" y="228"/>
                </a:cubicBezTo>
                <a:cubicBezTo>
                  <a:pt x="185" y="221"/>
                  <a:pt x="183" y="216"/>
                  <a:pt x="180" y="210"/>
                </a:cubicBezTo>
                <a:cubicBezTo>
                  <a:pt x="177" y="204"/>
                  <a:pt x="172" y="199"/>
                  <a:pt x="168" y="192"/>
                </a:cubicBezTo>
                <a:cubicBezTo>
                  <a:pt x="164" y="185"/>
                  <a:pt x="160" y="179"/>
                  <a:pt x="156" y="168"/>
                </a:cubicBezTo>
                <a:cubicBezTo>
                  <a:pt x="152" y="157"/>
                  <a:pt x="155" y="137"/>
                  <a:pt x="146" y="123"/>
                </a:cubicBezTo>
                <a:cubicBezTo>
                  <a:pt x="137" y="109"/>
                  <a:pt x="111" y="98"/>
                  <a:pt x="104" y="83"/>
                </a:cubicBezTo>
                <a:cubicBezTo>
                  <a:pt x="97" y="68"/>
                  <a:pt x="106" y="42"/>
                  <a:pt x="104" y="31"/>
                </a:cubicBezTo>
                <a:cubicBezTo>
                  <a:pt x="102" y="20"/>
                  <a:pt x="96" y="19"/>
                  <a:pt x="90" y="15"/>
                </a:cubicBezTo>
                <a:cubicBezTo>
                  <a:pt x="84" y="11"/>
                  <a:pt x="76" y="5"/>
                  <a:pt x="70" y="5"/>
                </a:cubicBezTo>
                <a:cubicBezTo>
                  <a:pt x="64" y="5"/>
                  <a:pt x="57" y="17"/>
                  <a:pt x="52" y="17"/>
                </a:cubicBezTo>
                <a:cubicBezTo>
                  <a:pt x="47" y="17"/>
                  <a:pt x="47" y="6"/>
                  <a:pt x="38" y="3"/>
                </a:cubicBezTo>
                <a:cubicBezTo>
                  <a:pt x="29" y="0"/>
                  <a:pt x="8" y="1"/>
                  <a:pt x="0" y="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24480" y="5757840"/>
            <a:ext cx="1257480" cy="571680"/>
          </a:xfrm>
          <a:custGeom>
            <a:avLst/>
            <a:gdLst/>
            <a:ahLst/>
            <a:rect l="l" t="t" r="r" b="b"/>
            <a:pathLst>
              <a:path w="792" h="360">
                <a:moveTo>
                  <a:pt x="792" y="360"/>
                </a:moveTo>
                <a:cubicBezTo>
                  <a:pt x="786" y="352"/>
                  <a:pt x="780" y="344"/>
                  <a:pt x="774" y="339"/>
                </a:cubicBezTo>
                <a:cubicBezTo>
                  <a:pt x="768" y="334"/>
                  <a:pt x="761" y="331"/>
                  <a:pt x="753" y="330"/>
                </a:cubicBezTo>
                <a:cubicBezTo>
                  <a:pt x="745" y="329"/>
                  <a:pt x="733" y="331"/>
                  <a:pt x="726" y="330"/>
                </a:cubicBezTo>
                <a:cubicBezTo>
                  <a:pt x="719" y="329"/>
                  <a:pt x="716" y="324"/>
                  <a:pt x="708" y="321"/>
                </a:cubicBezTo>
                <a:cubicBezTo>
                  <a:pt x="700" y="318"/>
                  <a:pt x="684" y="313"/>
                  <a:pt x="675" y="312"/>
                </a:cubicBezTo>
                <a:cubicBezTo>
                  <a:pt x="666" y="311"/>
                  <a:pt x="661" y="312"/>
                  <a:pt x="654" y="312"/>
                </a:cubicBezTo>
                <a:cubicBezTo>
                  <a:pt x="647" y="312"/>
                  <a:pt x="642" y="315"/>
                  <a:pt x="630" y="315"/>
                </a:cubicBezTo>
                <a:cubicBezTo>
                  <a:pt x="618" y="315"/>
                  <a:pt x="594" y="317"/>
                  <a:pt x="582" y="315"/>
                </a:cubicBezTo>
                <a:cubicBezTo>
                  <a:pt x="570" y="313"/>
                  <a:pt x="565" y="305"/>
                  <a:pt x="558" y="303"/>
                </a:cubicBezTo>
                <a:cubicBezTo>
                  <a:pt x="551" y="301"/>
                  <a:pt x="546" y="305"/>
                  <a:pt x="537" y="300"/>
                </a:cubicBezTo>
                <a:cubicBezTo>
                  <a:pt x="528" y="295"/>
                  <a:pt x="513" y="283"/>
                  <a:pt x="504" y="276"/>
                </a:cubicBezTo>
                <a:cubicBezTo>
                  <a:pt x="495" y="269"/>
                  <a:pt x="491" y="262"/>
                  <a:pt x="483" y="255"/>
                </a:cubicBezTo>
                <a:cubicBezTo>
                  <a:pt x="475" y="248"/>
                  <a:pt x="463" y="235"/>
                  <a:pt x="453" y="231"/>
                </a:cubicBezTo>
                <a:cubicBezTo>
                  <a:pt x="443" y="227"/>
                  <a:pt x="429" y="229"/>
                  <a:pt x="420" y="231"/>
                </a:cubicBezTo>
                <a:cubicBezTo>
                  <a:pt x="411" y="233"/>
                  <a:pt x="411" y="239"/>
                  <a:pt x="402" y="240"/>
                </a:cubicBezTo>
                <a:cubicBezTo>
                  <a:pt x="393" y="241"/>
                  <a:pt x="379" y="237"/>
                  <a:pt x="366" y="234"/>
                </a:cubicBezTo>
                <a:cubicBezTo>
                  <a:pt x="353" y="231"/>
                  <a:pt x="333" y="223"/>
                  <a:pt x="321" y="222"/>
                </a:cubicBezTo>
                <a:cubicBezTo>
                  <a:pt x="309" y="221"/>
                  <a:pt x="302" y="226"/>
                  <a:pt x="294" y="231"/>
                </a:cubicBezTo>
                <a:cubicBezTo>
                  <a:pt x="286" y="236"/>
                  <a:pt x="278" y="248"/>
                  <a:pt x="270" y="252"/>
                </a:cubicBezTo>
                <a:cubicBezTo>
                  <a:pt x="262" y="256"/>
                  <a:pt x="253" y="258"/>
                  <a:pt x="243" y="258"/>
                </a:cubicBezTo>
                <a:cubicBezTo>
                  <a:pt x="233" y="258"/>
                  <a:pt x="218" y="257"/>
                  <a:pt x="210" y="252"/>
                </a:cubicBezTo>
                <a:cubicBezTo>
                  <a:pt x="202" y="247"/>
                  <a:pt x="200" y="235"/>
                  <a:pt x="192" y="228"/>
                </a:cubicBezTo>
                <a:cubicBezTo>
                  <a:pt x="184" y="221"/>
                  <a:pt x="171" y="213"/>
                  <a:pt x="162" y="207"/>
                </a:cubicBezTo>
                <a:cubicBezTo>
                  <a:pt x="153" y="201"/>
                  <a:pt x="144" y="199"/>
                  <a:pt x="135" y="189"/>
                </a:cubicBezTo>
                <a:cubicBezTo>
                  <a:pt x="126" y="179"/>
                  <a:pt x="125" y="160"/>
                  <a:pt x="108" y="150"/>
                </a:cubicBezTo>
                <a:cubicBezTo>
                  <a:pt x="91" y="140"/>
                  <a:pt x="43" y="137"/>
                  <a:pt x="30" y="126"/>
                </a:cubicBezTo>
                <a:cubicBezTo>
                  <a:pt x="17" y="115"/>
                  <a:pt x="28" y="96"/>
                  <a:pt x="27" y="87"/>
                </a:cubicBezTo>
                <a:cubicBezTo>
                  <a:pt x="26" y="78"/>
                  <a:pt x="23" y="76"/>
                  <a:pt x="21" y="69"/>
                </a:cubicBezTo>
                <a:cubicBezTo>
                  <a:pt x="19" y="62"/>
                  <a:pt x="18" y="56"/>
                  <a:pt x="15" y="45"/>
                </a:cubicBezTo>
                <a:cubicBezTo>
                  <a:pt x="12" y="34"/>
                  <a:pt x="2" y="9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89440" y="4316400"/>
            <a:ext cx="2202120" cy="765360"/>
          </a:xfrm>
          <a:custGeom>
            <a:avLst/>
            <a:gdLst/>
            <a:ahLst/>
            <a:rect l="l" t="t" r="r" b="b"/>
            <a:pathLst>
              <a:path w="1387" h="482">
                <a:moveTo>
                  <a:pt x="1387" y="74"/>
                </a:moveTo>
                <a:cubicBezTo>
                  <a:pt x="1384" y="76"/>
                  <a:pt x="1377" y="85"/>
                  <a:pt x="1369" y="86"/>
                </a:cubicBezTo>
                <a:cubicBezTo>
                  <a:pt x="1361" y="87"/>
                  <a:pt x="1347" y="82"/>
                  <a:pt x="1339" y="80"/>
                </a:cubicBezTo>
                <a:cubicBezTo>
                  <a:pt x="1331" y="78"/>
                  <a:pt x="1328" y="70"/>
                  <a:pt x="1321" y="74"/>
                </a:cubicBezTo>
                <a:cubicBezTo>
                  <a:pt x="1314" y="78"/>
                  <a:pt x="1310" y="98"/>
                  <a:pt x="1300" y="104"/>
                </a:cubicBezTo>
                <a:cubicBezTo>
                  <a:pt x="1290" y="110"/>
                  <a:pt x="1271" y="111"/>
                  <a:pt x="1261" y="110"/>
                </a:cubicBezTo>
                <a:cubicBezTo>
                  <a:pt x="1251" y="109"/>
                  <a:pt x="1247" y="105"/>
                  <a:pt x="1240" y="101"/>
                </a:cubicBezTo>
                <a:cubicBezTo>
                  <a:pt x="1233" y="97"/>
                  <a:pt x="1225" y="84"/>
                  <a:pt x="1219" y="83"/>
                </a:cubicBezTo>
                <a:cubicBezTo>
                  <a:pt x="1213" y="82"/>
                  <a:pt x="1210" y="92"/>
                  <a:pt x="1204" y="95"/>
                </a:cubicBezTo>
                <a:cubicBezTo>
                  <a:pt x="1198" y="98"/>
                  <a:pt x="1190" y="100"/>
                  <a:pt x="1183" y="101"/>
                </a:cubicBezTo>
                <a:cubicBezTo>
                  <a:pt x="1176" y="102"/>
                  <a:pt x="1168" y="103"/>
                  <a:pt x="1162" y="101"/>
                </a:cubicBezTo>
                <a:cubicBezTo>
                  <a:pt x="1156" y="99"/>
                  <a:pt x="1151" y="94"/>
                  <a:pt x="1147" y="89"/>
                </a:cubicBezTo>
                <a:cubicBezTo>
                  <a:pt x="1143" y="84"/>
                  <a:pt x="1142" y="73"/>
                  <a:pt x="1135" y="68"/>
                </a:cubicBezTo>
                <a:cubicBezTo>
                  <a:pt x="1128" y="63"/>
                  <a:pt x="1114" y="59"/>
                  <a:pt x="1105" y="56"/>
                </a:cubicBezTo>
                <a:cubicBezTo>
                  <a:pt x="1096" y="53"/>
                  <a:pt x="1088" y="51"/>
                  <a:pt x="1081" y="50"/>
                </a:cubicBezTo>
                <a:cubicBezTo>
                  <a:pt x="1074" y="49"/>
                  <a:pt x="1066" y="46"/>
                  <a:pt x="1060" y="47"/>
                </a:cubicBezTo>
                <a:cubicBezTo>
                  <a:pt x="1054" y="48"/>
                  <a:pt x="1049" y="53"/>
                  <a:pt x="1042" y="56"/>
                </a:cubicBezTo>
                <a:cubicBezTo>
                  <a:pt x="1035" y="59"/>
                  <a:pt x="1022" y="64"/>
                  <a:pt x="1015" y="65"/>
                </a:cubicBezTo>
                <a:cubicBezTo>
                  <a:pt x="1008" y="66"/>
                  <a:pt x="1003" y="65"/>
                  <a:pt x="997" y="65"/>
                </a:cubicBezTo>
                <a:cubicBezTo>
                  <a:pt x="991" y="65"/>
                  <a:pt x="983" y="67"/>
                  <a:pt x="976" y="65"/>
                </a:cubicBezTo>
                <a:cubicBezTo>
                  <a:pt x="969" y="63"/>
                  <a:pt x="962" y="55"/>
                  <a:pt x="955" y="50"/>
                </a:cubicBezTo>
                <a:cubicBezTo>
                  <a:pt x="948" y="45"/>
                  <a:pt x="939" y="37"/>
                  <a:pt x="931" y="32"/>
                </a:cubicBezTo>
                <a:cubicBezTo>
                  <a:pt x="923" y="27"/>
                  <a:pt x="915" y="22"/>
                  <a:pt x="907" y="17"/>
                </a:cubicBezTo>
                <a:cubicBezTo>
                  <a:pt x="899" y="12"/>
                  <a:pt x="893" y="4"/>
                  <a:pt x="883" y="2"/>
                </a:cubicBezTo>
                <a:cubicBezTo>
                  <a:pt x="873" y="0"/>
                  <a:pt x="853" y="1"/>
                  <a:pt x="844" y="5"/>
                </a:cubicBezTo>
                <a:cubicBezTo>
                  <a:pt x="835" y="9"/>
                  <a:pt x="834" y="17"/>
                  <a:pt x="829" y="23"/>
                </a:cubicBezTo>
                <a:cubicBezTo>
                  <a:pt x="824" y="29"/>
                  <a:pt x="819" y="36"/>
                  <a:pt x="817" y="44"/>
                </a:cubicBezTo>
                <a:cubicBezTo>
                  <a:pt x="815" y="52"/>
                  <a:pt x="815" y="66"/>
                  <a:pt x="814" y="74"/>
                </a:cubicBezTo>
                <a:cubicBezTo>
                  <a:pt x="813" y="82"/>
                  <a:pt x="812" y="86"/>
                  <a:pt x="811" y="92"/>
                </a:cubicBezTo>
                <a:cubicBezTo>
                  <a:pt x="810" y="98"/>
                  <a:pt x="811" y="101"/>
                  <a:pt x="811" y="110"/>
                </a:cubicBezTo>
                <a:cubicBezTo>
                  <a:pt x="811" y="119"/>
                  <a:pt x="812" y="136"/>
                  <a:pt x="811" y="146"/>
                </a:cubicBezTo>
                <a:cubicBezTo>
                  <a:pt x="810" y="156"/>
                  <a:pt x="809" y="162"/>
                  <a:pt x="805" y="170"/>
                </a:cubicBezTo>
                <a:cubicBezTo>
                  <a:pt x="801" y="178"/>
                  <a:pt x="792" y="185"/>
                  <a:pt x="787" y="197"/>
                </a:cubicBezTo>
                <a:cubicBezTo>
                  <a:pt x="782" y="209"/>
                  <a:pt x="778" y="232"/>
                  <a:pt x="775" y="242"/>
                </a:cubicBezTo>
                <a:cubicBezTo>
                  <a:pt x="772" y="252"/>
                  <a:pt x="772" y="255"/>
                  <a:pt x="769" y="260"/>
                </a:cubicBezTo>
                <a:cubicBezTo>
                  <a:pt x="766" y="265"/>
                  <a:pt x="758" y="269"/>
                  <a:pt x="757" y="275"/>
                </a:cubicBezTo>
                <a:cubicBezTo>
                  <a:pt x="756" y="281"/>
                  <a:pt x="759" y="290"/>
                  <a:pt x="760" y="296"/>
                </a:cubicBezTo>
                <a:cubicBezTo>
                  <a:pt x="761" y="302"/>
                  <a:pt x="763" y="308"/>
                  <a:pt x="763" y="314"/>
                </a:cubicBezTo>
                <a:cubicBezTo>
                  <a:pt x="763" y="320"/>
                  <a:pt x="766" y="329"/>
                  <a:pt x="763" y="335"/>
                </a:cubicBezTo>
                <a:cubicBezTo>
                  <a:pt x="760" y="341"/>
                  <a:pt x="751" y="346"/>
                  <a:pt x="745" y="350"/>
                </a:cubicBezTo>
                <a:cubicBezTo>
                  <a:pt x="739" y="354"/>
                  <a:pt x="733" y="354"/>
                  <a:pt x="727" y="359"/>
                </a:cubicBezTo>
                <a:cubicBezTo>
                  <a:pt x="721" y="364"/>
                  <a:pt x="712" y="376"/>
                  <a:pt x="709" y="383"/>
                </a:cubicBezTo>
                <a:cubicBezTo>
                  <a:pt x="706" y="390"/>
                  <a:pt x="712" y="394"/>
                  <a:pt x="709" y="401"/>
                </a:cubicBezTo>
                <a:cubicBezTo>
                  <a:pt x="706" y="408"/>
                  <a:pt x="696" y="418"/>
                  <a:pt x="688" y="425"/>
                </a:cubicBezTo>
                <a:cubicBezTo>
                  <a:pt x="680" y="432"/>
                  <a:pt x="669" y="442"/>
                  <a:pt x="661" y="446"/>
                </a:cubicBezTo>
                <a:cubicBezTo>
                  <a:pt x="653" y="450"/>
                  <a:pt x="644" y="451"/>
                  <a:pt x="637" y="452"/>
                </a:cubicBezTo>
                <a:cubicBezTo>
                  <a:pt x="630" y="453"/>
                  <a:pt x="627" y="455"/>
                  <a:pt x="619" y="452"/>
                </a:cubicBezTo>
                <a:cubicBezTo>
                  <a:pt x="611" y="449"/>
                  <a:pt x="595" y="435"/>
                  <a:pt x="586" y="434"/>
                </a:cubicBezTo>
                <a:cubicBezTo>
                  <a:pt x="577" y="433"/>
                  <a:pt x="569" y="442"/>
                  <a:pt x="562" y="443"/>
                </a:cubicBezTo>
                <a:cubicBezTo>
                  <a:pt x="555" y="444"/>
                  <a:pt x="548" y="442"/>
                  <a:pt x="541" y="440"/>
                </a:cubicBezTo>
                <a:cubicBezTo>
                  <a:pt x="534" y="438"/>
                  <a:pt x="523" y="430"/>
                  <a:pt x="517" y="431"/>
                </a:cubicBezTo>
                <a:cubicBezTo>
                  <a:pt x="511" y="432"/>
                  <a:pt x="510" y="442"/>
                  <a:pt x="505" y="446"/>
                </a:cubicBezTo>
                <a:cubicBezTo>
                  <a:pt x="500" y="450"/>
                  <a:pt x="495" y="457"/>
                  <a:pt x="487" y="455"/>
                </a:cubicBezTo>
                <a:cubicBezTo>
                  <a:pt x="479" y="453"/>
                  <a:pt x="466" y="436"/>
                  <a:pt x="457" y="434"/>
                </a:cubicBezTo>
                <a:cubicBezTo>
                  <a:pt x="448" y="432"/>
                  <a:pt x="440" y="439"/>
                  <a:pt x="433" y="443"/>
                </a:cubicBezTo>
                <a:cubicBezTo>
                  <a:pt x="426" y="447"/>
                  <a:pt x="427" y="455"/>
                  <a:pt x="418" y="461"/>
                </a:cubicBezTo>
                <a:cubicBezTo>
                  <a:pt x="409" y="467"/>
                  <a:pt x="388" y="476"/>
                  <a:pt x="379" y="479"/>
                </a:cubicBezTo>
                <a:cubicBezTo>
                  <a:pt x="370" y="482"/>
                  <a:pt x="366" y="481"/>
                  <a:pt x="361" y="479"/>
                </a:cubicBezTo>
                <a:cubicBezTo>
                  <a:pt x="356" y="477"/>
                  <a:pt x="351" y="471"/>
                  <a:pt x="346" y="467"/>
                </a:cubicBezTo>
                <a:cubicBezTo>
                  <a:pt x="341" y="463"/>
                  <a:pt x="335" y="460"/>
                  <a:pt x="331" y="455"/>
                </a:cubicBezTo>
                <a:cubicBezTo>
                  <a:pt x="327" y="450"/>
                  <a:pt x="326" y="445"/>
                  <a:pt x="320" y="435"/>
                </a:cubicBezTo>
                <a:cubicBezTo>
                  <a:pt x="314" y="425"/>
                  <a:pt x="304" y="407"/>
                  <a:pt x="296" y="397"/>
                </a:cubicBezTo>
                <a:cubicBezTo>
                  <a:pt x="288" y="387"/>
                  <a:pt x="278" y="380"/>
                  <a:pt x="270" y="373"/>
                </a:cubicBezTo>
                <a:cubicBezTo>
                  <a:pt x="262" y="366"/>
                  <a:pt x="254" y="362"/>
                  <a:pt x="248" y="353"/>
                </a:cubicBezTo>
                <a:cubicBezTo>
                  <a:pt x="242" y="344"/>
                  <a:pt x="239" y="326"/>
                  <a:pt x="236" y="317"/>
                </a:cubicBezTo>
                <a:cubicBezTo>
                  <a:pt x="233" y="308"/>
                  <a:pt x="231" y="303"/>
                  <a:pt x="228" y="297"/>
                </a:cubicBezTo>
                <a:cubicBezTo>
                  <a:pt x="225" y="291"/>
                  <a:pt x="225" y="283"/>
                  <a:pt x="220" y="279"/>
                </a:cubicBezTo>
                <a:cubicBezTo>
                  <a:pt x="215" y="275"/>
                  <a:pt x="205" y="274"/>
                  <a:pt x="198" y="273"/>
                </a:cubicBezTo>
                <a:cubicBezTo>
                  <a:pt x="191" y="272"/>
                  <a:pt x="184" y="274"/>
                  <a:pt x="178" y="272"/>
                </a:cubicBezTo>
                <a:cubicBezTo>
                  <a:pt x="172" y="270"/>
                  <a:pt x="169" y="264"/>
                  <a:pt x="160" y="259"/>
                </a:cubicBezTo>
                <a:cubicBezTo>
                  <a:pt x="151" y="254"/>
                  <a:pt x="134" y="247"/>
                  <a:pt x="122" y="245"/>
                </a:cubicBezTo>
                <a:cubicBezTo>
                  <a:pt x="110" y="243"/>
                  <a:pt x="98" y="250"/>
                  <a:pt x="86" y="249"/>
                </a:cubicBezTo>
                <a:cubicBezTo>
                  <a:pt x="74" y="248"/>
                  <a:pt x="64" y="234"/>
                  <a:pt x="50" y="239"/>
                </a:cubicBezTo>
                <a:cubicBezTo>
                  <a:pt x="36" y="244"/>
                  <a:pt x="10" y="269"/>
                  <a:pt x="0" y="27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4040" y="4327560"/>
            <a:ext cx="681120" cy="606240"/>
          </a:xfrm>
          <a:custGeom>
            <a:avLst/>
            <a:gdLst/>
            <a:ahLst/>
            <a:rect l="l" t="t" r="r" b="b"/>
            <a:pathLst>
              <a:path w="429" h="382">
                <a:moveTo>
                  <a:pt x="429" y="376"/>
                </a:moveTo>
                <a:cubicBezTo>
                  <a:pt x="420" y="376"/>
                  <a:pt x="384" y="382"/>
                  <a:pt x="372" y="379"/>
                </a:cubicBezTo>
                <a:cubicBezTo>
                  <a:pt x="360" y="376"/>
                  <a:pt x="362" y="361"/>
                  <a:pt x="357" y="355"/>
                </a:cubicBezTo>
                <a:cubicBezTo>
                  <a:pt x="352" y="349"/>
                  <a:pt x="348" y="344"/>
                  <a:pt x="342" y="340"/>
                </a:cubicBezTo>
                <a:cubicBezTo>
                  <a:pt x="336" y="336"/>
                  <a:pt x="328" y="330"/>
                  <a:pt x="321" y="328"/>
                </a:cubicBezTo>
                <a:cubicBezTo>
                  <a:pt x="314" y="326"/>
                  <a:pt x="305" y="328"/>
                  <a:pt x="297" y="328"/>
                </a:cubicBezTo>
                <a:cubicBezTo>
                  <a:pt x="289" y="328"/>
                  <a:pt x="281" y="335"/>
                  <a:pt x="273" y="331"/>
                </a:cubicBezTo>
                <a:cubicBezTo>
                  <a:pt x="265" y="327"/>
                  <a:pt x="253" y="312"/>
                  <a:pt x="249" y="304"/>
                </a:cubicBezTo>
                <a:cubicBezTo>
                  <a:pt x="245" y="296"/>
                  <a:pt x="247" y="289"/>
                  <a:pt x="246" y="283"/>
                </a:cubicBezTo>
                <a:cubicBezTo>
                  <a:pt x="245" y="277"/>
                  <a:pt x="244" y="272"/>
                  <a:pt x="243" y="265"/>
                </a:cubicBezTo>
                <a:cubicBezTo>
                  <a:pt x="242" y="258"/>
                  <a:pt x="240" y="246"/>
                  <a:pt x="240" y="238"/>
                </a:cubicBezTo>
                <a:cubicBezTo>
                  <a:pt x="240" y="230"/>
                  <a:pt x="244" y="222"/>
                  <a:pt x="240" y="217"/>
                </a:cubicBezTo>
                <a:cubicBezTo>
                  <a:pt x="236" y="212"/>
                  <a:pt x="219" y="211"/>
                  <a:pt x="216" y="205"/>
                </a:cubicBezTo>
                <a:cubicBezTo>
                  <a:pt x="213" y="199"/>
                  <a:pt x="219" y="189"/>
                  <a:pt x="219" y="181"/>
                </a:cubicBezTo>
                <a:cubicBezTo>
                  <a:pt x="219" y="173"/>
                  <a:pt x="222" y="162"/>
                  <a:pt x="219" y="154"/>
                </a:cubicBezTo>
                <a:cubicBezTo>
                  <a:pt x="216" y="146"/>
                  <a:pt x="208" y="138"/>
                  <a:pt x="198" y="133"/>
                </a:cubicBezTo>
                <a:cubicBezTo>
                  <a:pt x="188" y="128"/>
                  <a:pt x="165" y="131"/>
                  <a:pt x="156" y="127"/>
                </a:cubicBezTo>
                <a:cubicBezTo>
                  <a:pt x="147" y="123"/>
                  <a:pt x="149" y="119"/>
                  <a:pt x="144" y="112"/>
                </a:cubicBezTo>
                <a:cubicBezTo>
                  <a:pt x="139" y="105"/>
                  <a:pt x="129" y="93"/>
                  <a:pt x="123" y="85"/>
                </a:cubicBezTo>
                <a:cubicBezTo>
                  <a:pt x="117" y="77"/>
                  <a:pt x="112" y="66"/>
                  <a:pt x="105" y="61"/>
                </a:cubicBezTo>
                <a:cubicBezTo>
                  <a:pt x="98" y="56"/>
                  <a:pt x="89" y="55"/>
                  <a:pt x="81" y="52"/>
                </a:cubicBezTo>
                <a:cubicBezTo>
                  <a:pt x="73" y="49"/>
                  <a:pt x="59" y="46"/>
                  <a:pt x="54" y="40"/>
                </a:cubicBezTo>
                <a:cubicBezTo>
                  <a:pt x="49" y="34"/>
                  <a:pt x="52" y="19"/>
                  <a:pt x="48" y="13"/>
                </a:cubicBezTo>
                <a:cubicBezTo>
                  <a:pt x="44" y="7"/>
                  <a:pt x="36" y="4"/>
                  <a:pt x="28" y="2"/>
                </a:cubicBezTo>
                <a:cubicBezTo>
                  <a:pt x="20" y="0"/>
                  <a:pt x="6" y="2"/>
                  <a:pt x="0" y="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53040" y="4222800"/>
            <a:ext cx="85680" cy="128520"/>
          </a:xfrm>
          <a:custGeom>
            <a:avLst/>
            <a:gdLst/>
            <a:ahLst/>
            <a:rect l="l" t="t" r="r" b="b"/>
            <a:pathLst>
              <a:path w="54" h="81">
                <a:moveTo>
                  <a:pt x="0" y="15"/>
                </a:moveTo>
                <a:lnTo>
                  <a:pt x="18" y="0"/>
                </a:lnTo>
                <a:lnTo>
                  <a:pt x="36" y="15"/>
                </a:lnTo>
                <a:lnTo>
                  <a:pt x="42" y="39"/>
                </a:lnTo>
                <a:lnTo>
                  <a:pt x="54" y="69"/>
                </a:lnTo>
                <a:lnTo>
                  <a:pt x="39" y="81"/>
                </a:lnTo>
                <a:lnTo>
                  <a:pt x="9" y="78"/>
                </a:lnTo>
                <a:lnTo>
                  <a:pt x="6" y="60"/>
                </a:lnTo>
                <a:lnTo>
                  <a:pt x="6" y="39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72120" y="3924360"/>
            <a:ext cx="1005120" cy="395280"/>
          </a:xfrm>
          <a:custGeom>
            <a:avLst/>
            <a:gdLst/>
            <a:ahLst/>
            <a:rect l="l" t="t" r="r" b="b"/>
            <a:pathLst>
              <a:path w="633" h="249">
                <a:moveTo>
                  <a:pt x="633" y="249"/>
                </a:moveTo>
                <a:cubicBezTo>
                  <a:pt x="624" y="236"/>
                  <a:pt x="615" y="223"/>
                  <a:pt x="612" y="213"/>
                </a:cubicBezTo>
                <a:cubicBezTo>
                  <a:pt x="609" y="203"/>
                  <a:pt x="612" y="196"/>
                  <a:pt x="612" y="189"/>
                </a:cubicBezTo>
                <a:cubicBezTo>
                  <a:pt x="612" y="182"/>
                  <a:pt x="613" y="177"/>
                  <a:pt x="612" y="171"/>
                </a:cubicBezTo>
                <a:cubicBezTo>
                  <a:pt x="611" y="165"/>
                  <a:pt x="605" y="157"/>
                  <a:pt x="603" y="150"/>
                </a:cubicBezTo>
                <a:cubicBezTo>
                  <a:pt x="601" y="143"/>
                  <a:pt x="601" y="136"/>
                  <a:pt x="600" y="129"/>
                </a:cubicBezTo>
                <a:cubicBezTo>
                  <a:pt x="599" y="122"/>
                  <a:pt x="599" y="114"/>
                  <a:pt x="600" y="108"/>
                </a:cubicBezTo>
                <a:cubicBezTo>
                  <a:pt x="601" y="102"/>
                  <a:pt x="603" y="96"/>
                  <a:pt x="606" y="90"/>
                </a:cubicBezTo>
                <a:cubicBezTo>
                  <a:pt x="609" y="84"/>
                  <a:pt x="617" y="78"/>
                  <a:pt x="621" y="69"/>
                </a:cubicBezTo>
                <a:cubicBezTo>
                  <a:pt x="625" y="60"/>
                  <a:pt x="631" y="44"/>
                  <a:pt x="630" y="36"/>
                </a:cubicBezTo>
                <a:cubicBezTo>
                  <a:pt x="629" y="28"/>
                  <a:pt x="617" y="26"/>
                  <a:pt x="612" y="21"/>
                </a:cubicBezTo>
                <a:cubicBezTo>
                  <a:pt x="607" y="16"/>
                  <a:pt x="605" y="9"/>
                  <a:pt x="600" y="6"/>
                </a:cubicBezTo>
                <a:cubicBezTo>
                  <a:pt x="595" y="3"/>
                  <a:pt x="589" y="0"/>
                  <a:pt x="582" y="0"/>
                </a:cubicBezTo>
                <a:cubicBezTo>
                  <a:pt x="575" y="0"/>
                  <a:pt x="562" y="1"/>
                  <a:pt x="555" y="3"/>
                </a:cubicBezTo>
                <a:cubicBezTo>
                  <a:pt x="548" y="5"/>
                  <a:pt x="545" y="10"/>
                  <a:pt x="537" y="12"/>
                </a:cubicBezTo>
                <a:cubicBezTo>
                  <a:pt x="529" y="14"/>
                  <a:pt x="517" y="12"/>
                  <a:pt x="504" y="15"/>
                </a:cubicBezTo>
                <a:cubicBezTo>
                  <a:pt x="491" y="18"/>
                  <a:pt x="467" y="30"/>
                  <a:pt x="456" y="33"/>
                </a:cubicBezTo>
                <a:cubicBezTo>
                  <a:pt x="445" y="36"/>
                  <a:pt x="445" y="34"/>
                  <a:pt x="438" y="33"/>
                </a:cubicBezTo>
                <a:cubicBezTo>
                  <a:pt x="431" y="32"/>
                  <a:pt x="420" y="28"/>
                  <a:pt x="411" y="27"/>
                </a:cubicBezTo>
                <a:cubicBezTo>
                  <a:pt x="402" y="26"/>
                  <a:pt x="395" y="25"/>
                  <a:pt x="384" y="27"/>
                </a:cubicBezTo>
                <a:cubicBezTo>
                  <a:pt x="373" y="29"/>
                  <a:pt x="357" y="40"/>
                  <a:pt x="345" y="39"/>
                </a:cubicBezTo>
                <a:cubicBezTo>
                  <a:pt x="333" y="38"/>
                  <a:pt x="321" y="24"/>
                  <a:pt x="312" y="24"/>
                </a:cubicBezTo>
                <a:cubicBezTo>
                  <a:pt x="303" y="24"/>
                  <a:pt x="297" y="31"/>
                  <a:pt x="288" y="36"/>
                </a:cubicBezTo>
                <a:cubicBezTo>
                  <a:pt x="279" y="41"/>
                  <a:pt x="268" y="54"/>
                  <a:pt x="255" y="57"/>
                </a:cubicBezTo>
                <a:cubicBezTo>
                  <a:pt x="242" y="60"/>
                  <a:pt x="220" y="57"/>
                  <a:pt x="207" y="57"/>
                </a:cubicBezTo>
                <a:cubicBezTo>
                  <a:pt x="194" y="57"/>
                  <a:pt x="184" y="54"/>
                  <a:pt x="174" y="54"/>
                </a:cubicBezTo>
                <a:cubicBezTo>
                  <a:pt x="164" y="54"/>
                  <a:pt x="155" y="56"/>
                  <a:pt x="147" y="57"/>
                </a:cubicBezTo>
                <a:cubicBezTo>
                  <a:pt x="139" y="58"/>
                  <a:pt x="134" y="60"/>
                  <a:pt x="126" y="60"/>
                </a:cubicBezTo>
                <a:cubicBezTo>
                  <a:pt x="118" y="60"/>
                  <a:pt x="106" y="59"/>
                  <a:pt x="99" y="57"/>
                </a:cubicBezTo>
                <a:cubicBezTo>
                  <a:pt x="92" y="55"/>
                  <a:pt x="89" y="48"/>
                  <a:pt x="81" y="45"/>
                </a:cubicBezTo>
                <a:cubicBezTo>
                  <a:pt x="73" y="42"/>
                  <a:pt x="60" y="39"/>
                  <a:pt x="51" y="39"/>
                </a:cubicBezTo>
                <a:cubicBezTo>
                  <a:pt x="42" y="39"/>
                  <a:pt x="35" y="47"/>
                  <a:pt x="27" y="45"/>
                </a:cubicBezTo>
                <a:cubicBezTo>
                  <a:pt x="19" y="43"/>
                  <a:pt x="5" y="31"/>
                  <a:pt x="0" y="2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96200" y="3100320"/>
            <a:ext cx="552240" cy="82872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303" y="522"/>
                </a:moveTo>
                <a:cubicBezTo>
                  <a:pt x="307" y="510"/>
                  <a:pt x="312" y="499"/>
                  <a:pt x="312" y="489"/>
                </a:cubicBezTo>
                <a:cubicBezTo>
                  <a:pt x="312" y="479"/>
                  <a:pt x="301" y="470"/>
                  <a:pt x="300" y="462"/>
                </a:cubicBezTo>
                <a:cubicBezTo>
                  <a:pt x="299" y="454"/>
                  <a:pt x="304" y="445"/>
                  <a:pt x="306" y="438"/>
                </a:cubicBezTo>
                <a:cubicBezTo>
                  <a:pt x="308" y="431"/>
                  <a:pt x="311" y="426"/>
                  <a:pt x="312" y="420"/>
                </a:cubicBezTo>
                <a:cubicBezTo>
                  <a:pt x="313" y="414"/>
                  <a:pt x="313" y="409"/>
                  <a:pt x="315" y="402"/>
                </a:cubicBezTo>
                <a:cubicBezTo>
                  <a:pt x="317" y="395"/>
                  <a:pt x="320" y="386"/>
                  <a:pt x="324" y="378"/>
                </a:cubicBezTo>
                <a:cubicBezTo>
                  <a:pt x="328" y="370"/>
                  <a:pt x="335" y="359"/>
                  <a:pt x="339" y="351"/>
                </a:cubicBezTo>
                <a:cubicBezTo>
                  <a:pt x="343" y="343"/>
                  <a:pt x="348" y="335"/>
                  <a:pt x="348" y="327"/>
                </a:cubicBezTo>
                <a:cubicBezTo>
                  <a:pt x="348" y="319"/>
                  <a:pt x="346" y="309"/>
                  <a:pt x="342" y="303"/>
                </a:cubicBezTo>
                <a:cubicBezTo>
                  <a:pt x="338" y="297"/>
                  <a:pt x="326" y="294"/>
                  <a:pt x="321" y="288"/>
                </a:cubicBezTo>
                <a:cubicBezTo>
                  <a:pt x="316" y="282"/>
                  <a:pt x="316" y="271"/>
                  <a:pt x="312" y="264"/>
                </a:cubicBezTo>
                <a:cubicBezTo>
                  <a:pt x="308" y="257"/>
                  <a:pt x="301" y="253"/>
                  <a:pt x="294" y="246"/>
                </a:cubicBezTo>
                <a:cubicBezTo>
                  <a:pt x="287" y="239"/>
                  <a:pt x="278" y="230"/>
                  <a:pt x="270" y="222"/>
                </a:cubicBezTo>
                <a:cubicBezTo>
                  <a:pt x="262" y="214"/>
                  <a:pt x="255" y="204"/>
                  <a:pt x="246" y="198"/>
                </a:cubicBezTo>
                <a:cubicBezTo>
                  <a:pt x="237" y="192"/>
                  <a:pt x="224" y="191"/>
                  <a:pt x="216" y="186"/>
                </a:cubicBezTo>
                <a:cubicBezTo>
                  <a:pt x="208" y="181"/>
                  <a:pt x="202" y="168"/>
                  <a:pt x="195" y="165"/>
                </a:cubicBezTo>
                <a:cubicBezTo>
                  <a:pt x="188" y="162"/>
                  <a:pt x="179" y="165"/>
                  <a:pt x="171" y="165"/>
                </a:cubicBezTo>
                <a:cubicBezTo>
                  <a:pt x="163" y="165"/>
                  <a:pt x="162" y="168"/>
                  <a:pt x="147" y="165"/>
                </a:cubicBezTo>
                <a:cubicBezTo>
                  <a:pt x="132" y="162"/>
                  <a:pt x="91" y="154"/>
                  <a:pt x="81" y="147"/>
                </a:cubicBezTo>
                <a:cubicBezTo>
                  <a:pt x="71" y="140"/>
                  <a:pt x="86" y="129"/>
                  <a:pt x="84" y="123"/>
                </a:cubicBezTo>
                <a:cubicBezTo>
                  <a:pt x="82" y="117"/>
                  <a:pt x="72" y="114"/>
                  <a:pt x="66" y="111"/>
                </a:cubicBezTo>
                <a:cubicBezTo>
                  <a:pt x="60" y="108"/>
                  <a:pt x="52" y="106"/>
                  <a:pt x="45" y="105"/>
                </a:cubicBezTo>
                <a:cubicBezTo>
                  <a:pt x="38" y="104"/>
                  <a:pt x="29" y="106"/>
                  <a:pt x="24" y="104"/>
                </a:cubicBezTo>
                <a:cubicBezTo>
                  <a:pt x="19" y="102"/>
                  <a:pt x="16" y="98"/>
                  <a:pt x="12" y="93"/>
                </a:cubicBezTo>
                <a:cubicBezTo>
                  <a:pt x="8" y="88"/>
                  <a:pt x="2" y="82"/>
                  <a:pt x="2" y="74"/>
                </a:cubicBezTo>
                <a:cubicBezTo>
                  <a:pt x="2" y="66"/>
                  <a:pt x="9" y="50"/>
                  <a:pt x="9" y="42"/>
                </a:cubicBezTo>
                <a:cubicBezTo>
                  <a:pt x="9" y="34"/>
                  <a:pt x="4" y="31"/>
                  <a:pt x="3" y="24"/>
                </a:cubicBezTo>
                <a:cubicBezTo>
                  <a:pt x="2" y="17"/>
                  <a:pt x="1" y="6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581280"/>
            <a:ext cx="633240" cy="362160"/>
          </a:xfrm>
          <a:custGeom>
            <a:avLst/>
            <a:gdLst/>
            <a:ahLst/>
            <a:rect l="l" t="t" r="r" b="b"/>
            <a:pathLst>
              <a:path w="399" h="228">
                <a:moveTo>
                  <a:pt x="399" y="228"/>
                </a:moveTo>
                <a:cubicBezTo>
                  <a:pt x="394" y="223"/>
                  <a:pt x="390" y="219"/>
                  <a:pt x="384" y="213"/>
                </a:cubicBezTo>
                <a:cubicBezTo>
                  <a:pt x="378" y="207"/>
                  <a:pt x="370" y="195"/>
                  <a:pt x="363" y="192"/>
                </a:cubicBezTo>
                <a:cubicBezTo>
                  <a:pt x="356" y="189"/>
                  <a:pt x="347" y="192"/>
                  <a:pt x="339" y="192"/>
                </a:cubicBezTo>
                <a:cubicBezTo>
                  <a:pt x="331" y="192"/>
                  <a:pt x="321" y="192"/>
                  <a:pt x="312" y="192"/>
                </a:cubicBezTo>
                <a:cubicBezTo>
                  <a:pt x="303" y="192"/>
                  <a:pt x="292" y="196"/>
                  <a:pt x="285" y="192"/>
                </a:cubicBezTo>
                <a:cubicBezTo>
                  <a:pt x="278" y="188"/>
                  <a:pt x="276" y="175"/>
                  <a:pt x="273" y="168"/>
                </a:cubicBezTo>
                <a:cubicBezTo>
                  <a:pt x="270" y="161"/>
                  <a:pt x="265" y="156"/>
                  <a:pt x="264" y="150"/>
                </a:cubicBezTo>
                <a:cubicBezTo>
                  <a:pt x="263" y="144"/>
                  <a:pt x="268" y="136"/>
                  <a:pt x="264" y="132"/>
                </a:cubicBezTo>
                <a:cubicBezTo>
                  <a:pt x="260" y="128"/>
                  <a:pt x="246" y="122"/>
                  <a:pt x="237" y="123"/>
                </a:cubicBezTo>
                <a:cubicBezTo>
                  <a:pt x="228" y="124"/>
                  <a:pt x="215" y="136"/>
                  <a:pt x="207" y="138"/>
                </a:cubicBezTo>
                <a:cubicBezTo>
                  <a:pt x="199" y="140"/>
                  <a:pt x="192" y="140"/>
                  <a:pt x="186" y="138"/>
                </a:cubicBezTo>
                <a:cubicBezTo>
                  <a:pt x="180" y="136"/>
                  <a:pt x="177" y="131"/>
                  <a:pt x="171" y="126"/>
                </a:cubicBezTo>
                <a:cubicBezTo>
                  <a:pt x="165" y="121"/>
                  <a:pt x="157" y="112"/>
                  <a:pt x="150" y="108"/>
                </a:cubicBezTo>
                <a:cubicBezTo>
                  <a:pt x="143" y="104"/>
                  <a:pt x="131" y="106"/>
                  <a:pt x="126" y="102"/>
                </a:cubicBezTo>
                <a:cubicBezTo>
                  <a:pt x="121" y="98"/>
                  <a:pt x="133" y="89"/>
                  <a:pt x="123" y="84"/>
                </a:cubicBezTo>
                <a:cubicBezTo>
                  <a:pt x="113" y="79"/>
                  <a:pt x="76" y="77"/>
                  <a:pt x="63" y="72"/>
                </a:cubicBezTo>
                <a:cubicBezTo>
                  <a:pt x="50" y="67"/>
                  <a:pt x="49" y="59"/>
                  <a:pt x="44" y="53"/>
                </a:cubicBezTo>
                <a:cubicBezTo>
                  <a:pt x="39" y="47"/>
                  <a:pt x="34" y="40"/>
                  <a:pt x="30" y="33"/>
                </a:cubicBezTo>
                <a:cubicBezTo>
                  <a:pt x="26" y="26"/>
                  <a:pt x="26" y="14"/>
                  <a:pt x="21" y="9"/>
                </a:cubicBezTo>
                <a:cubicBezTo>
                  <a:pt x="16" y="4"/>
                  <a:pt x="7" y="2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00720" y="3738600"/>
            <a:ext cx="147600" cy="108000"/>
          </a:xfrm>
          <a:custGeom>
            <a:avLst/>
            <a:gdLst/>
            <a:ahLst/>
            <a:rect l="l" t="t" r="r" b="b"/>
            <a:pathLst>
              <a:path w="93" h="68">
                <a:moveTo>
                  <a:pt x="93" y="3"/>
                </a:moveTo>
                <a:cubicBezTo>
                  <a:pt x="87" y="1"/>
                  <a:pt x="81" y="0"/>
                  <a:pt x="75" y="3"/>
                </a:cubicBezTo>
                <a:cubicBezTo>
                  <a:pt x="69" y="6"/>
                  <a:pt x="63" y="21"/>
                  <a:pt x="57" y="24"/>
                </a:cubicBezTo>
                <a:cubicBezTo>
                  <a:pt x="51" y="27"/>
                  <a:pt x="42" y="21"/>
                  <a:pt x="36" y="24"/>
                </a:cubicBezTo>
                <a:cubicBezTo>
                  <a:pt x="30" y="27"/>
                  <a:pt x="29" y="35"/>
                  <a:pt x="23" y="42"/>
                </a:cubicBezTo>
                <a:cubicBezTo>
                  <a:pt x="17" y="49"/>
                  <a:pt x="5" y="63"/>
                  <a:pt x="0" y="68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3414600"/>
            <a:ext cx="538200" cy="1067040"/>
          </a:xfrm>
          <a:custGeom>
            <a:avLst/>
            <a:gdLst/>
            <a:ahLst/>
            <a:rect l="l" t="t" r="r" b="b"/>
            <a:pathLst>
              <a:path w="339" h="672">
                <a:moveTo>
                  <a:pt x="339" y="0"/>
                </a:moveTo>
                <a:cubicBezTo>
                  <a:pt x="330" y="6"/>
                  <a:pt x="321" y="13"/>
                  <a:pt x="315" y="18"/>
                </a:cubicBezTo>
                <a:cubicBezTo>
                  <a:pt x="309" y="23"/>
                  <a:pt x="303" y="26"/>
                  <a:pt x="300" y="33"/>
                </a:cubicBezTo>
                <a:cubicBezTo>
                  <a:pt x="297" y="40"/>
                  <a:pt x="296" y="50"/>
                  <a:pt x="294" y="60"/>
                </a:cubicBezTo>
                <a:cubicBezTo>
                  <a:pt x="292" y="70"/>
                  <a:pt x="289" y="84"/>
                  <a:pt x="288" y="93"/>
                </a:cubicBezTo>
                <a:cubicBezTo>
                  <a:pt x="287" y="102"/>
                  <a:pt x="288" y="105"/>
                  <a:pt x="288" y="114"/>
                </a:cubicBezTo>
                <a:cubicBezTo>
                  <a:pt x="288" y="123"/>
                  <a:pt x="290" y="136"/>
                  <a:pt x="288" y="147"/>
                </a:cubicBezTo>
                <a:cubicBezTo>
                  <a:pt x="286" y="158"/>
                  <a:pt x="278" y="170"/>
                  <a:pt x="276" y="180"/>
                </a:cubicBezTo>
                <a:cubicBezTo>
                  <a:pt x="274" y="190"/>
                  <a:pt x="278" y="200"/>
                  <a:pt x="276" y="207"/>
                </a:cubicBezTo>
                <a:cubicBezTo>
                  <a:pt x="274" y="214"/>
                  <a:pt x="266" y="224"/>
                  <a:pt x="261" y="225"/>
                </a:cubicBezTo>
                <a:cubicBezTo>
                  <a:pt x="256" y="226"/>
                  <a:pt x="249" y="219"/>
                  <a:pt x="243" y="216"/>
                </a:cubicBezTo>
                <a:cubicBezTo>
                  <a:pt x="237" y="213"/>
                  <a:pt x="231" y="208"/>
                  <a:pt x="225" y="207"/>
                </a:cubicBezTo>
                <a:cubicBezTo>
                  <a:pt x="219" y="206"/>
                  <a:pt x="210" y="208"/>
                  <a:pt x="204" y="210"/>
                </a:cubicBezTo>
                <a:cubicBezTo>
                  <a:pt x="198" y="212"/>
                  <a:pt x="194" y="218"/>
                  <a:pt x="189" y="222"/>
                </a:cubicBezTo>
                <a:cubicBezTo>
                  <a:pt x="184" y="226"/>
                  <a:pt x="180" y="229"/>
                  <a:pt x="174" y="234"/>
                </a:cubicBezTo>
                <a:cubicBezTo>
                  <a:pt x="168" y="239"/>
                  <a:pt x="158" y="246"/>
                  <a:pt x="153" y="252"/>
                </a:cubicBezTo>
                <a:cubicBezTo>
                  <a:pt x="148" y="258"/>
                  <a:pt x="146" y="260"/>
                  <a:pt x="144" y="270"/>
                </a:cubicBezTo>
                <a:cubicBezTo>
                  <a:pt x="142" y="280"/>
                  <a:pt x="142" y="305"/>
                  <a:pt x="141" y="315"/>
                </a:cubicBezTo>
                <a:cubicBezTo>
                  <a:pt x="140" y="325"/>
                  <a:pt x="139" y="327"/>
                  <a:pt x="138" y="333"/>
                </a:cubicBezTo>
                <a:cubicBezTo>
                  <a:pt x="137" y="339"/>
                  <a:pt x="133" y="348"/>
                  <a:pt x="132" y="354"/>
                </a:cubicBezTo>
                <a:cubicBezTo>
                  <a:pt x="131" y="360"/>
                  <a:pt x="133" y="366"/>
                  <a:pt x="132" y="372"/>
                </a:cubicBezTo>
                <a:cubicBezTo>
                  <a:pt x="131" y="378"/>
                  <a:pt x="129" y="384"/>
                  <a:pt x="126" y="390"/>
                </a:cubicBezTo>
                <a:cubicBezTo>
                  <a:pt x="123" y="396"/>
                  <a:pt x="118" y="402"/>
                  <a:pt x="114" y="408"/>
                </a:cubicBezTo>
                <a:cubicBezTo>
                  <a:pt x="110" y="414"/>
                  <a:pt x="105" y="421"/>
                  <a:pt x="99" y="426"/>
                </a:cubicBezTo>
                <a:cubicBezTo>
                  <a:pt x="93" y="431"/>
                  <a:pt x="83" y="433"/>
                  <a:pt x="75" y="441"/>
                </a:cubicBezTo>
                <a:cubicBezTo>
                  <a:pt x="67" y="449"/>
                  <a:pt x="57" y="464"/>
                  <a:pt x="51" y="474"/>
                </a:cubicBezTo>
                <a:cubicBezTo>
                  <a:pt x="45" y="484"/>
                  <a:pt x="42" y="494"/>
                  <a:pt x="39" y="501"/>
                </a:cubicBezTo>
                <a:cubicBezTo>
                  <a:pt x="36" y="508"/>
                  <a:pt x="36" y="513"/>
                  <a:pt x="33" y="519"/>
                </a:cubicBezTo>
                <a:cubicBezTo>
                  <a:pt x="30" y="525"/>
                  <a:pt x="22" y="532"/>
                  <a:pt x="18" y="540"/>
                </a:cubicBezTo>
                <a:cubicBezTo>
                  <a:pt x="14" y="548"/>
                  <a:pt x="11" y="559"/>
                  <a:pt x="9" y="567"/>
                </a:cubicBezTo>
                <a:cubicBezTo>
                  <a:pt x="7" y="575"/>
                  <a:pt x="8" y="579"/>
                  <a:pt x="6" y="588"/>
                </a:cubicBezTo>
                <a:cubicBezTo>
                  <a:pt x="4" y="597"/>
                  <a:pt x="0" y="610"/>
                  <a:pt x="0" y="618"/>
                </a:cubicBezTo>
                <a:cubicBezTo>
                  <a:pt x="0" y="626"/>
                  <a:pt x="1" y="630"/>
                  <a:pt x="6" y="636"/>
                </a:cubicBezTo>
                <a:cubicBezTo>
                  <a:pt x="11" y="642"/>
                  <a:pt x="22" y="648"/>
                  <a:pt x="30" y="654"/>
                </a:cubicBezTo>
                <a:cubicBezTo>
                  <a:pt x="38" y="660"/>
                  <a:pt x="52" y="669"/>
                  <a:pt x="57" y="67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81680" y="3224160"/>
            <a:ext cx="171360" cy="747720"/>
          </a:xfrm>
          <a:custGeom>
            <a:avLst/>
            <a:gdLst/>
            <a:ahLst/>
            <a:rect l="l" t="t" r="r" b="b"/>
            <a:pathLst>
              <a:path w="108" h="471">
                <a:moveTo>
                  <a:pt x="21" y="0"/>
                </a:moveTo>
                <a:cubicBezTo>
                  <a:pt x="13" y="12"/>
                  <a:pt x="6" y="24"/>
                  <a:pt x="3" y="33"/>
                </a:cubicBezTo>
                <a:cubicBezTo>
                  <a:pt x="0" y="42"/>
                  <a:pt x="0" y="46"/>
                  <a:pt x="3" y="54"/>
                </a:cubicBezTo>
                <a:cubicBezTo>
                  <a:pt x="6" y="62"/>
                  <a:pt x="18" y="73"/>
                  <a:pt x="21" y="84"/>
                </a:cubicBezTo>
                <a:cubicBezTo>
                  <a:pt x="24" y="95"/>
                  <a:pt x="24" y="110"/>
                  <a:pt x="24" y="120"/>
                </a:cubicBezTo>
                <a:cubicBezTo>
                  <a:pt x="24" y="130"/>
                  <a:pt x="27" y="137"/>
                  <a:pt x="24" y="147"/>
                </a:cubicBezTo>
                <a:cubicBezTo>
                  <a:pt x="21" y="157"/>
                  <a:pt x="11" y="170"/>
                  <a:pt x="9" y="180"/>
                </a:cubicBezTo>
                <a:cubicBezTo>
                  <a:pt x="7" y="190"/>
                  <a:pt x="9" y="200"/>
                  <a:pt x="9" y="210"/>
                </a:cubicBezTo>
                <a:cubicBezTo>
                  <a:pt x="9" y="220"/>
                  <a:pt x="8" y="231"/>
                  <a:pt x="9" y="240"/>
                </a:cubicBezTo>
                <a:cubicBezTo>
                  <a:pt x="10" y="249"/>
                  <a:pt x="14" y="253"/>
                  <a:pt x="18" y="264"/>
                </a:cubicBezTo>
                <a:cubicBezTo>
                  <a:pt x="22" y="275"/>
                  <a:pt x="28" y="295"/>
                  <a:pt x="33" y="306"/>
                </a:cubicBezTo>
                <a:cubicBezTo>
                  <a:pt x="38" y="317"/>
                  <a:pt x="44" y="323"/>
                  <a:pt x="48" y="330"/>
                </a:cubicBezTo>
                <a:cubicBezTo>
                  <a:pt x="52" y="337"/>
                  <a:pt x="54" y="344"/>
                  <a:pt x="57" y="351"/>
                </a:cubicBezTo>
                <a:cubicBezTo>
                  <a:pt x="60" y="358"/>
                  <a:pt x="66" y="366"/>
                  <a:pt x="69" y="372"/>
                </a:cubicBezTo>
                <a:cubicBezTo>
                  <a:pt x="72" y="378"/>
                  <a:pt x="73" y="383"/>
                  <a:pt x="75" y="390"/>
                </a:cubicBezTo>
                <a:cubicBezTo>
                  <a:pt x="77" y="397"/>
                  <a:pt x="76" y="401"/>
                  <a:pt x="81" y="411"/>
                </a:cubicBezTo>
                <a:cubicBezTo>
                  <a:pt x="86" y="421"/>
                  <a:pt x="98" y="437"/>
                  <a:pt x="102" y="447"/>
                </a:cubicBezTo>
                <a:cubicBezTo>
                  <a:pt x="106" y="457"/>
                  <a:pt x="107" y="466"/>
                  <a:pt x="108" y="47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0000" y="3443400"/>
            <a:ext cx="277920" cy="1162080"/>
          </a:xfrm>
          <a:custGeom>
            <a:avLst/>
            <a:gdLst/>
            <a:ahLst/>
            <a:rect l="l" t="t" r="r" b="b"/>
            <a:pathLst>
              <a:path w="175" h="732">
                <a:moveTo>
                  <a:pt x="0" y="0"/>
                </a:moveTo>
                <a:cubicBezTo>
                  <a:pt x="7" y="2"/>
                  <a:pt x="14" y="5"/>
                  <a:pt x="18" y="12"/>
                </a:cubicBezTo>
                <a:cubicBezTo>
                  <a:pt x="22" y="19"/>
                  <a:pt x="25" y="33"/>
                  <a:pt x="24" y="42"/>
                </a:cubicBezTo>
                <a:cubicBezTo>
                  <a:pt x="23" y="51"/>
                  <a:pt x="15" y="56"/>
                  <a:pt x="12" y="66"/>
                </a:cubicBezTo>
                <a:cubicBezTo>
                  <a:pt x="9" y="76"/>
                  <a:pt x="4" y="91"/>
                  <a:pt x="3" y="102"/>
                </a:cubicBezTo>
                <a:cubicBezTo>
                  <a:pt x="2" y="113"/>
                  <a:pt x="3" y="123"/>
                  <a:pt x="9" y="132"/>
                </a:cubicBezTo>
                <a:cubicBezTo>
                  <a:pt x="15" y="141"/>
                  <a:pt x="35" y="151"/>
                  <a:pt x="42" y="159"/>
                </a:cubicBezTo>
                <a:cubicBezTo>
                  <a:pt x="49" y="167"/>
                  <a:pt x="52" y="173"/>
                  <a:pt x="54" y="180"/>
                </a:cubicBezTo>
                <a:cubicBezTo>
                  <a:pt x="56" y="187"/>
                  <a:pt x="50" y="189"/>
                  <a:pt x="54" y="198"/>
                </a:cubicBezTo>
                <a:cubicBezTo>
                  <a:pt x="58" y="207"/>
                  <a:pt x="67" y="225"/>
                  <a:pt x="75" y="234"/>
                </a:cubicBezTo>
                <a:cubicBezTo>
                  <a:pt x="83" y="243"/>
                  <a:pt x="95" y="247"/>
                  <a:pt x="102" y="252"/>
                </a:cubicBezTo>
                <a:cubicBezTo>
                  <a:pt x="109" y="257"/>
                  <a:pt x="113" y="257"/>
                  <a:pt x="117" y="264"/>
                </a:cubicBezTo>
                <a:cubicBezTo>
                  <a:pt x="121" y="271"/>
                  <a:pt x="122" y="287"/>
                  <a:pt x="126" y="294"/>
                </a:cubicBezTo>
                <a:cubicBezTo>
                  <a:pt x="130" y="301"/>
                  <a:pt x="139" y="301"/>
                  <a:pt x="144" y="306"/>
                </a:cubicBezTo>
                <a:cubicBezTo>
                  <a:pt x="149" y="311"/>
                  <a:pt x="151" y="317"/>
                  <a:pt x="156" y="324"/>
                </a:cubicBezTo>
                <a:cubicBezTo>
                  <a:pt x="161" y="331"/>
                  <a:pt x="173" y="340"/>
                  <a:pt x="174" y="351"/>
                </a:cubicBezTo>
                <a:cubicBezTo>
                  <a:pt x="175" y="362"/>
                  <a:pt x="167" y="381"/>
                  <a:pt x="165" y="393"/>
                </a:cubicBezTo>
                <a:cubicBezTo>
                  <a:pt x="163" y="405"/>
                  <a:pt x="163" y="417"/>
                  <a:pt x="162" y="426"/>
                </a:cubicBezTo>
                <a:cubicBezTo>
                  <a:pt x="161" y="435"/>
                  <a:pt x="161" y="436"/>
                  <a:pt x="159" y="447"/>
                </a:cubicBezTo>
                <a:cubicBezTo>
                  <a:pt x="157" y="458"/>
                  <a:pt x="149" y="482"/>
                  <a:pt x="147" y="492"/>
                </a:cubicBezTo>
                <a:cubicBezTo>
                  <a:pt x="145" y="502"/>
                  <a:pt x="147" y="505"/>
                  <a:pt x="144" y="510"/>
                </a:cubicBezTo>
                <a:cubicBezTo>
                  <a:pt x="141" y="515"/>
                  <a:pt x="134" y="520"/>
                  <a:pt x="129" y="525"/>
                </a:cubicBezTo>
                <a:cubicBezTo>
                  <a:pt x="124" y="530"/>
                  <a:pt x="117" y="531"/>
                  <a:pt x="111" y="540"/>
                </a:cubicBezTo>
                <a:cubicBezTo>
                  <a:pt x="105" y="549"/>
                  <a:pt x="92" y="570"/>
                  <a:pt x="90" y="579"/>
                </a:cubicBezTo>
                <a:cubicBezTo>
                  <a:pt x="88" y="588"/>
                  <a:pt x="95" y="591"/>
                  <a:pt x="99" y="597"/>
                </a:cubicBezTo>
                <a:cubicBezTo>
                  <a:pt x="103" y="603"/>
                  <a:pt x="111" y="608"/>
                  <a:pt x="114" y="615"/>
                </a:cubicBezTo>
                <a:cubicBezTo>
                  <a:pt x="117" y="622"/>
                  <a:pt x="112" y="632"/>
                  <a:pt x="117" y="639"/>
                </a:cubicBezTo>
                <a:cubicBezTo>
                  <a:pt x="122" y="646"/>
                  <a:pt x="142" y="651"/>
                  <a:pt x="147" y="657"/>
                </a:cubicBezTo>
                <a:cubicBezTo>
                  <a:pt x="152" y="663"/>
                  <a:pt x="146" y="671"/>
                  <a:pt x="147" y="678"/>
                </a:cubicBezTo>
                <a:cubicBezTo>
                  <a:pt x="148" y="685"/>
                  <a:pt x="150" y="690"/>
                  <a:pt x="150" y="699"/>
                </a:cubicBezTo>
                <a:cubicBezTo>
                  <a:pt x="150" y="708"/>
                  <a:pt x="150" y="727"/>
                  <a:pt x="150" y="7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439200">
            <a:off x="1988280" y="156060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Jac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21232200">
            <a:off x="6781680" y="51843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nk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8742200">
            <a:off x="6642000" y="4751280"/>
            <a:ext cx="32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Of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771200">
            <a:off x="5230800" y="3926520"/>
            <a:ext cx="384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fr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4240" y="239868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Dak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1154800">
            <a:off x="2109240" y="5961240"/>
            <a:ext cx="566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Black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57200">
            <a:off x="1342800" y="4779720"/>
            <a:ext cx="45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Kapo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3381600">
            <a:off x="2002320" y="3910320"/>
            <a:ext cx="575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White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975000">
            <a:off x="3015360" y="303984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Maw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4743360"/>
            <a:ext cx="503280" cy="400320"/>
          </a:xfrm>
          <a:custGeom>
            <a:avLst/>
            <a:gdLst/>
            <a:ahLst/>
            <a:rect l="l" t="t" r="r" b="b"/>
            <a:pathLst>
              <a:path w="317" h="252">
                <a:moveTo>
                  <a:pt x="317" y="252"/>
                </a:moveTo>
                <a:cubicBezTo>
                  <a:pt x="314" y="236"/>
                  <a:pt x="312" y="220"/>
                  <a:pt x="299" y="210"/>
                </a:cubicBezTo>
                <a:cubicBezTo>
                  <a:pt x="286" y="200"/>
                  <a:pt x="250" y="202"/>
                  <a:pt x="236" y="195"/>
                </a:cubicBezTo>
                <a:cubicBezTo>
                  <a:pt x="222" y="188"/>
                  <a:pt x="225" y="179"/>
                  <a:pt x="215" y="168"/>
                </a:cubicBezTo>
                <a:cubicBezTo>
                  <a:pt x="205" y="157"/>
                  <a:pt x="186" y="136"/>
                  <a:pt x="176" y="129"/>
                </a:cubicBezTo>
                <a:cubicBezTo>
                  <a:pt x="166" y="122"/>
                  <a:pt x="163" y="127"/>
                  <a:pt x="158" y="123"/>
                </a:cubicBezTo>
                <a:cubicBezTo>
                  <a:pt x="153" y="119"/>
                  <a:pt x="149" y="110"/>
                  <a:pt x="143" y="105"/>
                </a:cubicBezTo>
                <a:cubicBezTo>
                  <a:pt x="137" y="100"/>
                  <a:pt x="128" y="95"/>
                  <a:pt x="119" y="93"/>
                </a:cubicBezTo>
                <a:cubicBezTo>
                  <a:pt x="110" y="91"/>
                  <a:pt x="99" y="96"/>
                  <a:pt x="89" y="93"/>
                </a:cubicBezTo>
                <a:cubicBezTo>
                  <a:pt x="79" y="90"/>
                  <a:pt x="66" y="84"/>
                  <a:pt x="59" y="78"/>
                </a:cubicBezTo>
                <a:cubicBezTo>
                  <a:pt x="52" y="72"/>
                  <a:pt x="50" y="62"/>
                  <a:pt x="44" y="57"/>
                </a:cubicBezTo>
                <a:cubicBezTo>
                  <a:pt x="38" y="52"/>
                  <a:pt x="30" y="51"/>
                  <a:pt x="23" y="45"/>
                </a:cubicBezTo>
                <a:cubicBezTo>
                  <a:pt x="16" y="39"/>
                  <a:pt x="4" y="25"/>
                  <a:pt x="2" y="18"/>
                </a:cubicBezTo>
                <a:cubicBezTo>
                  <a:pt x="0" y="11"/>
                  <a:pt x="4" y="5"/>
                  <a:pt x="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72200" y="3846600"/>
            <a:ext cx="171720" cy="120600"/>
          </a:xfrm>
          <a:custGeom>
            <a:avLst/>
            <a:gdLst/>
            <a:ahLst/>
            <a:rect l="l" t="t" r="r" b="b"/>
            <a:pathLst>
              <a:path w="108" h="76">
                <a:moveTo>
                  <a:pt x="0" y="76"/>
                </a:moveTo>
                <a:cubicBezTo>
                  <a:pt x="5" y="70"/>
                  <a:pt x="10" y="65"/>
                  <a:pt x="15" y="58"/>
                </a:cubicBezTo>
                <a:cubicBezTo>
                  <a:pt x="20" y="51"/>
                  <a:pt x="23" y="37"/>
                  <a:pt x="30" y="31"/>
                </a:cubicBezTo>
                <a:cubicBezTo>
                  <a:pt x="37" y="25"/>
                  <a:pt x="45" y="25"/>
                  <a:pt x="54" y="22"/>
                </a:cubicBezTo>
                <a:cubicBezTo>
                  <a:pt x="63" y="19"/>
                  <a:pt x="75" y="19"/>
                  <a:pt x="84" y="15"/>
                </a:cubicBezTo>
                <a:cubicBezTo>
                  <a:pt x="93" y="11"/>
                  <a:pt x="104" y="3"/>
                  <a:pt x="10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1138600">
            <a:off x="6846480" y="5548320"/>
            <a:ext cx="35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Tan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400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8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9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0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rId21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22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23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24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2800" y="6610320"/>
            <a:ext cx="209520" cy="193680"/>
          </a:xfrm>
          <a:custGeom>
            <a:avLst/>
            <a:gdLst/>
            <a:ahLst/>
            <a:rect l="l" t="t" r="r" b="b"/>
            <a:pathLst>
              <a:path w="132" h="122">
                <a:moveTo>
                  <a:pt x="0" y="81"/>
                </a:moveTo>
                <a:cubicBezTo>
                  <a:pt x="8" y="90"/>
                  <a:pt x="16" y="99"/>
                  <a:pt x="27" y="105"/>
                </a:cubicBezTo>
                <a:cubicBezTo>
                  <a:pt x="38" y="111"/>
                  <a:pt x="56" y="115"/>
                  <a:pt x="66" y="117"/>
                </a:cubicBezTo>
                <a:cubicBezTo>
                  <a:pt x="76" y="119"/>
                  <a:pt x="85" y="122"/>
                  <a:pt x="90" y="117"/>
                </a:cubicBezTo>
                <a:cubicBezTo>
                  <a:pt x="95" y="112"/>
                  <a:pt x="97" y="92"/>
                  <a:pt x="99" y="84"/>
                </a:cubicBezTo>
                <a:cubicBezTo>
                  <a:pt x="101" y="76"/>
                  <a:pt x="104" y="75"/>
                  <a:pt x="105" y="66"/>
                </a:cubicBezTo>
                <a:cubicBezTo>
                  <a:pt x="106" y="57"/>
                  <a:pt x="105" y="37"/>
                  <a:pt x="105" y="27"/>
                </a:cubicBezTo>
                <a:cubicBezTo>
                  <a:pt x="105" y="17"/>
                  <a:pt x="104" y="10"/>
                  <a:pt x="108" y="6"/>
                </a:cubicBezTo>
                <a:cubicBezTo>
                  <a:pt x="112" y="2"/>
                  <a:pt x="127" y="2"/>
                  <a:pt x="132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75560" y="6546960"/>
            <a:ext cx="289080" cy="258480"/>
          </a:xfrm>
          <a:custGeom>
            <a:avLst/>
            <a:gdLst/>
            <a:ahLst/>
            <a:rect l="l" t="t" r="r" b="b"/>
            <a:pathLst>
              <a:path w="182" h="163">
                <a:moveTo>
                  <a:pt x="1" y="40"/>
                </a:moveTo>
                <a:cubicBezTo>
                  <a:pt x="0" y="35"/>
                  <a:pt x="8" y="28"/>
                  <a:pt x="10" y="22"/>
                </a:cubicBezTo>
                <a:cubicBezTo>
                  <a:pt x="12" y="16"/>
                  <a:pt x="11" y="7"/>
                  <a:pt x="16" y="4"/>
                </a:cubicBezTo>
                <a:cubicBezTo>
                  <a:pt x="21" y="1"/>
                  <a:pt x="38" y="0"/>
                  <a:pt x="43" y="4"/>
                </a:cubicBezTo>
                <a:cubicBezTo>
                  <a:pt x="48" y="8"/>
                  <a:pt x="47" y="21"/>
                  <a:pt x="49" y="28"/>
                </a:cubicBezTo>
                <a:cubicBezTo>
                  <a:pt x="51" y="35"/>
                  <a:pt x="51" y="41"/>
                  <a:pt x="55" y="46"/>
                </a:cubicBezTo>
                <a:cubicBezTo>
                  <a:pt x="59" y="51"/>
                  <a:pt x="66" y="55"/>
                  <a:pt x="73" y="58"/>
                </a:cubicBezTo>
                <a:cubicBezTo>
                  <a:pt x="80" y="61"/>
                  <a:pt x="88" y="64"/>
                  <a:pt x="97" y="67"/>
                </a:cubicBezTo>
                <a:cubicBezTo>
                  <a:pt x="106" y="70"/>
                  <a:pt x="121" y="75"/>
                  <a:pt x="130" y="76"/>
                </a:cubicBezTo>
                <a:cubicBezTo>
                  <a:pt x="139" y="77"/>
                  <a:pt x="146" y="76"/>
                  <a:pt x="151" y="73"/>
                </a:cubicBezTo>
                <a:cubicBezTo>
                  <a:pt x="156" y="70"/>
                  <a:pt x="160" y="61"/>
                  <a:pt x="163" y="55"/>
                </a:cubicBezTo>
                <a:cubicBezTo>
                  <a:pt x="166" y="49"/>
                  <a:pt x="169" y="41"/>
                  <a:pt x="172" y="34"/>
                </a:cubicBezTo>
                <a:cubicBezTo>
                  <a:pt x="175" y="27"/>
                  <a:pt x="180" y="12"/>
                  <a:pt x="181" y="13"/>
                </a:cubicBezTo>
                <a:cubicBezTo>
                  <a:pt x="182" y="14"/>
                  <a:pt x="178" y="33"/>
                  <a:pt x="178" y="40"/>
                </a:cubicBezTo>
                <a:cubicBezTo>
                  <a:pt x="178" y="47"/>
                  <a:pt x="182" y="52"/>
                  <a:pt x="181" y="58"/>
                </a:cubicBezTo>
                <a:cubicBezTo>
                  <a:pt x="180" y="64"/>
                  <a:pt x="171" y="70"/>
                  <a:pt x="169" y="76"/>
                </a:cubicBezTo>
                <a:cubicBezTo>
                  <a:pt x="167" y="82"/>
                  <a:pt x="168" y="90"/>
                  <a:pt x="169" y="97"/>
                </a:cubicBezTo>
                <a:cubicBezTo>
                  <a:pt x="170" y="104"/>
                  <a:pt x="177" y="111"/>
                  <a:pt x="175" y="118"/>
                </a:cubicBezTo>
                <a:cubicBezTo>
                  <a:pt x="173" y="125"/>
                  <a:pt x="161" y="132"/>
                  <a:pt x="157" y="139"/>
                </a:cubicBezTo>
                <a:cubicBezTo>
                  <a:pt x="153" y="146"/>
                  <a:pt x="152" y="163"/>
                  <a:pt x="148" y="163"/>
                </a:cubicBezTo>
                <a:cubicBezTo>
                  <a:pt x="144" y="163"/>
                  <a:pt x="135" y="145"/>
                  <a:pt x="130" y="136"/>
                </a:cubicBezTo>
                <a:cubicBezTo>
                  <a:pt x="125" y="127"/>
                  <a:pt x="120" y="108"/>
                  <a:pt x="115" y="106"/>
                </a:cubicBezTo>
                <a:cubicBezTo>
                  <a:pt x="110" y="104"/>
                  <a:pt x="104" y="116"/>
                  <a:pt x="100" y="121"/>
                </a:cubicBezTo>
                <a:cubicBezTo>
                  <a:pt x="96" y="126"/>
                  <a:pt x="93" y="137"/>
                  <a:pt x="88" y="136"/>
                </a:cubicBezTo>
                <a:cubicBezTo>
                  <a:pt x="83" y="135"/>
                  <a:pt x="75" y="116"/>
                  <a:pt x="67" y="112"/>
                </a:cubicBezTo>
                <a:cubicBezTo>
                  <a:pt x="59" y="108"/>
                  <a:pt x="48" y="114"/>
                  <a:pt x="40" y="112"/>
                </a:cubicBezTo>
                <a:cubicBezTo>
                  <a:pt x="32" y="110"/>
                  <a:pt x="23" y="108"/>
                  <a:pt x="19" y="103"/>
                </a:cubicBezTo>
                <a:cubicBezTo>
                  <a:pt x="15" y="98"/>
                  <a:pt x="13" y="90"/>
                  <a:pt x="13" y="82"/>
                </a:cubicBezTo>
                <a:cubicBezTo>
                  <a:pt x="13" y="74"/>
                  <a:pt x="18" y="62"/>
                  <a:pt x="16" y="55"/>
                </a:cubicBezTo>
                <a:cubicBezTo>
                  <a:pt x="14" y="48"/>
                  <a:pt x="2" y="45"/>
                  <a:pt x="1" y="40"/>
                </a:cubicBez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47480" y="3525840"/>
            <a:ext cx="457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Vinc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2080" y="4449600"/>
            <a:ext cx="29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P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-19800"/>
            <a:ext cx="9144000" cy="6877800"/>
            <a:chOff x="0" y="-19800"/>
            <a:chExt cx="9144000" cy="6877800"/>
          </a:xfrm>
        </p:grpSpPr>
        <p:grpSp>
          <p:nvGrpSpPr>
            <p:cNvPr id="4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6" name=""/>
              <p:cNvSpPr/>
              <p:nvPr/>
            </p:nvSpPr>
            <p:spPr>
              <a:xfrm>
                <a:off x="1658880" y="0"/>
                <a:ext cx="4540320" cy="66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660320" y="0"/>
                <a:ext cx="4278600" cy="222120"/>
                <a:chOff x="1660320" y="0"/>
                <a:chExt cx="4278600" cy="222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660320" y="0"/>
                  <a:ext cx="390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E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52920" y="114480"/>
                  <a:ext cx="577800" cy="0"/>
                </a:xfrm>
                <a:prstGeom prst="line">
                  <a:avLst/>
                </a:prstGeom>
                <a:ln w="190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28920" y="6480"/>
                  <a:ext cx="810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armac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077920" y="1033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48760" y="14400"/>
                  <a:ext cx="326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7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77000" y="6480"/>
                  <a:ext cx="935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ights (metres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263760" y="114480"/>
                  <a:ext cx="578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839040" y="6480"/>
                  <a:ext cx="589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ailway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738080" y="411120"/>
                <a:ext cx="3878280" cy="246240"/>
                <a:chOff x="1738080" y="411120"/>
                <a:chExt cx="3878280" cy="24624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1738080" y="433440"/>
                  <a:ext cx="464040" cy="200520"/>
                  <a:chOff x="1738080" y="433440"/>
                  <a:chExt cx="464040" cy="2005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1766880" y="514440"/>
                    <a:ext cx="3672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738080" y="433440"/>
                    <a:ext cx="46404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7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Brongo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2277720" y="425520"/>
                  <a:ext cx="420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rt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504600" y="425520"/>
                  <a:ext cx="90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ivilian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72000" y="53352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127840" y="425520"/>
                  <a:ext cx="488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ck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3270240" y="411120"/>
                  <a:ext cx="281160" cy="246240"/>
                  <a:chOff x="3270240" y="411120"/>
                  <a:chExt cx="281160" cy="24624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3340080" y="466560"/>
                    <a:ext cx="130320" cy="1314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70240" y="411120"/>
                    <a:ext cx="2811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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1736280" y="212760"/>
                <a:ext cx="4157640" cy="246240"/>
                <a:chOff x="1736280" y="212760"/>
                <a:chExt cx="4157640" cy="2462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736280" y="228600"/>
                  <a:ext cx="619560" cy="215640"/>
                  <a:chOff x="1736280" y="228600"/>
                  <a:chExt cx="619560" cy="215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747800" y="307800"/>
                    <a:ext cx="55440" cy="55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36280" y="228600"/>
                    <a:ext cx="6195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BANDA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2279160" y="228600"/>
                  <a:ext cx="1026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pulation centr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504240" y="228600"/>
                  <a:ext cx="886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litary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62640" y="33480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29640" y="228600"/>
                  <a:ext cx="76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avel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3243960" y="212760"/>
                  <a:ext cx="282960" cy="246240"/>
                  <a:chOff x="3243960" y="212760"/>
                  <a:chExt cx="282960" cy="246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36840" y="266760"/>
                    <a:ext cx="128520" cy="12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3243960" y="212760"/>
                    <a:ext cx="282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5050"/>
                        </a:solidFill>
                        <a:latin typeface="Wingdings"/>
                        <a:ea typeface="Wingdings"/>
                      </a:rPr>
                      <a:t>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"/>
            <p:cNvGrpSpPr/>
            <p:nvPr/>
          </p:nvGrpSpPr>
          <p:grpSpPr>
            <a:xfrm>
              <a:off x="268560" y="-19800"/>
              <a:ext cx="1067040" cy="1860480"/>
              <a:chOff x="268560" y="-19800"/>
              <a:chExt cx="1067040" cy="186048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707040" y="465840"/>
                <a:ext cx="154080" cy="10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0360" y="855720"/>
                <a:ext cx="3488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494400">
                <a:off x="290520" y="6714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494400">
                <a:off x="996480" y="76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494400">
                <a:off x="690840" y="6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494400">
                <a:off x="528120" y="1482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534480" y="32209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in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6520" y="8874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4400" y="6068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ga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599160" y="2103480"/>
            <a:ext cx="177840" cy="147600"/>
          </a:xfrm>
          <a:custGeom>
            <a:avLst/>
            <a:gdLst/>
            <a:ahLst/>
            <a:rect l="l" t="t" r="r" b="b"/>
            <a:pathLst>
              <a:path w="112" h="93">
                <a:moveTo>
                  <a:pt x="1" y="23"/>
                </a:moveTo>
                <a:lnTo>
                  <a:pt x="32" y="35"/>
                </a:lnTo>
                <a:lnTo>
                  <a:pt x="74" y="40"/>
                </a:lnTo>
                <a:lnTo>
                  <a:pt x="87" y="22"/>
                </a:lnTo>
                <a:lnTo>
                  <a:pt x="88" y="0"/>
                </a:lnTo>
                <a:lnTo>
                  <a:pt x="100" y="27"/>
                </a:lnTo>
                <a:lnTo>
                  <a:pt x="108" y="39"/>
                </a:lnTo>
                <a:lnTo>
                  <a:pt x="112" y="49"/>
                </a:lnTo>
                <a:lnTo>
                  <a:pt x="96" y="93"/>
                </a:lnTo>
                <a:lnTo>
                  <a:pt x="93" y="66"/>
                </a:lnTo>
                <a:lnTo>
                  <a:pt x="77" y="56"/>
                </a:lnTo>
                <a:lnTo>
                  <a:pt x="57" y="58"/>
                </a:lnTo>
                <a:lnTo>
                  <a:pt x="41" y="49"/>
                </a:lnTo>
                <a:lnTo>
                  <a:pt x="0" y="60"/>
                </a:lnTo>
                <a:lnTo>
                  <a:pt x="3" y="27"/>
                </a:lnTo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05320" y="1338120"/>
            <a:ext cx="776520" cy="557280"/>
          </a:xfrm>
          <a:custGeom>
            <a:avLst/>
            <a:gdLst/>
            <a:ahLst/>
            <a:rect l="l" t="t" r="r" b="b"/>
            <a:pathLst>
              <a:path w="489" h="351">
                <a:moveTo>
                  <a:pt x="489" y="351"/>
                </a:moveTo>
                <a:cubicBezTo>
                  <a:pt x="488" y="346"/>
                  <a:pt x="488" y="341"/>
                  <a:pt x="483" y="333"/>
                </a:cubicBezTo>
                <a:cubicBezTo>
                  <a:pt x="478" y="325"/>
                  <a:pt x="468" y="310"/>
                  <a:pt x="459" y="306"/>
                </a:cubicBezTo>
                <a:cubicBezTo>
                  <a:pt x="450" y="302"/>
                  <a:pt x="437" y="313"/>
                  <a:pt x="429" y="312"/>
                </a:cubicBezTo>
                <a:cubicBezTo>
                  <a:pt x="421" y="311"/>
                  <a:pt x="418" y="306"/>
                  <a:pt x="411" y="303"/>
                </a:cubicBezTo>
                <a:cubicBezTo>
                  <a:pt x="404" y="300"/>
                  <a:pt x="392" y="293"/>
                  <a:pt x="384" y="291"/>
                </a:cubicBezTo>
                <a:cubicBezTo>
                  <a:pt x="376" y="289"/>
                  <a:pt x="370" y="293"/>
                  <a:pt x="360" y="291"/>
                </a:cubicBezTo>
                <a:cubicBezTo>
                  <a:pt x="350" y="289"/>
                  <a:pt x="334" y="285"/>
                  <a:pt x="324" y="282"/>
                </a:cubicBezTo>
                <a:cubicBezTo>
                  <a:pt x="314" y="279"/>
                  <a:pt x="307" y="275"/>
                  <a:pt x="300" y="273"/>
                </a:cubicBezTo>
                <a:cubicBezTo>
                  <a:pt x="293" y="271"/>
                  <a:pt x="291" y="273"/>
                  <a:pt x="282" y="270"/>
                </a:cubicBezTo>
                <a:cubicBezTo>
                  <a:pt x="273" y="267"/>
                  <a:pt x="258" y="261"/>
                  <a:pt x="243" y="255"/>
                </a:cubicBezTo>
                <a:cubicBezTo>
                  <a:pt x="228" y="249"/>
                  <a:pt x="203" y="239"/>
                  <a:pt x="192" y="234"/>
                </a:cubicBezTo>
                <a:cubicBezTo>
                  <a:pt x="181" y="229"/>
                  <a:pt x="180" y="229"/>
                  <a:pt x="174" y="225"/>
                </a:cubicBezTo>
                <a:cubicBezTo>
                  <a:pt x="168" y="221"/>
                  <a:pt x="164" y="214"/>
                  <a:pt x="156" y="210"/>
                </a:cubicBezTo>
                <a:cubicBezTo>
                  <a:pt x="148" y="206"/>
                  <a:pt x="135" y="201"/>
                  <a:pt x="126" y="198"/>
                </a:cubicBezTo>
                <a:cubicBezTo>
                  <a:pt x="117" y="195"/>
                  <a:pt x="105" y="197"/>
                  <a:pt x="99" y="192"/>
                </a:cubicBezTo>
                <a:cubicBezTo>
                  <a:pt x="93" y="187"/>
                  <a:pt x="94" y="179"/>
                  <a:pt x="90" y="171"/>
                </a:cubicBezTo>
                <a:cubicBezTo>
                  <a:pt x="86" y="163"/>
                  <a:pt x="77" y="153"/>
                  <a:pt x="75" y="144"/>
                </a:cubicBezTo>
                <a:cubicBezTo>
                  <a:pt x="73" y="135"/>
                  <a:pt x="77" y="121"/>
                  <a:pt x="75" y="114"/>
                </a:cubicBezTo>
                <a:cubicBezTo>
                  <a:pt x="73" y="107"/>
                  <a:pt x="68" y="105"/>
                  <a:pt x="63" y="99"/>
                </a:cubicBezTo>
                <a:cubicBezTo>
                  <a:pt x="58" y="93"/>
                  <a:pt x="54" y="84"/>
                  <a:pt x="48" y="78"/>
                </a:cubicBezTo>
                <a:cubicBezTo>
                  <a:pt x="42" y="72"/>
                  <a:pt x="33" y="69"/>
                  <a:pt x="27" y="63"/>
                </a:cubicBezTo>
                <a:cubicBezTo>
                  <a:pt x="21" y="57"/>
                  <a:pt x="14" y="49"/>
                  <a:pt x="12" y="42"/>
                </a:cubicBezTo>
                <a:cubicBezTo>
                  <a:pt x="10" y="35"/>
                  <a:pt x="14" y="28"/>
                  <a:pt x="12" y="21"/>
                </a:cubicBezTo>
                <a:cubicBezTo>
                  <a:pt x="10" y="14"/>
                  <a:pt x="2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513200">
            <a:off x="6347160" y="19540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53640" y="492120"/>
            <a:ext cx="45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Kas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Lag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652800">
            <a:off x="5369400" y="195732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Arial"/>
              </a:rPr>
              <a:t>LAKE 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92920" y="638280"/>
            <a:ext cx="508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Amstad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840" y="187560"/>
            <a:ext cx="9111600" cy="6459840"/>
            <a:chOff x="15840" y="187560"/>
            <a:chExt cx="9111600" cy="6459840"/>
          </a:xfrm>
        </p:grpSpPr>
        <p:sp>
          <p:nvSpPr>
            <p:cNvPr id="466" name=""/>
            <p:cNvSpPr/>
            <p:nvPr/>
          </p:nvSpPr>
          <p:spPr>
            <a:xfrm flipV="1">
              <a:off x="6855840" y="133848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274400" y="116748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200680" y="102204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157920" y="91044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77360" y="77184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033160" y="63144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935320" y="30672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786440" y="286812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25800" y="192060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00" y="542088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9240" y="445968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7360" y="353700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7160" y="261432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1320" y="185940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1840" y="113184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85320" y="63396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448200">
              <a:off x="581760" y="1782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448200">
              <a:off x="573948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448200">
              <a:off x="480924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448200">
              <a:off x="387576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448200">
              <a:off x="2921760" y="8460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448200">
              <a:off x="1575720" y="121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448200">
              <a:off x="8219160" y="32209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448200">
              <a:off x="7555680" y="1360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48200">
              <a:off x="6758640" y="2127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448200">
              <a:off x="5049360" y="58910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448200">
              <a:off x="406368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448200">
              <a:off x="313164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448200">
              <a:off x="219816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448200">
              <a:off x="125532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448200">
              <a:off x="32040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48200">
              <a:off x="78098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448200">
              <a:off x="694152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448200">
              <a:off x="59792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448200">
              <a:off x="29880" y="3347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448200">
              <a:off x="29880" y="42904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448200">
              <a:off x="29880" y="5213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448200">
              <a:off x="2163600" y="1110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448200">
              <a:off x="1342800" y="1848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448200">
              <a:off x="29880" y="24267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448200">
              <a:off x="8700840" y="4785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448200">
              <a:off x="8700840" y="56973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448200">
              <a:off x="6891120" y="63622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448200">
              <a:off x="8700840" y="2957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448200">
              <a:off x="8700840" y="3854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448200">
              <a:off x="7279920" y="677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51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51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ns / Heights /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4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15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rId16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rId17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18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rId19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rId20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38040" y="83880"/>
            <a:ext cx="8689320" cy="6786360"/>
            <a:chOff x="338040" y="83880"/>
            <a:chExt cx="8689320" cy="6786360"/>
          </a:xfrm>
        </p:grpSpPr>
        <p:sp>
          <p:nvSpPr>
            <p:cNvPr id="543" name=""/>
            <p:cNvSpPr/>
            <p:nvPr/>
          </p:nvSpPr>
          <p:spPr>
            <a:xfrm>
              <a:off x="6796080" y="546588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57960" y="622476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0120" y="3724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1320" y="364968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7336800" y="2112840"/>
              <a:ext cx="640800" cy="215640"/>
              <a:chOff x="7336800" y="2112840"/>
              <a:chExt cx="640800" cy="215640"/>
            </a:xfrm>
          </p:grpSpPr>
          <p:sp>
            <p:nvSpPr>
              <p:cNvPr id="548" name=""/>
              <p:cNvSpPr/>
              <p:nvPr/>
            </p:nvSpPr>
            <p:spPr>
              <a:xfrm>
                <a:off x="7348680" y="2193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36800" y="211284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8256960" y="4545000"/>
              <a:ext cx="770400" cy="337320"/>
              <a:chOff x="8256960" y="4545000"/>
              <a:chExt cx="770400" cy="337320"/>
            </a:xfrm>
          </p:grpSpPr>
          <p:sp>
            <p:nvSpPr>
              <p:cNvPr id="551" name=""/>
              <p:cNvSpPr/>
              <p:nvPr/>
            </p:nvSpPr>
            <p:spPr>
              <a:xfrm>
                <a:off x="8269560" y="462600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6960" y="454500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009840" y="4354560"/>
              <a:ext cx="418320" cy="215640"/>
              <a:chOff x="6009840" y="4354560"/>
              <a:chExt cx="418320" cy="215640"/>
            </a:xfrm>
          </p:grpSpPr>
          <p:sp>
            <p:nvSpPr>
              <p:cNvPr id="554" name=""/>
              <p:cNvSpPr/>
              <p:nvPr/>
            </p:nvSpPr>
            <p:spPr>
              <a:xfrm>
                <a:off x="6021360" y="443520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09840" y="435456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445160" y="2386080"/>
              <a:ext cx="619560" cy="215640"/>
              <a:chOff x="7445160" y="2386080"/>
              <a:chExt cx="619560" cy="215640"/>
            </a:xfrm>
          </p:grpSpPr>
          <p:sp>
            <p:nvSpPr>
              <p:cNvPr id="557" name=""/>
              <p:cNvSpPr/>
              <p:nvPr/>
            </p:nvSpPr>
            <p:spPr>
              <a:xfrm>
                <a:off x="7456680" y="24667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45160" y="238608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624760" y="3230640"/>
              <a:ext cx="637920" cy="215640"/>
              <a:chOff x="2624760" y="3230640"/>
              <a:chExt cx="637920" cy="215640"/>
            </a:xfrm>
          </p:grpSpPr>
          <p:sp>
            <p:nvSpPr>
              <p:cNvPr id="560" name=""/>
              <p:cNvSpPr/>
              <p:nvPr/>
            </p:nvSpPr>
            <p:spPr>
              <a:xfrm>
                <a:off x="2637000" y="331128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24760" y="323064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006920" y="490680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4840" y="345276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01160" y="245592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88440" y="246852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01800" y="144612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3960" y="364320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4880" y="400536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65600" y="26719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200000">
              <a:off x="140400" y="4769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72120" y="94284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9600" y="3567240"/>
              <a:ext cx="645480" cy="200520"/>
              <a:chOff x="759600" y="3567240"/>
              <a:chExt cx="645480" cy="200520"/>
            </a:xfrm>
          </p:grpSpPr>
          <p:sp>
            <p:nvSpPr>
              <p:cNvPr id="573" name=""/>
              <p:cNvSpPr/>
              <p:nvPr/>
            </p:nvSpPr>
            <p:spPr>
              <a:xfrm>
                <a:off x="78912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59600" y="356724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29360" y="2697120"/>
              <a:ext cx="566280" cy="200520"/>
              <a:chOff x="729360" y="2697120"/>
              <a:chExt cx="566280" cy="200520"/>
            </a:xfrm>
          </p:grpSpPr>
          <p:sp>
            <p:nvSpPr>
              <p:cNvPr id="576" name=""/>
              <p:cNvSpPr/>
              <p:nvPr/>
            </p:nvSpPr>
            <p:spPr>
              <a:xfrm flipH="1">
                <a:off x="1231200" y="2771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29000" y="269712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85360" y="2620800"/>
              <a:ext cx="326880" cy="200520"/>
              <a:chOff x="2385360" y="2620800"/>
              <a:chExt cx="326880" cy="200520"/>
            </a:xfrm>
          </p:grpSpPr>
          <p:sp>
            <p:nvSpPr>
              <p:cNvPr id="579" name=""/>
              <p:cNvSpPr/>
              <p:nvPr/>
            </p:nvSpPr>
            <p:spPr>
              <a:xfrm>
                <a:off x="2414520" y="27097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85360" y="26208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595960" y="2119320"/>
              <a:ext cx="537480" cy="200520"/>
              <a:chOff x="2595960" y="2119320"/>
              <a:chExt cx="537480" cy="200520"/>
            </a:xfrm>
          </p:grpSpPr>
          <p:sp>
            <p:nvSpPr>
              <p:cNvPr id="582" name=""/>
              <p:cNvSpPr/>
              <p:nvPr/>
            </p:nvSpPr>
            <p:spPr>
              <a:xfrm>
                <a:off x="2624400" y="2193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95960" y="211932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 rot="15639000">
              <a:off x="852840" y="243720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310560" y="2004840"/>
              <a:ext cx="514440" cy="200520"/>
              <a:chOff x="3310560" y="2004840"/>
              <a:chExt cx="514440" cy="200520"/>
            </a:xfrm>
          </p:grpSpPr>
          <p:sp>
            <p:nvSpPr>
              <p:cNvPr id="586" name=""/>
              <p:cNvSpPr/>
              <p:nvPr/>
            </p:nvSpPr>
            <p:spPr>
              <a:xfrm>
                <a:off x="3341520" y="20793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10560" y="200484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842560" y="1414440"/>
              <a:ext cx="375840" cy="200520"/>
              <a:chOff x="2842560" y="1414440"/>
              <a:chExt cx="375840" cy="200520"/>
            </a:xfrm>
          </p:grpSpPr>
          <p:sp>
            <p:nvSpPr>
              <p:cNvPr id="589" name=""/>
              <p:cNvSpPr/>
              <p:nvPr/>
            </p:nvSpPr>
            <p:spPr>
              <a:xfrm>
                <a:off x="2871720" y="1488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42560" y="141444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773080" y="1611360"/>
              <a:ext cx="356040" cy="200520"/>
              <a:chOff x="2773080" y="1611360"/>
              <a:chExt cx="356040" cy="200520"/>
            </a:xfrm>
          </p:grpSpPr>
          <p:sp>
            <p:nvSpPr>
              <p:cNvPr id="592" name=""/>
              <p:cNvSpPr/>
              <p:nvPr/>
            </p:nvSpPr>
            <p:spPr>
              <a:xfrm>
                <a:off x="2801880" y="1685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73080" y="161136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16200000">
              <a:off x="1989000" y="12265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7291400">
              <a:off x="2691720" y="95472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251600" y="1839960"/>
              <a:ext cx="410760" cy="200520"/>
              <a:chOff x="4251600" y="1839960"/>
              <a:chExt cx="410760" cy="200520"/>
            </a:xfrm>
          </p:grpSpPr>
          <p:sp>
            <p:nvSpPr>
              <p:cNvPr id="597" name=""/>
              <p:cNvSpPr/>
              <p:nvPr/>
            </p:nvSpPr>
            <p:spPr>
              <a:xfrm>
                <a:off x="4281840" y="1914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51600" y="183996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022640" y="1407960"/>
              <a:ext cx="406440" cy="200520"/>
              <a:chOff x="4022640" y="1407960"/>
              <a:chExt cx="406440" cy="200520"/>
            </a:xfrm>
          </p:grpSpPr>
          <p:sp>
            <p:nvSpPr>
              <p:cNvPr id="600" name=""/>
              <p:cNvSpPr/>
              <p:nvPr/>
            </p:nvSpPr>
            <p:spPr>
              <a:xfrm>
                <a:off x="4053240" y="148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22640" y="14079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839560" y="1496880"/>
              <a:ext cx="326880" cy="200520"/>
              <a:chOff x="5839560" y="1496880"/>
              <a:chExt cx="326880" cy="200520"/>
            </a:xfrm>
          </p:grpSpPr>
          <p:sp>
            <p:nvSpPr>
              <p:cNvPr id="603" name=""/>
              <p:cNvSpPr/>
              <p:nvPr/>
            </p:nvSpPr>
            <p:spPr>
              <a:xfrm>
                <a:off x="5868720" y="15858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39560" y="14968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85160" y="2233440"/>
              <a:ext cx="326880" cy="200520"/>
              <a:chOff x="785160" y="2233440"/>
              <a:chExt cx="326880" cy="2005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1063440" y="23223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85160" y="2233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089720" y="4672080"/>
              <a:ext cx="326880" cy="200520"/>
              <a:chOff x="1089720" y="4672080"/>
              <a:chExt cx="326880" cy="200520"/>
            </a:xfrm>
          </p:grpSpPr>
          <p:sp>
            <p:nvSpPr>
              <p:cNvPr id="609" name=""/>
              <p:cNvSpPr/>
              <p:nvPr/>
            </p:nvSpPr>
            <p:spPr>
              <a:xfrm>
                <a:off x="1118880" y="47610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089720" y="46720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251800" y="4437000"/>
              <a:ext cx="326880" cy="200520"/>
              <a:chOff x="2251800" y="4437000"/>
              <a:chExt cx="326880" cy="200520"/>
            </a:xfrm>
          </p:grpSpPr>
          <p:sp>
            <p:nvSpPr>
              <p:cNvPr id="612" name=""/>
              <p:cNvSpPr/>
              <p:nvPr/>
            </p:nvSpPr>
            <p:spPr>
              <a:xfrm>
                <a:off x="2280960" y="45259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51800" y="44370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248480" y="5510160"/>
              <a:ext cx="326880" cy="200520"/>
              <a:chOff x="1248480" y="5510160"/>
              <a:chExt cx="326880" cy="20052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1527480" y="559908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248480" y="5510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150440" y="5300640"/>
              <a:ext cx="326880" cy="200520"/>
              <a:chOff x="4150440" y="5300640"/>
              <a:chExt cx="326880" cy="20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4179600" y="53895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50440" y="53006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858640" y="4964040"/>
              <a:ext cx="326880" cy="200520"/>
              <a:chOff x="5858640" y="4964040"/>
              <a:chExt cx="326880" cy="200520"/>
            </a:xfrm>
          </p:grpSpPr>
          <p:sp>
            <p:nvSpPr>
              <p:cNvPr id="621" name=""/>
              <p:cNvSpPr/>
              <p:nvPr/>
            </p:nvSpPr>
            <p:spPr>
              <a:xfrm>
                <a:off x="5887800" y="505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58640" y="496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063840" y="6043680"/>
              <a:ext cx="326880" cy="200520"/>
              <a:chOff x="6063840" y="6043680"/>
              <a:chExt cx="326880" cy="2005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6343560" y="613260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063840" y="6043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455520" y="4081320"/>
              <a:ext cx="326880" cy="200520"/>
              <a:chOff x="6455520" y="4081320"/>
              <a:chExt cx="326880" cy="200520"/>
            </a:xfrm>
          </p:grpSpPr>
          <p:sp>
            <p:nvSpPr>
              <p:cNvPr id="627" name=""/>
              <p:cNvSpPr/>
              <p:nvPr/>
            </p:nvSpPr>
            <p:spPr>
              <a:xfrm>
                <a:off x="6484680" y="41702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5520" y="4081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7331760" y="3274920"/>
              <a:ext cx="326880" cy="200520"/>
              <a:chOff x="7331760" y="3274920"/>
              <a:chExt cx="326880" cy="200520"/>
            </a:xfrm>
          </p:grpSpPr>
          <p:sp>
            <p:nvSpPr>
              <p:cNvPr id="630" name=""/>
              <p:cNvSpPr/>
              <p:nvPr/>
            </p:nvSpPr>
            <p:spPr>
              <a:xfrm>
                <a:off x="7360920" y="3363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31760" y="3274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6341400" y="2678040"/>
              <a:ext cx="326880" cy="200520"/>
              <a:chOff x="6341400" y="2678040"/>
              <a:chExt cx="326880" cy="200520"/>
            </a:xfrm>
          </p:grpSpPr>
          <p:sp>
            <p:nvSpPr>
              <p:cNvPr id="633" name=""/>
              <p:cNvSpPr/>
              <p:nvPr/>
            </p:nvSpPr>
            <p:spPr>
              <a:xfrm>
                <a:off x="6370560" y="2766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41400" y="2678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649120" y="3929040"/>
              <a:ext cx="326880" cy="200520"/>
              <a:chOff x="5649120" y="3929040"/>
              <a:chExt cx="326880" cy="200520"/>
            </a:xfrm>
          </p:grpSpPr>
          <p:sp>
            <p:nvSpPr>
              <p:cNvPr id="636" name=""/>
              <p:cNvSpPr/>
              <p:nvPr/>
            </p:nvSpPr>
            <p:spPr>
              <a:xfrm>
                <a:off x="5678280" y="4017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49120" y="3929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131360" y="3382920"/>
              <a:ext cx="326880" cy="200520"/>
              <a:chOff x="4131360" y="3382920"/>
              <a:chExt cx="326880" cy="200520"/>
            </a:xfrm>
          </p:grpSpPr>
          <p:sp>
            <p:nvSpPr>
              <p:cNvPr id="639" name=""/>
              <p:cNvSpPr/>
              <p:nvPr/>
            </p:nvSpPr>
            <p:spPr>
              <a:xfrm>
                <a:off x="4160520" y="3471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131360" y="3382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471280" y="6138720"/>
              <a:ext cx="326880" cy="200520"/>
              <a:chOff x="5471280" y="6138720"/>
              <a:chExt cx="326880" cy="200520"/>
            </a:xfrm>
          </p:grpSpPr>
          <p:sp>
            <p:nvSpPr>
              <p:cNvPr id="642" name=""/>
              <p:cNvSpPr/>
              <p:nvPr/>
            </p:nvSpPr>
            <p:spPr>
              <a:xfrm>
                <a:off x="5500440" y="62276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71280" y="61387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 flipV="1" rot="11361000">
              <a:off x="4761720" y="13100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 rot="6891000">
              <a:off x="5857200" y="302832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5109200">
              <a:off x="5215680" y="87192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7291400">
              <a:off x="5665680" y="78084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967200" y="2919240"/>
              <a:ext cx="557280" cy="200520"/>
              <a:chOff x="3967200" y="2919240"/>
              <a:chExt cx="557280" cy="200520"/>
            </a:xfrm>
          </p:grpSpPr>
          <p:sp>
            <p:nvSpPr>
              <p:cNvPr id="649" name=""/>
              <p:cNvSpPr/>
              <p:nvPr/>
            </p:nvSpPr>
            <p:spPr>
              <a:xfrm>
                <a:off x="3996000" y="2993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67200" y="29192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666960" y="2811600"/>
              <a:ext cx="362160" cy="200520"/>
              <a:chOff x="3666960" y="2811600"/>
              <a:chExt cx="362160" cy="200520"/>
            </a:xfrm>
          </p:grpSpPr>
          <p:sp>
            <p:nvSpPr>
              <p:cNvPr id="652" name=""/>
              <p:cNvSpPr/>
              <p:nvPr/>
            </p:nvSpPr>
            <p:spPr>
              <a:xfrm>
                <a:off x="3697200" y="288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66960" y="281160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589280" y="2163600"/>
              <a:ext cx="464040" cy="200520"/>
              <a:chOff x="4589280" y="2163600"/>
              <a:chExt cx="464040" cy="200520"/>
            </a:xfrm>
          </p:grpSpPr>
          <p:sp>
            <p:nvSpPr>
              <p:cNvPr id="655" name=""/>
              <p:cNvSpPr/>
              <p:nvPr/>
            </p:nvSpPr>
            <p:spPr>
              <a:xfrm>
                <a:off x="4618080" y="2238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89280" y="216360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109120" y="1477800"/>
              <a:ext cx="390960" cy="200520"/>
              <a:chOff x="5109120" y="1477800"/>
              <a:chExt cx="390960" cy="200520"/>
            </a:xfrm>
          </p:grpSpPr>
          <p:sp>
            <p:nvSpPr>
              <p:cNvPr id="658" name=""/>
              <p:cNvSpPr/>
              <p:nvPr/>
            </p:nvSpPr>
            <p:spPr>
              <a:xfrm>
                <a:off x="5138640" y="1552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09120" y="147780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4689000" y="1465200"/>
              <a:ext cx="377280" cy="200520"/>
              <a:chOff x="4689000" y="1465200"/>
              <a:chExt cx="377280" cy="20052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4998600" y="1539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4689000" y="1465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098960" y="3033720"/>
              <a:ext cx="455040" cy="200520"/>
              <a:chOff x="4098960" y="3033720"/>
              <a:chExt cx="455040" cy="200520"/>
            </a:xfrm>
          </p:grpSpPr>
          <p:sp>
            <p:nvSpPr>
              <p:cNvPr id="664" name=""/>
              <p:cNvSpPr/>
              <p:nvPr/>
            </p:nvSpPr>
            <p:spPr>
              <a:xfrm>
                <a:off x="4129200" y="31082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98960" y="30337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18560" y="1452600"/>
              <a:ext cx="381960" cy="200520"/>
              <a:chOff x="6118560" y="1452600"/>
              <a:chExt cx="381960" cy="200520"/>
            </a:xfrm>
          </p:grpSpPr>
          <p:sp>
            <p:nvSpPr>
              <p:cNvPr id="667" name=""/>
              <p:cNvSpPr/>
              <p:nvPr/>
            </p:nvSpPr>
            <p:spPr>
              <a:xfrm>
                <a:off x="6148440" y="1527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18560" y="14526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669280" y="1401840"/>
              <a:ext cx="468720" cy="200520"/>
              <a:chOff x="5669280" y="1401840"/>
              <a:chExt cx="468720" cy="200520"/>
            </a:xfrm>
          </p:grpSpPr>
          <p:sp>
            <p:nvSpPr>
              <p:cNvPr id="670" name=""/>
              <p:cNvSpPr/>
              <p:nvPr/>
            </p:nvSpPr>
            <p:spPr>
              <a:xfrm>
                <a:off x="5697720" y="147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69280" y="140184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641560" y="1522440"/>
              <a:ext cx="377280" cy="200520"/>
              <a:chOff x="5641560" y="1522440"/>
              <a:chExt cx="377280" cy="200520"/>
            </a:xfrm>
          </p:grpSpPr>
          <p:sp>
            <p:nvSpPr>
              <p:cNvPr id="673" name=""/>
              <p:cNvSpPr/>
              <p:nvPr/>
            </p:nvSpPr>
            <p:spPr>
              <a:xfrm>
                <a:off x="5672520" y="1596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560" y="152244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760080" y="544680"/>
              <a:ext cx="406440" cy="200520"/>
              <a:chOff x="6760080" y="544680"/>
              <a:chExt cx="406440" cy="200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789600" y="619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60080" y="5446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735240" y="423720"/>
              <a:ext cx="577080" cy="200520"/>
              <a:chOff x="6735240" y="423720"/>
              <a:chExt cx="577080" cy="200520"/>
            </a:xfrm>
          </p:grpSpPr>
          <p:sp>
            <p:nvSpPr>
              <p:cNvPr id="679" name=""/>
              <p:cNvSpPr/>
              <p:nvPr/>
            </p:nvSpPr>
            <p:spPr>
              <a:xfrm>
                <a:off x="6764400" y="4982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35240" y="4237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933880" y="1623960"/>
              <a:ext cx="470160" cy="200520"/>
              <a:chOff x="5933880" y="1623960"/>
              <a:chExt cx="470160" cy="200520"/>
            </a:xfrm>
          </p:grpSpPr>
          <p:sp>
            <p:nvSpPr>
              <p:cNvPr id="682" name=""/>
              <p:cNvSpPr/>
              <p:nvPr/>
            </p:nvSpPr>
            <p:spPr>
              <a:xfrm>
                <a:off x="5964120" y="1698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33880" y="162396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 flipV="1" rot="11890800">
              <a:off x="6274080" y="14436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7153920" y="1262160"/>
              <a:ext cx="390960" cy="200520"/>
              <a:chOff x="7153920" y="1262160"/>
              <a:chExt cx="390960" cy="20052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1336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3920" y="126216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868440" y="1344600"/>
              <a:ext cx="420120" cy="200520"/>
              <a:chOff x="6868440" y="1344600"/>
              <a:chExt cx="420120" cy="200520"/>
            </a:xfrm>
          </p:grpSpPr>
          <p:sp>
            <p:nvSpPr>
              <p:cNvPr id="689" name=""/>
              <p:cNvSpPr/>
              <p:nvPr/>
            </p:nvSpPr>
            <p:spPr>
              <a:xfrm>
                <a:off x="6897960" y="141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868440" y="134460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7007400" y="754200"/>
              <a:ext cx="381960" cy="200520"/>
              <a:chOff x="7007400" y="754200"/>
              <a:chExt cx="381960" cy="200520"/>
            </a:xfrm>
          </p:grpSpPr>
          <p:sp>
            <p:nvSpPr>
              <p:cNvPr id="692" name=""/>
              <p:cNvSpPr/>
              <p:nvPr/>
            </p:nvSpPr>
            <p:spPr>
              <a:xfrm>
                <a:off x="7037640" y="828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07400" y="7542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613920" y="1967040"/>
              <a:ext cx="439920" cy="200520"/>
              <a:chOff x="6613920" y="1967040"/>
              <a:chExt cx="439920" cy="200520"/>
            </a:xfrm>
          </p:grpSpPr>
          <p:sp>
            <p:nvSpPr>
              <p:cNvPr id="695" name=""/>
              <p:cNvSpPr/>
              <p:nvPr/>
            </p:nvSpPr>
            <p:spPr>
              <a:xfrm>
                <a:off x="6643800" y="20415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613920" y="19670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6030720" y="2011320"/>
              <a:ext cx="596880" cy="200520"/>
              <a:chOff x="6030720" y="2011320"/>
              <a:chExt cx="596880" cy="20052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6562800" y="2085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030720" y="201132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562800" y="2055960"/>
              <a:ext cx="426240" cy="200520"/>
              <a:chOff x="6562800" y="2055960"/>
              <a:chExt cx="426240" cy="200520"/>
            </a:xfrm>
          </p:grpSpPr>
          <p:sp>
            <p:nvSpPr>
              <p:cNvPr id="701" name=""/>
              <p:cNvSpPr/>
              <p:nvPr/>
            </p:nvSpPr>
            <p:spPr>
              <a:xfrm>
                <a:off x="6592680" y="2130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62800" y="20559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754320" y="2468520"/>
              <a:ext cx="567720" cy="200520"/>
              <a:chOff x="6754320" y="2468520"/>
              <a:chExt cx="567720" cy="20052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3480" y="2543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54320" y="246852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913800" y="2093760"/>
              <a:ext cx="522000" cy="200520"/>
              <a:chOff x="6913800" y="2093760"/>
              <a:chExt cx="522000" cy="200520"/>
            </a:xfrm>
          </p:grpSpPr>
          <p:sp>
            <p:nvSpPr>
              <p:cNvPr id="707" name=""/>
              <p:cNvSpPr/>
              <p:nvPr/>
            </p:nvSpPr>
            <p:spPr>
              <a:xfrm>
                <a:off x="6942240" y="2168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913800" y="209376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6214680" y="3147840"/>
              <a:ext cx="429120" cy="200520"/>
              <a:chOff x="6214680" y="3147840"/>
              <a:chExt cx="429120" cy="200520"/>
            </a:xfrm>
          </p:grpSpPr>
          <p:sp>
            <p:nvSpPr>
              <p:cNvPr id="710" name=""/>
              <p:cNvSpPr/>
              <p:nvPr/>
            </p:nvSpPr>
            <p:spPr>
              <a:xfrm>
                <a:off x="6243840" y="3222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14680" y="314784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544800" y="2766960"/>
              <a:ext cx="513000" cy="200520"/>
              <a:chOff x="6544800" y="2766960"/>
              <a:chExt cx="513000" cy="200520"/>
            </a:xfrm>
          </p:grpSpPr>
          <p:sp>
            <p:nvSpPr>
              <p:cNvPr id="713" name=""/>
              <p:cNvSpPr/>
              <p:nvPr/>
            </p:nvSpPr>
            <p:spPr>
              <a:xfrm>
                <a:off x="6573960" y="2841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44800" y="276696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22960" y="2589120"/>
              <a:ext cx="424440" cy="200520"/>
              <a:chOff x="7122960" y="2589120"/>
              <a:chExt cx="424440" cy="200520"/>
            </a:xfrm>
          </p:grpSpPr>
          <p:sp>
            <p:nvSpPr>
              <p:cNvPr id="716" name=""/>
              <p:cNvSpPr/>
              <p:nvPr/>
            </p:nvSpPr>
            <p:spPr>
              <a:xfrm>
                <a:off x="7151760" y="266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22960" y="258912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550920" y="2894040"/>
              <a:ext cx="326880" cy="200520"/>
              <a:chOff x="6550920" y="2894040"/>
              <a:chExt cx="326880" cy="200520"/>
            </a:xfrm>
          </p:grpSpPr>
          <p:sp>
            <p:nvSpPr>
              <p:cNvPr id="719" name=""/>
              <p:cNvSpPr/>
              <p:nvPr/>
            </p:nvSpPr>
            <p:spPr>
              <a:xfrm>
                <a:off x="6580080" y="298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50920" y="289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 flipH="1" rot="1491000">
              <a:off x="6677640" y="297144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7884360" y="3567240"/>
              <a:ext cx="528120" cy="200520"/>
              <a:chOff x="7884360" y="3567240"/>
              <a:chExt cx="528120" cy="200520"/>
            </a:xfrm>
          </p:grpSpPr>
          <p:sp>
            <p:nvSpPr>
              <p:cNvPr id="723" name=""/>
              <p:cNvSpPr/>
              <p:nvPr/>
            </p:nvSpPr>
            <p:spPr>
              <a:xfrm>
                <a:off x="791388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884360" y="356724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007760" y="3497400"/>
              <a:ext cx="479520" cy="200520"/>
              <a:chOff x="7007760" y="3497400"/>
              <a:chExt cx="479520" cy="200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037640" y="35719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07760" y="349740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6772320" y="3268800"/>
              <a:ext cx="455040" cy="200520"/>
              <a:chOff x="6772320" y="3268800"/>
              <a:chExt cx="455040" cy="200520"/>
            </a:xfrm>
          </p:grpSpPr>
          <p:sp>
            <p:nvSpPr>
              <p:cNvPr id="729" name=""/>
              <p:cNvSpPr/>
              <p:nvPr/>
            </p:nvSpPr>
            <p:spPr>
              <a:xfrm>
                <a:off x="6802560" y="3343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72320" y="326880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7985520" y="3840120"/>
              <a:ext cx="552600" cy="200520"/>
              <a:chOff x="7985520" y="3840120"/>
              <a:chExt cx="552600" cy="200520"/>
            </a:xfrm>
          </p:grpSpPr>
          <p:sp>
            <p:nvSpPr>
              <p:cNvPr id="732" name=""/>
              <p:cNvSpPr/>
              <p:nvPr/>
            </p:nvSpPr>
            <p:spPr>
              <a:xfrm>
                <a:off x="8015400" y="3914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985520" y="384012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8023320" y="3954600"/>
              <a:ext cx="450360" cy="200520"/>
              <a:chOff x="8023320" y="3954600"/>
              <a:chExt cx="450360" cy="200520"/>
            </a:xfrm>
          </p:grpSpPr>
          <p:sp>
            <p:nvSpPr>
              <p:cNvPr id="735" name=""/>
              <p:cNvSpPr/>
              <p:nvPr/>
            </p:nvSpPr>
            <p:spPr>
              <a:xfrm>
                <a:off x="8053560" y="402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023320" y="395460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7708320" y="2989440"/>
              <a:ext cx="455040" cy="200520"/>
              <a:chOff x="7708320" y="2989440"/>
              <a:chExt cx="455040" cy="200520"/>
            </a:xfrm>
          </p:grpSpPr>
          <p:sp>
            <p:nvSpPr>
              <p:cNvPr id="738" name=""/>
              <p:cNvSpPr/>
              <p:nvPr/>
            </p:nvSpPr>
            <p:spPr>
              <a:xfrm>
                <a:off x="7737840" y="3063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08320" y="29894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8035560" y="6049800"/>
              <a:ext cx="543600" cy="200520"/>
              <a:chOff x="8035560" y="6049800"/>
              <a:chExt cx="543600" cy="200520"/>
            </a:xfrm>
          </p:grpSpPr>
          <p:sp>
            <p:nvSpPr>
              <p:cNvPr id="741" name=""/>
              <p:cNvSpPr/>
              <p:nvPr/>
            </p:nvSpPr>
            <p:spPr>
              <a:xfrm>
                <a:off x="8066520" y="6124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035560" y="604980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8278560" y="5199120"/>
              <a:ext cx="464040" cy="200520"/>
              <a:chOff x="8278560" y="5199120"/>
              <a:chExt cx="464040" cy="200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307360" y="527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78560" y="5199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8164440" y="4443480"/>
              <a:ext cx="552600" cy="200520"/>
              <a:chOff x="8164440" y="4443480"/>
              <a:chExt cx="552600" cy="200520"/>
            </a:xfrm>
          </p:grpSpPr>
          <p:sp>
            <p:nvSpPr>
              <p:cNvPr id="747" name=""/>
              <p:cNvSpPr/>
              <p:nvPr/>
            </p:nvSpPr>
            <p:spPr>
              <a:xfrm>
                <a:off x="8193240" y="4518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164440" y="444348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8051760" y="4164120"/>
              <a:ext cx="557280" cy="200520"/>
              <a:chOff x="8051760" y="4164120"/>
              <a:chExt cx="557280" cy="200520"/>
            </a:xfrm>
          </p:grpSpPr>
          <p:sp>
            <p:nvSpPr>
              <p:cNvPr id="750" name=""/>
              <p:cNvSpPr/>
              <p:nvPr/>
            </p:nvSpPr>
            <p:spPr>
              <a:xfrm>
                <a:off x="8080560" y="4238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51760" y="416412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872320" y="3554280"/>
              <a:ext cx="493200" cy="200520"/>
              <a:chOff x="5872320" y="3554280"/>
              <a:chExt cx="493200" cy="200520"/>
            </a:xfrm>
          </p:grpSpPr>
          <p:sp>
            <p:nvSpPr>
              <p:cNvPr id="753" name=""/>
              <p:cNvSpPr/>
              <p:nvPr/>
            </p:nvSpPr>
            <p:spPr>
              <a:xfrm>
                <a:off x="5900760" y="3628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72320" y="355428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337080" y="3560760"/>
              <a:ext cx="659160" cy="200520"/>
              <a:chOff x="6337080" y="3560760"/>
              <a:chExt cx="659160" cy="200520"/>
            </a:xfrm>
          </p:grpSpPr>
          <p:sp>
            <p:nvSpPr>
              <p:cNvPr id="756" name=""/>
              <p:cNvSpPr/>
              <p:nvPr/>
            </p:nvSpPr>
            <p:spPr>
              <a:xfrm>
                <a:off x="6364440" y="3635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337080" y="356076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917760" y="4576680"/>
              <a:ext cx="377280" cy="200520"/>
              <a:chOff x="6917760" y="4576680"/>
              <a:chExt cx="377280" cy="200520"/>
            </a:xfrm>
          </p:grpSpPr>
          <p:sp>
            <p:nvSpPr>
              <p:cNvPr id="759" name=""/>
              <p:cNvSpPr/>
              <p:nvPr/>
            </p:nvSpPr>
            <p:spPr>
              <a:xfrm>
                <a:off x="6948720" y="4651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17760" y="457668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7371360" y="4253040"/>
              <a:ext cx="625680" cy="200520"/>
              <a:chOff x="7371360" y="4253040"/>
              <a:chExt cx="625680" cy="200520"/>
            </a:xfrm>
          </p:grpSpPr>
          <p:sp>
            <p:nvSpPr>
              <p:cNvPr id="762" name=""/>
              <p:cNvSpPr/>
              <p:nvPr/>
            </p:nvSpPr>
            <p:spPr>
              <a:xfrm>
                <a:off x="7399440" y="43275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371360" y="42530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7705440" y="4830840"/>
              <a:ext cx="406440" cy="200520"/>
              <a:chOff x="7705440" y="4830840"/>
              <a:chExt cx="406440" cy="200520"/>
            </a:xfrm>
          </p:grpSpPr>
          <p:sp>
            <p:nvSpPr>
              <p:cNvPr id="765" name=""/>
              <p:cNvSpPr/>
              <p:nvPr/>
            </p:nvSpPr>
            <p:spPr>
              <a:xfrm>
                <a:off x="7736040" y="4905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05440" y="483084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6645960" y="4405320"/>
              <a:ext cx="439920" cy="200520"/>
              <a:chOff x="6645960" y="4405320"/>
              <a:chExt cx="439920" cy="200520"/>
            </a:xfrm>
          </p:grpSpPr>
          <p:sp>
            <p:nvSpPr>
              <p:cNvPr id="768" name=""/>
              <p:cNvSpPr/>
              <p:nvPr/>
            </p:nvSpPr>
            <p:spPr>
              <a:xfrm>
                <a:off x="6675480" y="447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45960" y="440532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474240" y="5992920"/>
              <a:ext cx="503640" cy="200520"/>
              <a:chOff x="6474240" y="5992920"/>
              <a:chExt cx="503640" cy="200520"/>
            </a:xfrm>
          </p:grpSpPr>
          <p:sp>
            <p:nvSpPr>
              <p:cNvPr id="771" name=""/>
              <p:cNvSpPr/>
              <p:nvPr/>
            </p:nvSpPr>
            <p:spPr>
              <a:xfrm>
                <a:off x="6504120" y="6067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74240" y="599292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7077240" y="5954760"/>
              <a:ext cx="426240" cy="200520"/>
              <a:chOff x="7077240" y="5954760"/>
              <a:chExt cx="426240" cy="200520"/>
            </a:xfrm>
          </p:grpSpPr>
          <p:sp>
            <p:nvSpPr>
              <p:cNvPr id="774" name=""/>
              <p:cNvSpPr/>
              <p:nvPr/>
            </p:nvSpPr>
            <p:spPr>
              <a:xfrm>
                <a:off x="7107120" y="6029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77240" y="59547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7464960" y="5846760"/>
              <a:ext cx="474840" cy="200520"/>
              <a:chOff x="7464960" y="5846760"/>
              <a:chExt cx="474840" cy="200520"/>
            </a:xfrm>
          </p:grpSpPr>
          <p:sp>
            <p:nvSpPr>
              <p:cNvPr id="777" name=""/>
              <p:cNvSpPr/>
              <p:nvPr/>
            </p:nvSpPr>
            <p:spPr>
              <a:xfrm>
                <a:off x="7494840" y="592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64960" y="584676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7421040" y="4881600"/>
              <a:ext cx="415440" cy="307080"/>
              <a:chOff x="7421040" y="4881600"/>
              <a:chExt cx="415440" cy="307080"/>
            </a:xfrm>
          </p:grpSpPr>
          <p:sp>
            <p:nvSpPr>
              <p:cNvPr id="780" name=""/>
              <p:cNvSpPr/>
              <p:nvPr/>
            </p:nvSpPr>
            <p:spPr>
              <a:xfrm>
                <a:off x="7450200" y="495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421040" y="488160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882760" y="5541840"/>
              <a:ext cx="465840" cy="200520"/>
              <a:chOff x="5882760" y="5541840"/>
              <a:chExt cx="465840" cy="200520"/>
            </a:xfrm>
          </p:grpSpPr>
          <p:sp>
            <p:nvSpPr>
              <p:cNvPr id="783" name=""/>
              <p:cNvSpPr/>
              <p:nvPr/>
            </p:nvSpPr>
            <p:spPr>
              <a:xfrm>
                <a:off x="5913720" y="561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82760" y="554184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298200" y="5275440"/>
              <a:ext cx="625680" cy="200520"/>
              <a:chOff x="6298200" y="5275440"/>
              <a:chExt cx="625680" cy="200520"/>
            </a:xfrm>
          </p:grpSpPr>
          <p:sp>
            <p:nvSpPr>
              <p:cNvPr id="786" name=""/>
              <p:cNvSpPr/>
              <p:nvPr/>
            </p:nvSpPr>
            <p:spPr>
              <a:xfrm>
                <a:off x="6326280" y="5349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98200" y="5275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035400" y="6310440"/>
              <a:ext cx="352800" cy="200520"/>
              <a:chOff x="6035400" y="6310440"/>
              <a:chExt cx="352800" cy="200520"/>
            </a:xfrm>
          </p:grpSpPr>
          <p:sp>
            <p:nvSpPr>
              <p:cNvPr id="789" name=""/>
              <p:cNvSpPr/>
              <p:nvPr/>
            </p:nvSpPr>
            <p:spPr>
              <a:xfrm>
                <a:off x="6066000" y="638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035400" y="631044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425120" y="5770440"/>
              <a:ext cx="625680" cy="200520"/>
              <a:chOff x="4425120" y="5770440"/>
              <a:chExt cx="625680" cy="200520"/>
            </a:xfrm>
          </p:grpSpPr>
          <p:sp>
            <p:nvSpPr>
              <p:cNvPr id="792" name=""/>
              <p:cNvSpPr/>
              <p:nvPr/>
            </p:nvSpPr>
            <p:spPr>
              <a:xfrm>
                <a:off x="4453200" y="584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25120" y="5770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058360" y="5618160"/>
              <a:ext cx="479520" cy="200520"/>
              <a:chOff x="5058360" y="5618160"/>
              <a:chExt cx="479520" cy="200520"/>
            </a:xfrm>
          </p:grpSpPr>
          <p:sp>
            <p:nvSpPr>
              <p:cNvPr id="795" name=""/>
              <p:cNvSpPr/>
              <p:nvPr/>
            </p:nvSpPr>
            <p:spPr>
              <a:xfrm>
                <a:off x="5088240" y="56926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58360" y="56181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5178600" y="5294160"/>
              <a:ext cx="543600" cy="200520"/>
              <a:chOff x="5178600" y="5294160"/>
              <a:chExt cx="543600" cy="200520"/>
            </a:xfrm>
          </p:grpSpPr>
          <p:sp>
            <p:nvSpPr>
              <p:cNvPr id="798" name=""/>
              <p:cNvSpPr/>
              <p:nvPr/>
            </p:nvSpPr>
            <p:spPr>
              <a:xfrm>
                <a:off x="5208480" y="5368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78600" y="529416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3057480" y="5472000"/>
              <a:ext cx="401760" cy="200520"/>
              <a:chOff x="3057480" y="5472000"/>
              <a:chExt cx="401760" cy="200520"/>
            </a:xfrm>
          </p:grpSpPr>
          <p:sp>
            <p:nvSpPr>
              <p:cNvPr id="801" name=""/>
              <p:cNvSpPr/>
              <p:nvPr/>
            </p:nvSpPr>
            <p:spPr>
              <a:xfrm>
                <a:off x="3087720" y="55465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57480" y="547200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284720" y="4468680"/>
              <a:ext cx="631800" cy="200520"/>
              <a:chOff x="4284720" y="4468680"/>
              <a:chExt cx="631800" cy="200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13520" y="4543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84720" y="446868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4690440" y="4970520"/>
              <a:ext cx="577080" cy="200520"/>
              <a:chOff x="4690440" y="4970520"/>
              <a:chExt cx="577080" cy="200520"/>
            </a:xfrm>
          </p:grpSpPr>
          <p:sp>
            <p:nvSpPr>
              <p:cNvPr id="807" name=""/>
              <p:cNvSpPr/>
              <p:nvPr/>
            </p:nvSpPr>
            <p:spPr>
              <a:xfrm>
                <a:off x="4719600" y="504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90440" y="49705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4893120" y="4741920"/>
              <a:ext cx="543600" cy="200520"/>
              <a:chOff x="4893120" y="4741920"/>
              <a:chExt cx="543600" cy="200520"/>
            </a:xfrm>
          </p:grpSpPr>
          <p:sp>
            <p:nvSpPr>
              <p:cNvPr id="810" name=""/>
              <p:cNvSpPr/>
              <p:nvPr/>
            </p:nvSpPr>
            <p:spPr>
              <a:xfrm>
                <a:off x="4923000" y="4816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93120" y="47419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 flipH="1" rot="5400000">
              <a:off x="7357320" y="64278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rot="4138200">
              <a:off x="7216560" y="64987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1787760" y="5478480"/>
              <a:ext cx="386640" cy="200520"/>
              <a:chOff x="1787760" y="5478480"/>
              <a:chExt cx="386640" cy="200520"/>
            </a:xfrm>
          </p:grpSpPr>
          <p:sp>
            <p:nvSpPr>
              <p:cNvPr id="815" name=""/>
              <p:cNvSpPr/>
              <p:nvPr/>
            </p:nvSpPr>
            <p:spPr>
              <a:xfrm>
                <a:off x="1818000" y="5553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787760" y="547848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2881800" y="3751200"/>
              <a:ext cx="473400" cy="200520"/>
              <a:chOff x="2881800" y="3751200"/>
              <a:chExt cx="473400" cy="200520"/>
            </a:xfrm>
          </p:grpSpPr>
          <p:sp>
            <p:nvSpPr>
              <p:cNvPr id="818" name=""/>
              <p:cNvSpPr/>
              <p:nvPr/>
            </p:nvSpPr>
            <p:spPr>
              <a:xfrm>
                <a:off x="2909880" y="38257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881800" y="375120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007080" y="4589640"/>
              <a:ext cx="426240" cy="200520"/>
              <a:chOff x="3007080" y="4589640"/>
              <a:chExt cx="426240" cy="200520"/>
            </a:xfrm>
          </p:grpSpPr>
          <p:sp>
            <p:nvSpPr>
              <p:cNvPr id="821" name=""/>
              <p:cNvSpPr/>
              <p:nvPr/>
            </p:nvSpPr>
            <p:spPr>
              <a:xfrm>
                <a:off x="3036960" y="46641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07080" y="458964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761560" y="5376960"/>
              <a:ext cx="526680" cy="200520"/>
              <a:chOff x="2761560" y="5376960"/>
              <a:chExt cx="526680" cy="200520"/>
            </a:xfrm>
          </p:grpSpPr>
          <p:sp>
            <p:nvSpPr>
              <p:cNvPr id="824" name=""/>
              <p:cNvSpPr/>
              <p:nvPr/>
            </p:nvSpPr>
            <p:spPr>
              <a:xfrm>
                <a:off x="2789280" y="5451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61560" y="537696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 rot="17461800">
              <a:off x="2611800" y="615024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677480" y="2360520"/>
              <a:ext cx="430560" cy="200520"/>
              <a:chOff x="4677480" y="2360520"/>
              <a:chExt cx="430560" cy="200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707000" y="243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77480" y="236052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546520" y="4030560"/>
              <a:ext cx="479520" cy="200520"/>
              <a:chOff x="5546520" y="4030560"/>
              <a:chExt cx="479520" cy="200520"/>
            </a:xfrm>
          </p:grpSpPr>
          <p:sp>
            <p:nvSpPr>
              <p:cNvPr id="831" name=""/>
              <p:cNvSpPr/>
              <p:nvPr/>
            </p:nvSpPr>
            <p:spPr>
              <a:xfrm>
                <a:off x="5577120" y="41050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46520" y="40305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614480" y="3973680"/>
              <a:ext cx="630360" cy="200520"/>
              <a:chOff x="4614480" y="3973680"/>
              <a:chExt cx="630360" cy="200520"/>
            </a:xfrm>
          </p:grpSpPr>
          <p:sp>
            <p:nvSpPr>
              <p:cNvPr id="834" name=""/>
              <p:cNvSpPr/>
              <p:nvPr/>
            </p:nvSpPr>
            <p:spPr>
              <a:xfrm flipH="1">
                <a:off x="5179320" y="4048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614120" y="397368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670280" y="3452760"/>
              <a:ext cx="357480" cy="200520"/>
              <a:chOff x="4670280" y="3452760"/>
              <a:chExt cx="357480" cy="200520"/>
            </a:xfrm>
          </p:grpSpPr>
          <p:sp>
            <p:nvSpPr>
              <p:cNvPr id="837" name=""/>
              <p:cNvSpPr/>
              <p:nvPr/>
            </p:nvSpPr>
            <p:spPr>
              <a:xfrm>
                <a:off x="4700520" y="3527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670280" y="345276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 flipH="1" rot="4531800">
              <a:off x="5105880" y="639828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17560" y="46245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9363800">
              <a:off x="3251160" y="534780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843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1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6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877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 / Long Gr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2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rId22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rId2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rId2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rId2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rId2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946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3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995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5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016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1027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1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5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0" name=""/>
          <p:cNvSpPr/>
          <p:nvPr/>
        </p:nvSpPr>
        <p:spPr>
          <a:xfrm>
            <a:off x="33480" y="355680"/>
            <a:ext cx="706320" cy="1860480"/>
          </a:xfrm>
          <a:custGeom>
            <a:avLst/>
            <a:gdLst/>
            <a:ahLst/>
            <a:rect l="l" t="t" r="r" b="b"/>
            <a:pathLst>
              <a:path w="445" h="1172">
                <a:moveTo>
                  <a:pt x="308" y="1172"/>
                </a:moveTo>
                <a:cubicBezTo>
                  <a:pt x="312" y="1140"/>
                  <a:pt x="316" y="1108"/>
                  <a:pt x="324" y="1072"/>
                </a:cubicBezTo>
                <a:cubicBezTo>
                  <a:pt x="332" y="1036"/>
                  <a:pt x="351" y="987"/>
                  <a:pt x="356" y="956"/>
                </a:cubicBezTo>
                <a:cubicBezTo>
                  <a:pt x="361" y="925"/>
                  <a:pt x="355" y="909"/>
                  <a:pt x="356" y="888"/>
                </a:cubicBezTo>
                <a:cubicBezTo>
                  <a:pt x="357" y="867"/>
                  <a:pt x="359" y="846"/>
                  <a:pt x="364" y="828"/>
                </a:cubicBezTo>
                <a:cubicBezTo>
                  <a:pt x="369" y="810"/>
                  <a:pt x="381" y="792"/>
                  <a:pt x="388" y="780"/>
                </a:cubicBezTo>
                <a:cubicBezTo>
                  <a:pt x="395" y="768"/>
                  <a:pt x="395" y="759"/>
                  <a:pt x="404" y="756"/>
                </a:cubicBezTo>
                <a:cubicBezTo>
                  <a:pt x="413" y="753"/>
                  <a:pt x="435" y="766"/>
                  <a:pt x="440" y="760"/>
                </a:cubicBezTo>
                <a:cubicBezTo>
                  <a:pt x="445" y="754"/>
                  <a:pt x="439" y="743"/>
                  <a:pt x="432" y="720"/>
                </a:cubicBezTo>
                <a:cubicBezTo>
                  <a:pt x="425" y="697"/>
                  <a:pt x="406" y="654"/>
                  <a:pt x="400" y="620"/>
                </a:cubicBezTo>
                <a:cubicBezTo>
                  <a:pt x="394" y="586"/>
                  <a:pt x="397" y="549"/>
                  <a:pt x="396" y="516"/>
                </a:cubicBezTo>
                <a:cubicBezTo>
                  <a:pt x="395" y="483"/>
                  <a:pt x="400" y="443"/>
                  <a:pt x="396" y="420"/>
                </a:cubicBezTo>
                <a:cubicBezTo>
                  <a:pt x="392" y="397"/>
                  <a:pt x="384" y="391"/>
                  <a:pt x="372" y="380"/>
                </a:cubicBezTo>
                <a:cubicBezTo>
                  <a:pt x="360" y="369"/>
                  <a:pt x="330" y="365"/>
                  <a:pt x="324" y="356"/>
                </a:cubicBezTo>
                <a:cubicBezTo>
                  <a:pt x="318" y="347"/>
                  <a:pt x="331" y="335"/>
                  <a:pt x="336" y="328"/>
                </a:cubicBezTo>
                <a:cubicBezTo>
                  <a:pt x="341" y="321"/>
                  <a:pt x="350" y="324"/>
                  <a:pt x="356" y="312"/>
                </a:cubicBezTo>
                <a:cubicBezTo>
                  <a:pt x="362" y="300"/>
                  <a:pt x="373" y="269"/>
                  <a:pt x="372" y="256"/>
                </a:cubicBezTo>
                <a:cubicBezTo>
                  <a:pt x="371" y="243"/>
                  <a:pt x="363" y="233"/>
                  <a:pt x="352" y="236"/>
                </a:cubicBezTo>
                <a:cubicBezTo>
                  <a:pt x="341" y="239"/>
                  <a:pt x="317" y="271"/>
                  <a:pt x="304" y="272"/>
                </a:cubicBezTo>
                <a:cubicBezTo>
                  <a:pt x="291" y="273"/>
                  <a:pt x="283" y="252"/>
                  <a:pt x="276" y="240"/>
                </a:cubicBezTo>
                <a:cubicBezTo>
                  <a:pt x="269" y="228"/>
                  <a:pt x="275" y="203"/>
                  <a:pt x="264" y="200"/>
                </a:cubicBezTo>
                <a:cubicBezTo>
                  <a:pt x="253" y="197"/>
                  <a:pt x="221" y="220"/>
                  <a:pt x="208" y="224"/>
                </a:cubicBezTo>
                <a:cubicBezTo>
                  <a:pt x="195" y="228"/>
                  <a:pt x="187" y="235"/>
                  <a:pt x="184" y="224"/>
                </a:cubicBezTo>
                <a:cubicBezTo>
                  <a:pt x="181" y="213"/>
                  <a:pt x="194" y="179"/>
                  <a:pt x="192" y="160"/>
                </a:cubicBezTo>
                <a:cubicBezTo>
                  <a:pt x="190" y="141"/>
                  <a:pt x="177" y="125"/>
                  <a:pt x="172" y="112"/>
                </a:cubicBezTo>
                <a:cubicBezTo>
                  <a:pt x="167" y="99"/>
                  <a:pt x="172" y="91"/>
                  <a:pt x="160" y="84"/>
                </a:cubicBezTo>
                <a:cubicBezTo>
                  <a:pt x="148" y="77"/>
                  <a:pt x="123" y="79"/>
                  <a:pt x="100" y="68"/>
                </a:cubicBezTo>
                <a:cubicBezTo>
                  <a:pt x="77" y="57"/>
                  <a:pt x="41" y="31"/>
                  <a:pt x="24" y="20"/>
                </a:cubicBezTo>
                <a:cubicBezTo>
                  <a:pt x="7" y="9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Al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rId16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1066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13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1165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1254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1266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1275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1278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1281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1284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6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1287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38040" y="131760"/>
            <a:ext cx="8689320" cy="6785280"/>
            <a:chOff x="338040" y="131760"/>
            <a:chExt cx="8689320" cy="6785280"/>
          </a:xfrm>
        </p:grpSpPr>
        <p:sp>
          <p:nvSpPr>
            <p:cNvPr id="1334" name=""/>
            <p:cNvSpPr/>
            <p:nvPr/>
          </p:nvSpPr>
          <p:spPr>
            <a:xfrm>
              <a:off x="6796080" y="551340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657960" y="6272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80120" y="37717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151320" y="3697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7336800" y="2160360"/>
              <a:ext cx="640800" cy="215640"/>
              <a:chOff x="7336800" y="2160360"/>
              <a:chExt cx="640800" cy="215640"/>
            </a:xfrm>
          </p:grpSpPr>
          <p:sp>
            <p:nvSpPr>
              <p:cNvPr id="1339" name=""/>
              <p:cNvSpPr/>
              <p:nvPr/>
            </p:nvSpPr>
            <p:spPr>
              <a:xfrm>
                <a:off x="7348680" y="22410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336800" y="216036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8256960" y="4592520"/>
              <a:ext cx="770400" cy="337320"/>
              <a:chOff x="8256960" y="4592520"/>
              <a:chExt cx="770400" cy="337320"/>
            </a:xfrm>
          </p:grpSpPr>
          <p:sp>
            <p:nvSpPr>
              <p:cNvPr id="1342" name=""/>
              <p:cNvSpPr/>
              <p:nvPr/>
            </p:nvSpPr>
            <p:spPr>
              <a:xfrm>
                <a:off x="8269560" y="4673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256960" y="45925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009840" y="4402080"/>
              <a:ext cx="418320" cy="215640"/>
              <a:chOff x="6009840" y="4402080"/>
              <a:chExt cx="418320" cy="215640"/>
            </a:xfrm>
          </p:grpSpPr>
          <p:sp>
            <p:nvSpPr>
              <p:cNvPr id="1345" name=""/>
              <p:cNvSpPr/>
              <p:nvPr/>
            </p:nvSpPr>
            <p:spPr>
              <a:xfrm>
                <a:off x="6021360" y="448272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09840" y="440208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7445160" y="2433600"/>
              <a:ext cx="619560" cy="215640"/>
              <a:chOff x="7445160" y="2433600"/>
              <a:chExt cx="619560" cy="215640"/>
            </a:xfrm>
          </p:grpSpPr>
          <p:sp>
            <p:nvSpPr>
              <p:cNvPr id="1348" name=""/>
              <p:cNvSpPr/>
              <p:nvPr/>
            </p:nvSpPr>
            <p:spPr>
              <a:xfrm>
                <a:off x="7456680" y="2514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45160" y="243360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2624760" y="3278160"/>
              <a:ext cx="637920" cy="215640"/>
              <a:chOff x="2624760" y="3278160"/>
              <a:chExt cx="637920" cy="215640"/>
            </a:xfrm>
          </p:grpSpPr>
          <p:sp>
            <p:nvSpPr>
              <p:cNvPr id="1351" name=""/>
              <p:cNvSpPr/>
              <p:nvPr/>
            </p:nvSpPr>
            <p:spPr>
              <a:xfrm>
                <a:off x="2637000" y="33588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624760" y="327816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1006920" y="495432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74840" y="350028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1160" y="250344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88440" y="251604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01800" y="149364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3960" y="369072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24880" y="405288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5600" y="2719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6200000">
              <a:off x="140400" y="48168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72120" y="990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759600" y="3614760"/>
              <a:ext cx="645480" cy="200520"/>
              <a:chOff x="759600" y="3614760"/>
              <a:chExt cx="645480" cy="200520"/>
            </a:xfrm>
          </p:grpSpPr>
          <p:sp>
            <p:nvSpPr>
              <p:cNvPr id="1364" name=""/>
              <p:cNvSpPr/>
              <p:nvPr/>
            </p:nvSpPr>
            <p:spPr>
              <a:xfrm>
                <a:off x="78912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59600" y="361476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29360" y="2744640"/>
              <a:ext cx="566280" cy="200520"/>
              <a:chOff x="729360" y="2744640"/>
              <a:chExt cx="566280" cy="200520"/>
            </a:xfrm>
          </p:grpSpPr>
          <p:sp>
            <p:nvSpPr>
              <p:cNvPr id="1367" name=""/>
              <p:cNvSpPr/>
              <p:nvPr/>
            </p:nvSpPr>
            <p:spPr>
              <a:xfrm flipH="1">
                <a:off x="1231200" y="2818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729000" y="274464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385360" y="2668320"/>
              <a:ext cx="326880" cy="200520"/>
              <a:chOff x="2385360" y="2668320"/>
              <a:chExt cx="326880" cy="200520"/>
            </a:xfrm>
          </p:grpSpPr>
          <p:sp>
            <p:nvSpPr>
              <p:cNvPr id="1370" name=""/>
              <p:cNvSpPr/>
              <p:nvPr/>
            </p:nvSpPr>
            <p:spPr>
              <a:xfrm>
                <a:off x="2414520" y="27572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85360" y="2668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595960" y="2166840"/>
              <a:ext cx="537480" cy="200520"/>
              <a:chOff x="2595960" y="2166840"/>
              <a:chExt cx="537480" cy="200520"/>
            </a:xfrm>
          </p:grpSpPr>
          <p:sp>
            <p:nvSpPr>
              <p:cNvPr id="1373" name=""/>
              <p:cNvSpPr/>
              <p:nvPr/>
            </p:nvSpPr>
            <p:spPr>
              <a:xfrm>
                <a:off x="2624400" y="22410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95960" y="216684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 rot="15639000">
              <a:off x="852840" y="248436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3310560" y="2052360"/>
              <a:ext cx="514440" cy="200520"/>
              <a:chOff x="3310560" y="2052360"/>
              <a:chExt cx="514440" cy="200520"/>
            </a:xfrm>
          </p:grpSpPr>
          <p:sp>
            <p:nvSpPr>
              <p:cNvPr id="1377" name=""/>
              <p:cNvSpPr/>
              <p:nvPr/>
            </p:nvSpPr>
            <p:spPr>
              <a:xfrm>
                <a:off x="3341520" y="2126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310560" y="205236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2842560" y="1461960"/>
              <a:ext cx="375840" cy="200520"/>
              <a:chOff x="2842560" y="1461960"/>
              <a:chExt cx="375840" cy="200520"/>
            </a:xfrm>
          </p:grpSpPr>
          <p:sp>
            <p:nvSpPr>
              <p:cNvPr id="1380" name=""/>
              <p:cNvSpPr/>
              <p:nvPr/>
            </p:nvSpPr>
            <p:spPr>
              <a:xfrm>
                <a:off x="2871720" y="1536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42560" y="146196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2773080" y="1658880"/>
              <a:ext cx="356040" cy="200520"/>
              <a:chOff x="2773080" y="1658880"/>
              <a:chExt cx="356040" cy="200520"/>
            </a:xfrm>
          </p:grpSpPr>
          <p:sp>
            <p:nvSpPr>
              <p:cNvPr id="1383" name=""/>
              <p:cNvSpPr/>
              <p:nvPr/>
            </p:nvSpPr>
            <p:spPr>
              <a:xfrm>
                <a:off x="2801880" y="17330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73080" y="165888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 rot="16200000">
              <a:off x="1989000" y="127440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7291400">
              <a:off x="2691720" y="100260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4251600" y="1887480"/>
              <a:ext cx="410760" cy="200520"/>
              <a:chOff x="4251600" y="1887480"/>
              <a:chExt cx="410760" cy="2005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281840" y="1961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51600" y="188748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4022640" y="1455480"/>
              <a:ext cx="406440" cy="200520"/>
              <a:chOff x="4022640" y="1455480"/>
              <a:chExt cx="406440" cy="200520"/>
            </a:xfrm>
          </p:grpSpPr>
          <p:sp>
            <p:nvSpPr>
              <p:cNvPr id="1391" name=""/>
              <p:cNvSpPr/>
              <p:nvPr/>
            </p:nvSpPr>
            <p:spPr>
              <a:xfrm>
                <a:off x="4053240" y="1530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022640" y="14554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839560" y="1544400"/>
              <a:ext cx="326880" cy="200520"/>
              <a:chOff x="5839560" y="1544400"/>
              <a:chExt cx="326880" cy="200520"/>
            </a:xfrm>
          </p:grpSpPr>
          <p:sp>
            <p:nvSpPr>
              <p:cNvPr id="1394" name=""/>
              <p:cNvSpPr/>
              <p:nvPr/>
            </p:nvSpPr>
            <p:spPr>
              <a:xfrm>
                <a:off x="5868720" y="16333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39560" y="154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785160" y="2280960"/>
              <a:ext cx="326880" cy="200520"/>
              <a:chOff x="785160" y="2280960"/>
              <a:chExt cx="326880" cy="20052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1063440" y="236988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785160" y="22809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1089720" y="4719600"/>
              <a:ext cx="326880" cy="200520"/>
              <a:chOff x="1089720" y="4719600"/>
              <a:chExt cx="326880" cy="200520"/>
            </a:xfrm>
          </p:grpSpPr>
          <p:sp>
            <p:nvSpPr>
              <p:cNvPr id="1400" name=""/>
              <p:cNvSpPr/>
              <p:nvPr/>
            </p:nvSpPr>
            <p:spPr>
              <a:xfrm>
                <a:off x="1118880" y="480816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089720" y="47196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2251800" y="4484520"/>
              <a:ext cx="326880" cy="200520"/>
              <a:chOff x="2251800" y="4484520"/>
              <a:chExt cx="326880" cy="200520"/>
            </a:xfrm>
          </p:grpSpPr>
          <p:sp>
            <p:nvSpPr>
              <p:cNvPr id="1403" name=""/>
              <p:cNvSpPr/>
              <p:nvPr/>
            </p:nvSpPr>
            <p:spPr>
              <a:xfrm>
                <a:off x="2280960" y="457308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251800" y="44845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1248480" y="5557680"/>
              <a:ext cx="326880" cy="200520"/>
              <a:chOff x="1248480" y="5557680"/>
              <a:chExt cx="326880" cy="200520"/>
            </a:xfrm>
          </p:grpSpPr>
          <p:sp>
            <p:nvSpPr>
              <p:cNvPr id="1406" name=""/>
              <p:cNvSpPr/>
              <p:nvPr/>
            </p:nvSpPr>
            <p:spPr>
              <a:xfrm flipH="1">
                <a:off x="1527480" y="564624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1248480" y="5557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4150440" y="5348160"/>
              <a:ext cx="326880" cy="200520"/>
              <a:chOff x="4150440" y="5348160"/>
              <a:chExt cx="326880" cy="200520"/>
            </a:xfrm>
          </p:grpSpPr>
          <p:sp>
            <p:nvSpPr>
              <p:cNvPr id="1409" name=""/>
              <p:cNvSpPr/>
              <p:nvPr/>
            </p:nvSpPr>
            <p:spPr>
              <a:xfrm>
                <a:off x="4179600" y="543672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150440" y="5348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5858640" y="5011560"/>
              <a:ext cx="326880" cy="200520"/>
              <a:chOff x="5858640" y="5011560"/>
              <a:chExt cx="326880" cy="200520"/>
            </a:xfrm>
          </p:grpSpPr>
          <p:sp>
            <p:nvSpPr>
              <p:cNvPr id="1412" name=""/>
              <p:cNvSpPr/>
              <p:nvPr/>
            </p:nvSpPr>
            <p:spPr>
              <a:xfrm>
                <a:off x="5887800" y="510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858640" y="501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6063840" y="6091200"/>
              <a:ext cx="326880" cy="200520"/>
              <a:chOff x="6063840" y="6091200"/>
              <a:chExt cx="326880" cy="200520"/>
            </a:xfrm>
          </p:grpSpPr>
          <p:sp>
            <p:nvSpPr>
              <p:cNvPr id="1415" name=""/>
              <p:cNvSpPr/>
              <p:nvPr/>
            </p:nvSpPr>
            <p:spPr>
              <a:xfrm flipH="1">
                <a:off x="6343560" y="617976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6063840" y="60912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6455520" y="4128840"/>
              <a:ext cx="326880" cy="200520"/>
              <a:chOff x="6455520" y="4128840"/>
              <a:chExt cx="326880" cy="200520"/>
            </a:xfrm>
          </p:grpSpPr>
          <p:sp>
            <p:nvSpPr>
              <p:cNvPr id="1418" name=""/>
              <p:cNvSpPr/>
              <p:nvPr/>
            </p:nvSpPr>
            <p:spPr>
              <a:xfrm>
                <a:off x="6484680" y="42177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55520" y="41288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7331760" y="3322440"/>
              <a:ext cx="326880" cy="200520"/>
              <a:chOff x="7331760" y="3322440"/>
              <a:chExt cx="326880" cy="200520"/>
            </a:xfrm>
          </p:grpSpPr>
          <p:sp>
            <p:nvSpPr>
              <p:cNvPr id="1421" name=""/>
              <p:cNvSpPr/>
              <p:nvPr/>
            </p:nvSpPr>
            <p:spPr>
              <a:xfrm>
                <a:off x="7360920" y="3411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31760" y="3322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6341400" y="2725560"/>
              <a:ext cx="326880" cy="200520"/>
              <a:chOff x="6341400" y="2725560"/>
              <a:chExt cx="326880" cy="200520"/>
            </a:xfrm>
          </p:grpSpPr>
          <p:sp>
            <p:nvSpPr>
              <p:cNvPr id="1424" name=""/>
              <p:cNvSpPr/>
              <p:nvPr/>
            </p:nvSpPr>
            <p:spPr>
              <a:xfrm>
                <a:off x="6370560" y="2814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41400" y="2725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5649120" y="3976560"/>
              <a:ext cx="326880" cy="200520"/>
              <a:chOff x="5649120" y="3976560"/>
              <a:chExt cx="326880" cy="200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5678280" y="4065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649120" y="3976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4131360" y="3430440"/>
              <a:ext cx="326880" cy="200520"/>
              <a:chOff x="4131360" y="3430440"/>
              <a:chExt cx="326880" cy="200520"/>
            </a:xfrm>
          </p:grpSpPr>
          <p:sp>
            <p:nvSpPr>
              <p:cNvPr id="1430" name=""/>
              <p:cNvSpPr/>
              <p:nvPr/>
            </p:nvSpPr>
            <p:spPr>
              <a:xfrm>
                <a:off x="4160520" y="3519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131360" y="3430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5471280" y="6186240"/>
              <a:ext cx="326880" cy="200520"/>
              <a:chOff x="5471280" y="6186240"/>
              <a:chExt cx="326880" cy="200520"/>
            </a:xfrm>
          </p:grpSpPr>
          <p:sp>
            <p:nvSpPr>
              <p:cNvPr id="1433" name=""/>
              <p:cNvSpPr/>
              <p:nvPr/>
            </p:nvSpPr>
            <p:spPr>
              <a:xfrm>
                <a:off x="5500440" y="62751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471280" y="61862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 flipV="1" rot="11361000">
              <a:off x="4761720" y="13568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 rot="6891000">
              <a:off x="5856840" y="307620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rot="15109200">
              <a:off x="5214960" y="91944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7291400">
              <a:off x="5665680" y="82872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967200" y="2966760"/>
              <a:ext cx="557280" cy="200520"/>
              <a:chOff x="3967200" y="2966760"/>
              <a:chExt cx="557280" cy="200520"/>
            </a:xfrm>
          </p:grpSpPr>
          <p:sp>
            <p:nvSpPr>
              <p:cNvPr id="1440" name=""/>
              <p:cNvSpPr/>
              <p:nvPr/>
            </p:nvSpPr>
            <p:spPr>
              <a:xfrm>
                <a:off x="3996000" y="304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967200" y="296676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3666960" y="2859120"/>
              <a:ext cx="362160" cy="200520"/>
              <a:chOff x="3666960" y="2859120"/>
              <a:chExt cx="362160" cy="200520"/>
            </a:xfrm>
          </p:grpSpPr>
          <p:sp>
            <p:nvSpPr>
              <p:cNvPr id="1443" name=""/>
              <p:cNvSpPr/>
              <p:nvPr/>
            </p:nvSpPr>
            <p:spPr>
              <a:xfrm>
                <a:off x="3697200" y="293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666960" y="285912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4589280" y="2211120"/>
              <a:ext cx="464040" cy="200520"/>
              <a:chOff x="4589280" y="2211120"/>
              <a:chExt cx="464040" cy="200520"/>
            </a:xfrm>
          </p:grpSpPr>
          <p:sp>
            <p:nvSpPr>
              <p:cNvPr id="1446" name=""/>
              <p:cNvSpPr/>
              <p:nvPr/>
            </p:nvSpPr>
            <p:spPr>
              <a:xfrm>
                <a:off x="4618080" y="2285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89280" y="2211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5109120" y="1525320"/>
              <a:ext cx="390960" cy="200520"/>
              <a:chOff x="5109120" y="1525320"/>
              <a:chExt cx="390960" cy="200520"/>
            </a:xfrm>
          </p:grpSpPr>
          <p:sp>
            <p:nvSpPr>
              <p:cNvPr id="1449" name=""/>
              <p:cNvSpPr/>
              <p:nvPr/>
            </p:nvSpPr>
            <p:spPr>
              <a:xfrm>
                <a:off x="5138640" y="159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09120" y="152532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4689000" y="1512720"/>
              <a:ext cx="377280" cy="200520"/>
              <a:chOff x="4689000" y="1512720"/>
              <a:chExt cx="377280" cy="200520"/>
            </a:xfrm>
          </p:grpSpPr>
          <p:sp>
            <p:nvSpPr>
              <p:cNvPr id="1452" name=""/>
              <p:cNvSpPr/>
              <p:nvPr/>
            </p:nvSpPr>
            <p:spPr>
              <a:xfrm flipH="1">
                <a:off x="4998600" y="1586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689000" y="151272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4098960" y="3081240"/>
              <a:ext cx="455040" cy="200520"/>
              <a:chOff x="4098960" y="3081240"/>
              <a:chExt cx="455040" cy="200520"/>
            </a:xfrm>
          </p:grpSpPr>
          <p:sp>
            <p:nvSpPr>
              <p:cNvPr id="1455" name=""/>
              <p:cNvSpPr/>
              <p:nvPr/>
            </p:nvSpPr>
            <p:spPr>
              <a:xfrm>
                <a:off x="4129200" y="31554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98960" y="30812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6118560" y="1500120"/>
              <a:ext cx="381960" cy="200520"/>
              <a:chOff x="6118560" y="1500120"/>
              <a:chExt cx="381960" cy="200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6148440" y="1574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118560" y="15001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5669280" y="1449360"/>
              <a:ext cx="468720" cy="200520"/>
              <a:chOff x="5669280" y="1449360"/>
              <a:chExt cx="468720" cy="200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5697720" y="1523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9280" y="144936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5641560" y="1569960"/>
              <a:ext cx="377280" cy="200520"/>
              <a:chOff x="5641560" y="1569960"/>
              <a:chExt cx="377280" cy="200520"/>
            </a:xfrm>
          </p:grpSpPr>
          <p:sp>
            <p:nvSpPr>
              <p:cNvPr id="1464" name=""/>
              <p:cNvSpPr/>
              <p:nvPr/>
            </p:nvSpPr>
            <p:spPr>
              <a:xfrm>
                <a:off x="5672520" y="1644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1560" y="156996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6760080" y="592200"/>
              <a:ext cx="406440" cy="200520"/>
              <a:chOff x="6760080" y="592200"/>
              <a:chExt cx="406440" cy="200520"/>
            </a:xfrm>
          </p:grpSpPr>
          <p:sp>
            <p:nvSpPr>
              <p:cNvPr id="1467" name=""/>
              <p:cNvSpPr/>
              <p:nvPr/>
            </p:nvSpPr>
            <p:spPr>
              <a:xfrm>
                <a:off x="6789600" y="66636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760080" y="59220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6735240" y="471240"/>
              <a:ext cx="577080" cy="200520"/>
              <a:chOff x="6735240" y="471240"/>
              <a:chExt cx="577080" cy="200520"/>
            </a:xfrm>
          </p:grpSpPr>
          <p:sp>
            <p:nvSpPr>
              <p:cNvPr id="1470" name=""/>
              <p:cNvSpPr/>
              <p:nvPr/>
            </p:nvSpPr>
            <p:spPr>
              <a:xfrm>
                <a:off x="6764400" y="5457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735240" y="4712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933880" y="1671480"/>
              <a:ext cx="470160" cy="200520"/>
              <a:chOff x="5933880" y="1671480"/>
              <a:chExt cx="470160" cy="200520"/>
            </a:xfrm>
          </p:grpSpPr>
          <p:sp>
            <p:nvSpPr>
              <p:cNvPr id="1473" name=""/>
              <p:cNvSpPr/>
              <p:nvPr/>
            </p:nvSpPr>
            <p:spPr>
              <a:xfrm>
                <a:off x="5964120" y="1745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933880" y="167148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 flipH="1" flipV="1" rot="11890800">
              <a:off x="6274080" y="19224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153920" y="1309680"/>
              <a:ext cx="390960" cy="200520"/>
              <a:chOff x="7153920" y="1309680"/>
              <a:chExt cx="390960" cy="200520"/>
            </a:xfrm>
          </p:grpSpPr>
          <p:sp>
            <p:nvSpPr>
              <p:cNvPr id="1477" name=""/>
              <p:cNvSpPr/>
              <p:nvPr/>
            </p:nvSpPr>
            <p:spPr>
              <a:xfrm>
                <a:off x="7183440" y="13838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153920" y="130968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6868440" y="1392120"/>
              <a:ext cx="420120" cy="200520"/>
              <a:chOff x="6868440" y="1392120"/>
              <a:chExt cx="420120" cy="200520"/>
            </a:xfrm>
          </p:grpSpPr>
          <p:sp>
            <p:nvSpPr>
              <p:cNvPr id="1480" name=""/>
              <p:cNvSpPr/>
              <p:nvPr/>
            </p:nvSpPr>
            <p:spPr>
              <a:xfrm>
                <a:off x="6897960" y="146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68440" y="13921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7007400" y="801720"/>
              <a:ext cx="381960" cy="200520"/>
              <a:chOff x="7007400" y="801720"/>
              <a:chExt cx="381960" cy="200520"/>
            </a:xfrm>
          </p:grpSpPr>
          <p:sp>
            <p:nvSpPr>
              <p:cNvPr id="1483" name=""/>
              <p:cNvSpPr/>
              <p:nvPr/>
            </p:nvSpPr>
            <p:spPr>
              <a:xfrm>
                <a:off x="7037640" y="875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007400" y="8017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6613920" y="2014560"/>
              <a:ext cx="439920" cy="200520"/>
              <a:chOff x="6613920" y="2014560"/>
              <a:chExt cx="439920" cy="200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6643800" y="20887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613920" y="201456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6030720" y="2058840"/>
              <a:ext cx="596880" cy="200520"/>
              <a:chOff x="6030720" y="2058840"/>
              <a:chExt cx="596880" cy="200520"/>
            </a:xfrm>
          </p:grpSpPr>
          <p:sp>
            <p:nvSpPr>
              <p:cNvPr id="1489" name=""/>
              <p:cNvSpPr/>
              <p:nvPr/>
            </p:nvSpPr>
            <p:spPr>
              <a:xfrm flipH="1">
                <a:off x="6562800" y="2133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6030720" y="205884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562800" y="2103480"/>
              <a:ext cx="426240" cy="200520"/>
              <a:chOff x="6562800" y="2103480"/>
              <a:chExt cx="426240" cy="200520"/>
            </a:xfrm>
          </p:grpSpPr>
          <p:sp>
            <p:nvSpPr>
              <p:cNvPr id="1492" name=""/>
              <p:cNvSpPr/>
              <p:nvPr/>
            </p:nvSpPr>
            <p:spPr>
              <a:xfrm>
                <a:off x="6592680" y="2177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62800" y="21034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6754320" y="2516040"/>
              <a:ext cx="567720" cy="200520"/>
              <a:chOff x="6754320" y="2516040"/>
              <a:chExt cx="567720" cy="200520"/>
            </a:xfrm>
          </p:grpSpPr>
          <p:sp>
            <p:nvSpPr>
              <p:cNvPr id="1495" name=""/>
              <p:cNvSpPr/>
              <p:nvPr/>
            </p:nvSpPr>
            <p:spPr>
              <a:xfrm>
                <a:off x="6783480" y="2590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754320" y="251604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6913800" y="2141280"/>
              <a:ext cx="522000" cy="200520"/>
              <a:chOff x="6913800" y="2141280"/>
              <a:chExt cx="522000" cy="200520"/>
            </a:xfrm>
          </p:grpSpPr>
          <p:sp>
            <p:nvSpPr>
              <p:cNvPr id="1498" name=""/>
              <p:cNvSpPr/>
              <p:nvPr/>
            </p:nvSpPr>
            <p:spPr>
              <a:xfrm>
                <a:off x="6942240" y="2215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913800" y="214128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6214680" y="3195360"/>
              <a:ext cx="429120" cy="200520"/>
              <a:chOff x="6214680" y="3195360"/>
              <a:chExt cx="429120" cy="200520"/>
            </a:xfrm>
          </p:grpSpPr>
          <p:sp>
            <p:nvSpPr>
              <p:cNvPr id="1501" name=""/>
              <p:cNvSpPr/>
              <p:nvPr/>
            </p:nvSpPr>
            <p:spPr>
              <a:xfrm>
                <a:off x="6243840" y="3269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14680" y="319536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6544800" y="2814480"/>
              <a:ext cx="513000" cy="200520"/>
              <a:chOff x="6544800" y="2814480"/>
              <a:chExt cx="513000" cy="200520"/>
            </a:xfrm>
          </p:grpSpPr>
          <p:sp>
            <p:nvSpPr>
              <p:cNvPr id="1504" name=""/>
              <p:cNvSpPr/>
              <p:nvPr/>
            </p:nvSpPr>
            <p:spPr>
              <a:xfrm>
                <a:off x="6573960" y="2888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544800" y="281448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7122960" y="2636640"/>
              <a:ext cx="424440" cy="200520"/>
              <a:chOff x="7122960" y="2636640"/>
              <a:chExt cx="424440" cy="200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7151760" y="271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122960" y="263664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6550920" y="2941560"/>
              <a:ext cx="326880" cy="200520"/>
              <a:chOff x="6550920" y="2941560"/>
              <a:chExt cx="326880" cy="200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6580080" y="303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550920" y="294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 flipH="1" rot="1491000">
              <a:off x="6677640" y="301896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7884360" y="3614760"/>
              <a:ext cx="528120" cy="200520"/>
              <a:chOff x="7884360" y="3614760"/>
              <a:chExt cx="528120" cy="2005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91388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884360" y="361476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7007760" y="3544920"/>
              <a:ext cx="479520" cy="200520"/>
              <a:chOff x="7007760" y="3544920"/>
              <a:chExt cx="479520" cy="200520"/>
            </a:xfrm>
          </p:grpSpPr>
          <p:sp>
            <p:nvSpPr>
              <p:cNvPr id="1517" name=""/>
              <p:cNvSpPr/>
              <p:nvPr/>
            </p:nvSpPr>
            <p:spPr>
              <a:xfrm>
                <a:off x="7037640" y="3619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07760" y="354492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6772320" y="3316320"/>
              <a:ext cx="455040" cy="200520"/>
              <a:chOff x="6772320" y="3316320"/>
              <a:chExt cx="455040" cy="200520"/>
            </a:xfrm>
          </p:grpSpPr>
          <p:sp>
            <p:nvSpPr>
              <p:cNvPr id="1520" name=""/>
              <p:cNvSpPr/>
              <p:nvPr/>
            </p:nvSpPr>
            <p:spPr>
              <a:xfrm>
                <a:off x="6802560" y="33904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772320" y="33163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7985520" y="3887640"/>
              <a:ext cx="552600" cy="200520"/>
              <a:chOff x="7985520" y="3887640"/>
              <a:chExt cx="552600" cy="200520"/>
            </a:xfrm>
          </p:grpSpPr>
          <p:sp>
            <p:nvSpPr>
              <p:cNvPr id="1523" name=""/>
              <p:cNvSpPr/>
              <p:nvPr/>
            </p:nvSpPr>
            <p:spPr>
              <a:xfrm>
                <a:off x="8015400" y="396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85520" y="388764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023320" y="4002120"/>
              <a:ext cx="450360" cy="200520"/>
              <a:chOff x="8023320" y="4002120"/>
              <a:chExt cx="450360" cy="200520"/>
            </a:xfrm>
          </p:grpSpPr>
          <p:sp>
            <p:nvSpPr>
              <p:cNvPr id="1526" name=""/>
              <p:cNvSpPr/>
              <p:nvPr/>
            </p:nvSpPr>
            <p:spPr>
              <a:xfrm>
                <a:off x="8053560" y="407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023320" y="400212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7708320" y="3036960"/>
              <a:ext cx="455040" cy="200520"/>
              <a:chOff x="7708320" y="3036960"/>
              <a:chExt cx="455040" cy="200520"/>
            </a:xfrm>
          </p:grpSpPr>
          <p:sp>
            <p:nvSpPr>
              <p:cNvPr id="1529" name=""/>
              <p:cNvSpPr/>
              <p:nvPr/>
            </p:nvSpPr>
            <p:spPr>
              <a:xfrm>
                <a:off x="7737840" y="3111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708320" y="303696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8035560" y="6097320"/>
              <a:ext cx="543600" cy="200520"/>
              <a:chOff x="8035560" y="6097320"/>
              <a:chExt cx="543600" cy="200520"/>
            </a:xfrm>
          </p:grpSpPr>
          <p:sp>
            <p:nvSpPr>
              <p:cNvPr id="1532" name=""/>
              <p:cNvSpPr/>
              <p:nvPr/>
            </p:nvSpPr>
            <p:spPr>
              <a:xfrm>
                <a:off x="8066520" y="6171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035560" y="60973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8278560" y="5246640"/>
              <a:ext cx="464040" cy="200520"/>
              <a:chOff x="8278560" y="5246640"/>
              <a:chExt cx="464040" cy="200520"/>
            </a:xfrm>
          </p:grpSpPr>
          <p:sp>
            <p:nvSpPr>
              <p:cNvPr id="1535" name=""/>
              <p:cNvSpPr/>
              <p:nvPr/>
            </p:nvSpPr>
            <p:spPr>
              <a:xfrm>
                <a:off x="8307360" y="532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278560" y="524664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8164440" y="4491000"/>
              <a:ext cx="552600" cy="200520"/>
              <a:chOff x="8164440" y="4491000"/>
              <a:chExt cx="552600" cy="200520"/>
            </a:xfrm>
          </p:grpSpPr>
          <p:sp>
            <p:nvSpPr>
              <p:cNvPr id="1538" name=""/>
              <p:cNvSpPr/>
              <p:nvPr/>
            </p:nvSpPr>
            <p:spPr>
              <a:xfrm>
                <a:off x="8193240" y="4565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164440" y="449100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051760" y="4211640"/>
              <a:ext cx="557280" cy="200520"/>
              <a:chOff x="8051760" y="4211640"/>
              <a:chExt cx="557280" cy="200520"/>
            </a:xfrm>
          </p:grpSpPr>
          <p:sp>
            <p:nvSpPr>
              <p:cNvPr id="1541" name=""/>
              <p:cNvSpPr/>
              <p:nvPr/>
            </p:nvSpPr>
            <p:spPr>
              <a:xfrm>
                <a:off x="8080560" y="4285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051760" y="42116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872320" y="3601800"/>
              <a:ext cx="493200" cy="200520"/>
              <a:chOff x="5872320" y="3601800"/>
              <a:chExt cx="493200" cy="200520"/>
            </a:xfrm>
          </p:grpSpPr>
          <p:sp>
            <p:nvSpPr>
              <p:cNvPr id="1544" name=""/>
              <p:cNvSpPr/>
              <p:nvPr/>
            </p:nvSpPr>
            <p:spPr>
              <a:xfrm>
                <a:off x="5900760" y="3676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72320" y="360180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6337080" y="3608280"/>
              <a:ext cx="659160" cy="200520"/>
              <a:chOff x="6337080" y="3608280"/>
              <a:chExt cx="659160" cy="200520"/>
            </a:xfrm>
          </p:grpSpPr>
          <p:sp>
            <p:nvSpPr>
              <p:cNvPr id="1547" name=""/>
              <p:cNvSpPr/>
              <p:nvPr/>
            </p:nvSpPr>
            <p:spPr>
              <a:xfrm>
                <a:off x="6364440" y="3682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37080" y="360828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6917760" y="4624200"/>
              <a:ext cx="377280" cy="200520"/>
              <a:chOff x="6917760" y="4624200"/>
              <a:chExt cx="377280" cy="200520"/>
            </a:xfrm>
          </p:grpSpPr>
          <p:sp>
            <p:nvSpPr>
              <p:cNvPr id="1550" name=""/>
              <p:cNvSpPr/>
              <p:nvPr/>
            </p:nvSpPr>
            <p:spPr>
              <a:xfrm>
                <a:off x="6948720" y="4698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17760" y="4624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7371360" y="4300560"/>
              <a:ext cx="625680" cy="200520"/>
              <a:chOff x="7371360" y="4300560"/>
              <a:chExt cx="625680" cy="200520"/>
            </a:xfrm>
          </p:grpSpPr>
          <p:sp>
            <p:nvSpPr>
              <p:cNvPr id="1553" name=""/>
              <p:cNvSpPr/>
              <p:nvPr/>
            </p:nvSpPr>
            <p:spPr>
              <a:xfrm>
                <a:off x="7399440" y="43747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371360" y="43005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7705440" y="4878360"/>
              <a:ext cx="406440" cy="200520"/>
              <a:chOff x="7705440" y="4878360"/>
              <a:chExt cx="406440" cy="200520"/>
            </a:xfrm>
          </p:grpSpPr>
          <p:sp>
            <p:nvSpPr>
              <p:cNvPr id="1556" name=""/>
              <p:cNvSpPr/>
              <p:nvPr/>
            </p:nvSpPr>
            <p:spPr>
              <a:xfrm>
                <a:off x="7736040" y="4952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705440" y="48783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6645960" y="4452840"/>
              <a:ext cx="439920" cy="200520"/>
              <a:chOff x="6645960" y="4452840"/>
              <a:chExt cx="439920" cy="200520"/>
            </a:xfrm>
          </p:grpSpPr>
          <p:sp>
            <p:nvSpPr>
              <p:cNvPr id="1559" name=""/>
              <p:cNvSpPr/>
              <p:nvPr/>
            </p:nvSpPr>
            <p:spPr>
              <a:xfrm>
                <a:off x="6675480" y="4527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645960" y="44528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6474240" y="6040440"/>
              <a:ext cx="503640" cy="200520"/>
              <a:chOff x="6474240" y="6040440"/>
              <a:chExt cx="503640" cy="2005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504120" y="6114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74240" y="604044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7077240" y="6002280"/>
              <a:ext cx="426240" cy="200520"/>
              <a:chOff x="7077240" y="6002280"/>
              <a:chExt cx="426240" cy="200520"/>
            </a:xfrm>
          </p:grpSpPr>
          <p:sp>
            <p:nvSpPr>
              <p:cNvPr id="1565" name=""/>
              <p:cNvSpPr/>
              <p:nvPr/>
            </p:nvSpPr>
            <p:spPr>
              <a:xfrm>
                <a:off x="7107120" y="6076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77240" y="60022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7464960" y="5894280"/>
              <a:ext cx="474840" cy="200520"/>
              <a:chOff x="7464960" y="5894280"/>
              <a:chExt cx="474840" cy="200520"/>
            </a:xfrm>
          </p:grpSpPr>
          <p:sp>
            <p:nvSpPr>
              <p:cNvPr id="1568" name=""/>
              <p:cNvSpPr/>
              <p:nvPr/>
            </p:nvSpPr>
            <p:spPr>
              <a:xfrm>
                <a:off x="7494840" y="5968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4960" y="589428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7421040" y="4929120"/>
              <a:ext cx="415440" cy="307080"/>
              <a:chOff x="7421040" y="4929120"/>
              <a:chExt cx="415440" cy="307080"/>
            </a:xfrm>
          </p:grpSpPr>
          <p:sp>
            <p:nvSpPr>
              <p:cNvPr id="1571" name=""/>
              <p:cNvSpPr/>
              <p:nvPr/>
            </p:nvSpPr>
            <p:spPr>
              <a:xfrm>
                <a:off x="7450200" y="500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421040" y="492912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5882760" y="5589360"/>
              <a:ext cx="465840" cy="200520"/>
              <a:chOff x="5882760" y="5589360"/>
              <a:chExt cx="465840" cy="200520"/>
            </a:xfrm>
          </p:grpSpPr>
          <p:sp>
            <p:nvSpPr>
              <p:cNvPr id="1574" name=""/>
              <p:cNvSpPr/>
              <p:nvPr/>
            </p:nvSpPr>
            <p:spPr>
              <a:xfrm>
                <a:off x="5913720" y="5663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82760" y="558936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6298200" y="5322960"/>
              <a:ext cx="625680" cy="200520"/>
              <a:chOff x="6298200" y="5322960"/>
              <a:chExt cx="625680" cy="200520"/>
            </a:xfrm>
          </p:grpSpPr>
          <p:sp>
            <p:nvSpPr>
              <p:cNvPr id="1577" name=""/>
              <p:cNvSpPr/>
              <p:nvPr/>
            </p:nvSpPr>
            <p:spPr>
              <a:xfrm>
                <a:off x="6326280" y="5397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298200" y="5322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6035400" y="6357960"/>
              <a:ext cx="352800" cy="200520"/>
              <a:chOff x="6035400" y="6357960"/>
              <a:chExt cx="352800" cy="200520"/>
            </a:xfrm>
          </p:grpSpPr>
          <p:sp>
            <p:nvSpPr>
              <p:cNvPr id="1580" name=""/>
              <p:cNvSpPr/>
              <p:nvPr/>
            </p:nvSpPr>
            <p:spPr>
              <a:xfrm>
                <a:off x="6066000" y="6432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035400" y="635796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4425120" y="5817960"/>
              <a:ext cx="625680" cy="200520"/>
              <a:chOff x="4425120" y="5817960"/>
              <a:chExt cx="625680" cy="200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4453200" y="589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425120" y="5817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058360" y="5665680"/>
              <a:ext cx="479520" cy="200520"/>
              <a:chOff x="5058360" y="5665680"/>
              <a:chExt cx="479520" cy="200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088240" y="57398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058360" y="56656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5178600" y="5341680"/>
              <a:ext cx="543600" cy="200520"/>
              <a:chOff x="5178600" y="5341680"/>
              <a:chExt cx="543600" cy="200520"/>
            </a:xfrm>
          </p:grpSpPr>
          <p:sp>
            <p:nvSpPr>
              <p:cNvPr id="1589" name=""/>
              <p:cNvSpPr/>
              <p:nvPr/>
            </p:nvSpPr>
            <p:spPr>
              <a:xfrm>
                <a:off x="5208480" y="5416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178600" y="534168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3057480" y="5519520"/>
              <a:ext cx="401760" cy="200520"/>
              <a:chOff x="3057480" y="5519520"/>
              <a:chExt cx="401760" cy="200520"/>
            </a:xfrm>
          </p:grpSpPr>
          <p:sp>
            <p:nvSpPr>
              <p:cNvPr id="1592" name=""/>
              <p:cNvSpPr/>
              <p:nvPr/>
            </p:nvSpPr>
            <p:spPr>
              <a:xfrm>
                <a:off x="3087720" y="5594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057480" y="5519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284720" y="4516200"/>
              <a:ext cx="631800" cy="200520"/>
              <a:chOff x="4284720" y="4516200"/>
              <a:chExt cx="631800" cy="200520"/>
            </a:xfrm>
          </p:grpSpPr>
          <p:sp>
            <p:nvSpPr>
              <p:cNvPr id="1595" name=""/>
              <p:cNvSpPr/>
              <p:nvPr/>
            </p:nvSpPr>
            <p:spPr>
              <a:xfrm>
                <a:off x="4313520" y="4590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284720" y="451620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690440" y="5018040"/>
              <a:ext cx="577080" cy="200520"/>
              <a:chOff x="4690440" y="5018040"/>
              <a:chExt cx="577080" cy="200520"/>
            </a:xfrm>
          </p:grpSpPr>
          <p:sp>
            <p:nvSpPr>
              <p:cNvPr id="1598" name=""/>
              <p:cNvSpPr/>
              <p:nvPr/>
            </p:nvSpPr>
            <p:spPr>
              <a:xfrm>
                <a:off x="4719600" y="509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690440" y="50180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4893120" y="4789440"/>
              <a:ext cx="543600" cy="200520"/>
              <a:chOff x="4893120" y="4789440"/>
              <a:chExt cx="543600" cy="200520"/>
            </a:xfrm>
          </p:grpSpPr>
          <p:sp>
            <p:nvSpPr>
              <p:cNvPr id="1601" name=""/>
              <p:cNvSpPr/>
              <p:nvPr/>
            </p:nvSpPr>
            <p:spPr>
              <a:xfrm>
                <a:off x="4923000" y="4863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3120" y="478944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 flipH="1" rot="5400000">
              <a:off x="7357320" y="64746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rot="4138200">
              <a:off x="7215480" y="654588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1787760" y="5526000"/>
              <a:ext cx="386640" cy="200520"/>
              <a:chOff x="1787760" y="5526000"/>
              <a:chExt cx="386640" cy="200520"/>
            </a:xfrm>
          </p:grpSpPr>
          <p:sp>
            <p:nvSpPr>
              <p:cNvPr id="1606" name=""/>
              <p:cNvSpPr/>
              <p:nvPr/>
            </p:nvSpPr>
            <p:spPr>
              <a:xfrm>
                <a:off x="1818000" y="5600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87760" y="552600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2881800" y="3798720"/>
              <a:ext cx="473400" cy="200520"/>
              <a:chOff x="2881800" y="3798720"/>
              <a:chExt cx="473400" cy="200520"/>
            </a:xfrm>
          </p:grpSpPr>
          <p:sp>
            <p:nvSpPr>
              <p:cNvPr id="1609" name=""/>
              <p:cNvSpPr/>
              <p:nvPr/>
            </p:nvSpPr>
            <p:spPr>
              <a:xfrm>
                <a:off x="2909880" y="38728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881800" y="3798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3007080" y="4637160"/>
              <a:ext cx="426240" cy="200520"/>
              <a:chOff x="3007080" y="4637160"/>
              <a:chExt cx="426240" cy="200520"/>
            </a:xfrm>
          </p:grpSpPr>
          <p:sp>
            <p:nvSpPr>
              <p:cNvPr id="1612" name=""/>
              <p:cNvSpPr/>
              <p:nvPr/>
            </p:nvSpPr>
            <p:spPr>
              <a:xfrm>
                <a:off x="3036960" y="47113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007080" y="46371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2761560" y="5424480"/>
              <a:ext cx="526680" cy="200520"/>
              <a:chOff x="2761560" y="5424480"/>
              <a:chExt cx="526680" cy="200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2789280" y="5498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61560" y="542448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 rot="17461800">
              <a:off x="2611800" y="61977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4677480" y="2408040"/>
              <a:ext cx="430560" cy="200520"/>
              <a:chOff x="4677480" y="2408040"/>
              <a:chExt cx="430560" cy="200520"/>
            </a:xfrm>
          </p:grpSpPr>
          <p:sp>
            <p:nvSpPr>
              <p:cNvPr id="1619" name=""/>
              <p:cNvSpPr/>
              <p:nvPr/>
            </p:nvSpPr>
            <p:spPr>
              <a:xfrm>
                <a:off x="4707000" y="248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677480" y="240804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546520" y="4078080"/>
              <a:ext cx="479520" cy="200520"/>
              <a:chOff x="5546520" y="4078080"/>
              <a:chExt cx="479520" cy="200520"/>
            </a:xfrm>
          </p:grpSpPr>
          <p:sp>
            <p:nvSpPr>
              <p:cNvPr id="1622" name=""/>
              <p:cNvSpPr/>
              <p:nvPr/>
            </p:nvSpPr>
            <p:spPr>
              <a:xfrm>
                <a:off x="5577120" y="41526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546520" y="40780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4614480" y="4021200"/>
              <a:ext cx="630360" cy="200520"/>
              <a:chOff x="4614480" y="4021200"/>
              <a:chExt cx="630360" cy="200520"/>
            </a:xfrm>
          </p:grpSpPr>
          <p:sp>
            <p:nvSpPr>
              <p:cNvPr id="1625" name=""/>
              <p:cNvSpPr/>
              <p:nvPr/>
            </p:nvSpPr>
            <p:spPr>
              <a:xfrm flipH="1">
                <a:off x="5179320" y="4095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4614120" y="402120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4670280" y="3500280"/>
              <a:ext cx="357480" cy="200520"/>
              <a:chOff x="4670280" y="3500280"/>
              <a:chExt cx="357480" cy="200520"/>
            </a:xfrm>
          </p:grpSpPr>
          <p:sp>
            <p:nvSpPr>
              <p:cNvPr id="1628" name=""/>
              <p:cNvSpPr/>
              <p:nvPr/>
            </p:nvSpPr>
            <p:spPr>
              <a:xfrm>
                <a:off x="4700520" y="3574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670280" y="350028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 flipH="1" rot="4531800">
              <a:off x="5105520" y="644616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17560" y="46720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9363800">
              <a:off x="3251520" y="539532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Patrick Beautement - 27 Jun 2002</dc:creator>
  <dc:description>30 Mar 2000 - Complete Lat / Long Grid
04 Apr 2000 - Correct Region Names
07 Apr 2000 - Add DARPA Logo and feedback
26 Jun 2002 - Back to real coastline
27 Jun 2002 - Add Arabello etc
20 Aug 2002 - more editing for v3-2
04 Sep 2002 - Distributed as part of v4-1
23 Oct 2002 - Distributed as part of v5-1
22 Nov 2002 - Final distribution - v5-2 (0950EST)
</dc:description>
  <dc:language>en-US</dc:language>
  <cp:lastModifiedBy>Patrick Beautement</cp:lastModifiedBy>
  <cp:lastPrinted>2002-08-20T14:01:40Z</cp:lastPrinted>
  <dcterms:modified xsi:type="dcterms:W3CDTF">2002-11-21T14:50:38Z</dcterms:modified>
  <cp:revision>191</cp:revision>
  <dc:subject>Coalition Presentation - Binni Maps</dc:subject>
  <dc:title>Coalition Agents eXperiment - The Coalition TIE</dc:title>
</cp:coreProperties>
</file>